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F8A35-D5E8-458F-B370-421D1626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77C80-CFE8-4E0D-ACEC-6F87A3F6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5D0E-2E93-4609-97E9-4F223D48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C198-436C-4816-8E00-D55B97F5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0216-3451-434A-A08C-EF3CE036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CA005-C298-4DF3-9AB3-E478068C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BC6B7-0C45-4DB2-8F9C-2E7D50BD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AEDCD-FC06-48FB-8D75-03D37248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7E7BF-A818-46F6-AE91-AC250F0F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CEA03-AEEE-4A16-ABAD-1772D24A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E85D-6FC5-425A-B0D9-608F0D23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8B66B-2A7A-436F-BACD-FDBB1D05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E9328973-F4F3-4FF4-81A6-3845C7ABE5B4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03480" y="6599160"/>
            <a:ext cx="1971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 - 6519.022.01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700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F6FB-805D-4155-BB29-9C50D5D0D701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069"/>
                </a:solidFill>
                <a:latin typeface="ITC Officina Sans Book"/>
              </a:rPr>
              <a:t>PCO for LTS</a:t>
            </a:r>
            <a:endParaRPr b="0" lang="en-US" sz="7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069"/>
                </a:solidFill>
                <a:latin typeface="ITC Officina Sans Book"/>
              </a:rPr>
              <a:t>filtering</a:t>
            </a:r>
            <a:endParaRPr b="0" lang="en-US" sz="4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ID: 6519.022.01.001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race filter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config string of form “TRACECLASS &lt;ClassMask&gt;” sent to an entity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example: “TRACECLASS FF” --&gt; MM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             “TRACECLASS 00”  --&gt; R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51814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49568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40384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61048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40384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40384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449568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781680" y="4876920"/>
            <a:ext cx="0" cy="30456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124080" y="487656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4648320"/>
            <a:ext cx="68580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464832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001000" y="48769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915400" y="48769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48769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5257800"/>
            <a:ext cx="990720" cy="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915400" y="52578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84880" y="1905120"/>
            <a:ext cx="2209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FUNC       0x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EVENT    0x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PRIM        0x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STATE     0x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SYSTEM  0x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ISIG          0x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ERROR     0x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72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020600"/>
            <a:ext cx="929628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rimitive filter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config string of form 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“{&lt;OrgDestination&gt;|ALL}[&lt;opc mask&gt;] &lt;AddDestination&gt;” 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nt to an entity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example: “DUPLICATE MM PCO” --&gt; RR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51814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449568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40384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1048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40384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40384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449568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781680" y="4876920"/>
            <a:ext cx="0" cy="30456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124080" y="487656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83908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2468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4680" y="5257800"/>
            <a:ext cx="914400" cy="0"/>
          </a:xfrm>
          <a:prstGeom prst="line">
            <a:avLst/>
          </a:prstGeom>
          <a:ln w="9360">
            <a:solidFill>
              <a:srgbClr val="3366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5334120"/>
            <a:ext cx="1676160" cy="0"/>
          </a:xfrm>
          <a:prstGeom prst="line">
            <a:avLst/>
          </a:prstGeom>
          <a:ln w="9360">
            <a:solidFill>
              <a:srgbClr val="3366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6292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648320"/>
            <a:ext cx="685800" cy="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648320"/>
            <a:ext cx="990360" cy="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153280" y="4876920"/>
            <a:ext cx="0" cy="304560"/>
          </a:xfrm>
          <a:prstGeom prst="line">
            <a:avLst/>
          </a:prstGeom>
          <a:ln w="9360">
            <a:solidFill>
              <a:srgbClr val="66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067680" y="4876920"/>
            <a:ext cx="0" cy="304560"/>
          </a:xfrm>
          <a:prstGeom prst="line">
            <a:avLst/>
          </a:prstGeom>
          <a:ln w="9360">
            <a:solidFill>
              <a:srgbClr val="66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53280" y="5410080"/>
            <a:ext cx="914400" cy="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Soft filter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17680" y="1143000"/>
            <a:ext cx="8594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dvantages of filtering on test system sid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filter on primitive structure level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filter on air-message level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294840" indent="-29484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ag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implementation on PCO-server or PCO-viewe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primitive level (sender, receiver, OPC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primitive structure level -&gt; CCDEdit need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air message level -&gt; CCDEdit and CCD need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3429000"/>
            <a:ext cx="175248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38098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429000"/>
            <a:ext cx="480060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3809880"/>
            <a:ext cx="1295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42670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4267080"/>
            <a:ext cx="91440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3809880"/>
            <a:ext cx="1066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4267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3809880"/>
            <a:ext cx="1067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</a:t>
            </a: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overview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19520" y="1020600"/>
            <a:ext cx="62928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ilters on board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oft filter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94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or communication with the outer world a dedicated entity is used: Testinterface (TST)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rial port configuration: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baudrate: 38400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flow control: non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data bits: 8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stop bits: 1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parity: non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data is send in blocks enclosured by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tartOfText-Byte (STX): 0x02 … send before any byte-block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LineFeed-Byte (LF): 0x0a … send after any byte-block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819520"/>
            <a:ext cx="2438280" cy="99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3276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2895480"/>
            <a:ext cx="106704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819520"/>
            <a:ext cx="1295280" cy="99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4343400"/>
            <a:ext cx="2438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X|data-block|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00440" y="3276720"/>
            <a:ext cx="22860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3276720"/>
            <a:ext cx="198108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200400"/>
            <a:ext cx="22860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447560"/>
            <a:ext cx="85946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t Condat we use the following block typ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race … a text string send by an entity to an outside test system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rimitive … a structure send from one entity to anothe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Air message … an encoded structure send within a primitive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oncerning PCO we distinguish between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CO message … a message send between PCO components (server,    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viewer, controller)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CO primitive … a data block coming from mobile -&gt; has to be 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interpreted by PCO components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72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rac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 and size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54100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724280"/>
            <a:ext cx="68580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42670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1048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2670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42670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472428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15328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891540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78168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81080"/>
            <a:ext cx="8915400" cy="129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1120" y="2054160"/>
          <a:ext cx="8615160" cy="12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054160"/>
                    <a:ext cx="8615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72200" y="365760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7320" y="1020600"/>
            <a:ext cx="89312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rimitiv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, size and opc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548640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480060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4343400"/>
            <a:ext cx="1066680" cy="838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4343400"/>
            <a:ext cx="6858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10480" y="4343400"/>
            <a:ext cx="6858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434340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65760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434340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480060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781680" y="518112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05740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1120" y="2139840"/>
          <a:ext cx="8615160" cy="12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139840"/>
                    <a:ext cx="86151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 flipV="1">
            <a:off x="7924680" y="518112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15400" y="518148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001000" y="5029200"/>
            <a:ext cx="838080" cy="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124080" y="5105520"/>
            <a:ext cx="4724640" cy="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124080" y="518112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72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320" y="1020600"/>
            <a:ext cx="89312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ir-messag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, size and opc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54100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42670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61048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2670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2670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981080"/>
            <a:ext cx="8915400" cy="129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924680" y="5105520"/>
            <a:ext cx="0" cy="3045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915400" y="5105520"/>
            <a:ext cx="0" cy="3045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2514600"/>
            <a:ext cx="160020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001000" y="4952880"/>
            <a:ext cx="838080" cy="0"/>
          </a:xfrm>
          <a:prstGeom prst="line">
            <a:avLst/>
          </a:prstGeom>
          <a:ln w="9360">
            <a:solidFill>
              <a:srgbClr val="3333cc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144000" y="3352680"/>
            <a:ext cx="533520" cy="11430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17480" y="2090880"/>
          <a:ext cx="8439120" cy="13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2090880"/>
                    <a:ext cx="84391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93726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CO messag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urrently implemented by Syst_prim using T_SYST_PRIM-struct from FRAME/TS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 and size are represented binary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-3052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CO primitiv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urrently same structure as PCO messag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for direct Testing with xPanel or TAP ok, since the testinterface reformats the incoming binary-blocks into a T_SYST_PRIM-structure 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for LTS this could be done by PCO-server but maybe with new structure (e.g. because of time stamp issues)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… </a:t>
            </a: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or the viewer would have to interpret PCO-primitives as binary-blocks itself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36232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6600" y="2511360"/>
          <a:ext cx="8842320" cy="122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2511360"/>
                    <a:ext cx="884232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762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dvantages of filtering on mobile already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raffic reduction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necessary to receive primitives/air-messages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ag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veral CONFIG-primitives (‘S’ as first header byte) are send to the mobile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19112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4200" y="4267080"/>
          <a:ext cx="8542080" cy="13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267080"/>
                    <a:ext cx="85420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1-02-21T09:43:32Z</cp:lastPrinted>
  <dcterms:modified xsi:type="dcterms:W3CDTF">2001-08-20T15:58:15Z</dcterms:modified>
  <cp:revision>222</cp:revision>
  <dc:subject/>
  <dc:title>xPanel &amp; PCO2</dc:title>
</cp:coreProperties>
</file>