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F963-9B6A-46B2-B7EC-89B585B2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D5FD6-C9D1-4613-A03A-086A4514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B1E0-21BD-441D-81D5-C15EE888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B9C1-0D40-43AD-82B8-87E64C62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C5EA-3DEE-4A1C-8FDF-1CAD513A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892F-5A4A-4B3A-BA2C-5A799511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EDFB-A075-437D-90A0-9A29FD09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7919-BA93-4D3C-B9E2-5663E068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EC9D6-5463-4FC6-8B5F-2037269B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BCFD7-AEEB-41EA-AAD1-C600DBDD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D2896-F0E8-4D03-A978-0078F06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A6FC-9FAA-43BF-9BDE-8EAD7A9F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DAA2111F-B289-438D-87E3-62346D9D1138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3480" y="6599160"/>
            <a:ext cx="197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 - 6519.022.01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EF83-E5A2-4FD5-A6D4-7117BDFA7F6E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endParaRPr b="0" lang="en-US" sz="7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filtering</a:t>
            </a: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ID: 6519.022.01.001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“TRACECLASS &lt;ClassMask&gt;” 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TRACECLASS FF” --&gt; MM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            “TRACECLASS 00”  --&gt; R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0100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915400" y="48769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52578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5400" y="52578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4880" y="1905120"/>
            <a:ext cx="2209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FUNC       0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VENT    0x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PRIM        0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TATE     0x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YSTEM  0x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ISIG          0x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RROR     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020600"/>
            <a:ext cx="92962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“{&lt;OrgDestination&gt;|ALL}[&lt;opc mask&gt;] &lt;AddDestination&gt;”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DUPLICATE MM PCO” --&gt; RR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390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5257800"/>
            <a:ext cx="91440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334120"/>
            <a:ext cx="167616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676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5410080"/>
            <a:ext cx="914400" cy="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7680" y="1143000"/>
            <a:ext cx="8594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test system sid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primitive structur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air-messag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mplementation on PCO-server or PCO-view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level (sender, receiver, OPC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structure level -&gt; CCDEdit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air message level -&gt; CCDEdit and CCD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429000"/>
            <a:ext cx="175248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8098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429000"/>
            <a:ext cx="480060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267080"/>
            <a:ext cx="91440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809880"/>
            <a:ext cx="1066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380988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1020600"/>
            <a:ext cx="62928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lters on board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94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r communication with the outer world a dedicated entity is used: Testinterface (TST)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rial port configuration: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baudrate: 38400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flow control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data bits: 8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stop bits: 1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parity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data is send in blocks enclosured b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OfText-Byte (STX): 0x02 … send before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LineFeed-Byte (LF): 0x0a … send after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819520"/>
            <a:ext cx="2438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95480"/>
            <a:ext cx="106704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819520"/>
            <a:ext cx="1295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2438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X|data-block|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327672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76720"/>
            <a:ext cx="1981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20040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447560"/>
            <a:ext cx="8594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t Condat we use the following block typ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ce … a text string send by an entity to an outside test system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rimitive … a structure send from one entity to anoth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Air message … an encoded structure send within a primitiv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cerning PCO we distinguish between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message … a message send between PCO components (server,   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viewer, controller)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primitive … a data block coming from mobile -&gt; has to be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nterpreted by PCO component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1532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91540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816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2054160"/>
          <a:ext cx="8615160" cy="12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54160"/>
                    <a:ext cx="8615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48640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480060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4343400"/>
            <a:ext cx="1066680" cy="838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34340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34340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80060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81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05740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1120" y="2139840"/>
          <a:ext cx="861516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39840"/>
                    <a:ext cx="86151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7924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15400" y="51814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001000" y="5029200"/>
            <a:ext cx="83808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124080" y="5105520"/>
            <a:ext cx="472464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124080" y="518112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ir-messag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92468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540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514600"/>
            <a:ext cx="1600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01000" y="495288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4000" y="3352680"/>
            <a:ext cx="533520" cy="11430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7480" y="2090880"/>
          <a:ext cx="8439120" cy="13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090880"/>
                    <a:ext cx="8439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messag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implemented by Syst_prim using T_SYST_PRIM-struct from FRAME/T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inar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primitiv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same structure as PCO messag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direct Testing with xPanel or TAP ok, since the testinterface reformats the incoming binary-blocks into a T_SYST_PRIM-structure 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LTS this could be done by PCO-server but maybe with new structure (e.g. because of time stamp issues)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or the viewer would have to interpret PCO-primitives as binary-blocks itself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23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6600" y="2511360"/>
          <a:ext cx="8842320" cy="122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8423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mobile already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ffic reduction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necessary to receive primitives/air-message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veral CONFIG-primitives (‘S’ as first header byte) are send to the mobil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911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4200" y="4267080"/>
          <a:ext cx="854208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542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1-02-21T09:43:32Z</cp:lastPrinted>
  <dcterms:modified xsi:type="dcterms:W3CDTF">2001-08-20T15:58:15Z</dcterms:modified>
  <cp:revision>222</cp:revision>
  <dc:subject/>
  <dc:title>xPanel &amp; PCO2</dc:title>
</cp:coreProperties>
</file>