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AE7-65E8-47D3-84D7-E5EEB1BE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F02-E8EB-4F0F-BCE1-DD67DA5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FFE-3B1A-4229-B529-56C0A10B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647-7CFB-4676-B6B4-E4814AE2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5DD-83AB-4DB1-B74C-56F4CF5E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7FD-DC78-4B0D-BD09-95222199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2EA3-B402-4470-963B-FC21D205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DA4-02F5-4112-A1A4-A2D3AD38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D8D-03BB-453A-BFE1-FA28E2C9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16C-39F5-448D-9CEF-7AD7E2FE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397-F5C6-4EBA-8A41-F406F30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28C-EE2A-4829-B9B7-55DC77E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D31B-F8FC-4679-9ED3-54880C9D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4479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16765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676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1905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905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819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971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3276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3434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34340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43434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41911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520" y="99072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990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"makefile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makefil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makefile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on’t panic ;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356000"/>
            <a:ext cx="53316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505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3429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86000" y="3276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080" y="342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-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448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816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31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36572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88080" y="32004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9840" y="54482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5308560"/>
            <a:ext cx="457200" cy="254160"/>
          </a:xfrm>
          <a:custGeom>
            <a:avLst/>
            <a:gdLst/>
            <a:ahLst/>
            <a:rect l="l" t="t" r="r" b="b"/>
            <a:pathLst>
              <a:path w="288" h="160">
                <a:moveTo>
                  <a:pt x="288" y="160"/>
                </a:moveTo>
                <a:cubicBezTo>
                  <a:pt x="264" y="96"/>
                  <a:pt x="240" y="32"/>
                  <a:pt x="192" y="16"/>
                </a:cubicBezTo>
                <a:cubicBezTo>
                  <a:pt x="144" y="0"/>
                  <a:pt x="72" y="32"/>
                  <a:pt x="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601992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05520"/>
            <a:ext cx="10670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5:03Z</dcterms:modified>
  <cp:revision>51</cp:revision>
  <dc:subject/>
  <dc:title>xPanel &amp; PCO2</dc:title>
</cp:coreProperties>
</file>