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5D06-7058-4C4D-8D74-40AFF7F06D78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64C8935C-046D-4FFF-AA11-7E96ED82640B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Automated Test Case Generation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6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run)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8006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2560" y="5867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89880" y="4648320"/>
            <a:ext cx="1006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762120"/>
            <a:ext cx="1218960" cy="259056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2286000"/>
            <a:ext cx="3657240" cy="1905120"/>
            <a:chOff x="3962520" y="2286000"/>
            <a:chExt cx="3657240" cy="1905120"/>
          </a:xfrm>
        </p:grpSpPr>
        <p:sp>
          <p:nvSpPr>
            <p:cNvPr id="278" name=""/>
            <p:cNvSpPr/>
            <p:nvPr/>
          </p:nvSpPr>
          <p:spPr>
            <a:xfrm>
              <a:off x="3962520" y="25909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57800" y="2743200"/>
              <a:ext cx="236196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4120" y="22860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696080" y="3657600"/>
            <a:ext cx="1295640" cy="2057400"/>
            <a:chOff x="7696080" y="3657600"/>
            <a:chExt cx="1295640" cy="2057400"/>
          </a:xfrm>
        </p:grpSpPr>
        <p:sp>
          <p:nvSpPr>
            <p:cNvPr id="282" name=""/>
            <p:cNvSpPr/>
            <p:nvPr/>
          </p:nvSpPr>
          <p:spPr>
            <a:xfrm>
              <a:off x="8153280" y="36576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dbg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7320" y="48006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080" y="5486400"/>
              <a:ext cx="38124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696080" y="4191120"/>
              <a:ext cx="457200" cy="7617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7619760" y="3352680"/>
            <a:ext cx="360360" cy="12956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376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657600" y="914400"/>
            <a:ext cx="3504600" cy="3733560"/>
            <a:chOff x="3657600" y="914400"/>
            <a:chExt cx="3504600" cy="3733560"/>
          </a:xfrm>
        </p:grpSpPr>
        <p:grpSp>
          <p:nvGrpSpPr>
            <p:cNvPr id="290" name=""/>
            <p:cNvGrpSpPr/>
            <p:nvPr/>
          </p:nvGrpSpPr>
          <p:grpSpPr>
            <a:xfrm>
              <a:off x="5486400" y="914400"/>
              <a:ext cx="1675800" cy="1219320"/>
              <a:chOff x="5486400" y="914400"/>
              <a:chExt cx="1675800" cy="1219320"/>
            </a:xfrm>
          </p:grpSpPr>
          <p:sp>
            <p:nvSpPr>
              <p:cNvPr id="291" name=""/>
              <p:cNvSpPr/>
              <p:nvPr/>
            </p:nvSpPr>
            <p:spPr>
              <a:xfrm>
                <a:off x="5486400" y="10670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64240" y="9144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657600" y="1600200"/>
              <a:ext cx="182880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781680" y="2133360"/>
              <a:ext cx="0" cy="251460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53720" y="33526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52280" y="3505320"/>
            <a:ext cx="1737000" cy="2209320"/>
            <a:chOff x="152280" y="3505320"/>
            <a:chExt cx="1737000" cy="2209320"/>
          </a:xfrm>
        </p:grpSpPr>
        <p:sp>
          <p:nvSpPr>
            <p:cNvPr id="297" name=""/>
            <p:cNvSpPr/>
            <p:nvPr/>
          </p:nvSpPr>
          <p:spPr>
            <a:xfrm>
              <a:off x="152280" y="3505320"/>
              <a:ext cx="173376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Times New Roman"/>
                </a:rPr>
                <a:t>(e.g. win32-exe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560" y="4872960"/>
              <a:ext cx="10717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523880" y="1371600"/>
            <a:ext cx="5148360" cy="4410360"/>
            <a:chOff x="1523880" y="1371600"/>
            <a:chExt cx="5148360" cy="4410360"/>
          </a:xfrm>
        </p:grpSpPr>
        <p:grpSp>
          <p:nvGrpSpPr>
            <p:cNvPr id="300" name=""/>
            <p:cNvGrpSpPr/>
            <p:nvPr/>
          </p:nvGrpSpPr>
          <p:grpSpPr>
            <a:xfrm>
              <a:off x="1905120" y="4191120"/>
              <a:ext cx="4767120" cy="1590840"/>
              <a:chOff x="1905120" y="4191120"/>
              <a:chExt cx="4767120" cy="1590840"/>
            </a:xfrm>
          </p:grpSpPr>
          <p:sp>
            <p:nvSpPr>
              <p:cNvPr id="301" name=""/>
              <p:cNvSpPr/>
              <p:nvPr/>
            </p:nvSpPr>
            <p:spPr>
              <a:xfrm>
                <a:off x="4275360" y="4268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05120" y="510552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2280" y="46972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86360" y="53830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05120" y="541008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67080" y="4191120"/>
                <a:ext cx="0" cy="60948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400" y="5334120"/>
                <a:ext cx="23288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02480" y="5307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3120" y="49370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523880" y="1371600"/>
              <a:ext cx="21448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59360" y="15397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752480"/>
              <a:ext cx="914400" cy="83844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228600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2952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is a PCO-logfile anyway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905120"/>
            <a:ext cx="7936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contains all traces and primitives received during a time period of a testsession (e.g. a field test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defined by starting/stopping logging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he format is binary but with linebreaks after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nd can be interpreted by PCO-server on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ny kind of PCO-viewer may request (portions of) 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for replaying or other 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2280" y="1294920"/>
            <a:ext cx="840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For more information se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estplatform_userguide.doc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dc\tdc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pco\pco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apcaller\tapcaller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... and many other documents in \gpf\DOC !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hy do we need another generator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urrent generators (like tdsgen) don‘t actually generat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but translate e.g. Word documents into TDS-fil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(and anyway TDS will not be used anymore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actual test case has to be written manual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requiring detailed knowledge of the expected behavior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th an automated generator taking the real and</a:t>
            </a:r>
            <a:br>
              <a:rPr sz="2400"/>
            </a:b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p-to-date primitive flow into accou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ew test cases could be easily crea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ggy behavior could be easily reproduc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57600" y="42670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Idea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age of the existing “tool chain”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38098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0384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5840" y="4191120"/>
            <a:ext cx="380880" cy="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0574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t eliminating manual behavior assump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67480" y="1752480"/>
            <a:ext cx="2010960" cy="1310760"/>
            <a:chOff x="5667480" y="1752480"/>
            <a:chExt cx="2010960" cy="1310760"/>
          </a:xfrm>
        </p:grpSpPr>
        <p:sp>
          <p:nvSpPr>
            <p:cNvPr id="334" name=""/>
            <p:cNvSpPr/>
            <p:nvPr/>
          </p:nvSpPr>
          <p:spPr>
            <a:xfrm>
              <a:off x="6113520" y="1752480"/>
              <a:ext cx="1125360" cy="78912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7480" y="2543040"/>
              <a:ext cx="201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rimitive / Message</a:t>
              </a:r>
              <a:br>
                <a:rPr sz="1400"/>
              </a:b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Constants and Struct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574800">
              <a:off x="6032880" y="205056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_grr_val.h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290840" y="3886200"/>
            <a:ext cx="1060920" cy="1305720"/>
            <a:chOff x="4290840" y="3886200"/>
            <a:chExt cx="1060920" cy="1305720"/>
          </a:xfrm>
        </p:grpSpPr>
        <p:sp>
          <p:nvSpPr>
            <p:cNvPr id="338" name=""/>
            <p:cNvSpPr/>
            <p:nvPr/>
          </p:nvSpPr>
          <p:spPr>
            <a:xfrm>
              <a:off x="437652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500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574800">
              <a:off x="429156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86400" y="3100320"/>
            <a:ext cx="1562040" cy="1931040"/>
            <a:chOff x="5486400" y="3100320"/>
            <a:chExt cx="1562040" cy="1931040"/>
          </a:xfrm>
        </p:grpSpPr>
        <p:grpSp>
          <p:nvGrpSpPr>
            <p:cNvPr id="342" name=""/>
            <p:cNvGrpSpPr/>
            <p:nvPr/>
          </p:nvGrpSpPr>
          <p:grpSpPr>
            <a:xfrm>
              <a:off x="6020280" y="3898800"/>
              <a:ext cx="1028160" cy="1132560"/>
              <a:chOff x="6020280" y="3898800"/>
              <a:chExt cx="1028160" cy="1132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75440" y="3898800"/>
                <a:ext cx="726120" cy="602280"/>
                <a:chOff x="6175440" y="3898800"/>
                <a:chExt cx="726120" cy="602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48108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1372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0604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6328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9132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328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9528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7964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8452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45048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8348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7544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23448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6288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3448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6684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4688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5356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5444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3536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36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2204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0202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48640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788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2895480"/>
            <a:ext cx="3657600" cy="3124440"/>
            <a:chOff x="685800" y="2895480"/>
            <a:chExt cx="3657600" cy="3124440"/>
          </a:xfrm>
        </p:grpSpPr>
        <p:grpSp>
          <p:nvGrpSpPr>
            <p:cNvPr id="370" name=""/>
            <p:cNvGrpSpPr/>
            <p:nvPr/>
          </p:nvGrpSpPr>
          <p:grpSpPr>
            <a:xfrm>
              <a:off x="685800" y="2895480"/>
              <a:ext cx="3657600" cy="3124440"/>
              <a:chOff x="685800" y="2895480"/>
              <a:chExt cx="3657600" cy="31244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5800" y="5105520"/>
                <a:ext cx="1244160" cy="914400"/>
                <a:chOff x="685800" y="5105520"/>
                <a:chExt cx="1244160" cy="9144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051920" y="5105520"/>
                  <a:ext cx="878040" cy="914400"/>
                </a:xfrm>
                <a:prstGeom prst="rect">
                  <a:avLst/>
                </a:prstGeom>
                <a:solidFill>
                  <a:srgbClr val="b2b2b2">
                    <a:alpha val="50000"/>
                  </a:srgbClr>
                </a:solidFill>
                <a:ln w="7632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PCO </a:t>
                  </a:r>
                  <a:br>
                    <a:rPr sz="2000"/>
                  </a:b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logfile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5800" y="5791320"/>
                  <a:ext cx="366120" cy="0"/>
                </a:xfrm>
                <a:prstGeom prst="line">
                  <a:avLst/>
                </a:prstGeom>
                <a:ln w="76320">
                  <a:solidFill>
                    <a:srgbClr val="00306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990720" y="2895480"/>
                <a:ext cx="3352680" cy="198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2663640" y="4572000"/>
                <a:ext cx="992880" cy="938520"/>
                <a:chOff x="2663640" y="4572000"/>
                <a:chExt cx="992880" cy="938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2800440" y="4572000"/>
                  <a:ext cx="726480" cy="601560"/>
                  <a:chOff x="2800440" y="4572000"/>
                  <a:chExt cx="726480" cy="601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3106440" y="4590720"/>
                    <a:ext cx="150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439080" y="482508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831040" y="4825080"/>
                    <a:ext cx="85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888280" y="4656600"/>
                    <a:ext cx="149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16680" y="4659120"/>
                    <a:ext cx="1508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88280" y="4988520"/>
                    <a:ext cx="1490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320640" y="4986360"/>
                    <a:ext cx="1468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104640" y="5103360"/>
                    <a:ext cx="14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909520" y="4659120"/>
                    <a:ext cx="529200" cy="443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75480" y="4572000"/>
                    <a:ext cx="14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08480" y="4803120"/>
                    <a:ext cx="8964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800440" y="480132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859840" y="4635360"/>
                    <a:ext cx="1472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288240" y="4635360"/>
                    <a:ext cx="1468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859840" y="4967280"/>
                    <a:ext cx="15120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91840" y="4962960"/>
                    <a:ext cx="146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072240" y="5077800"/>
                    <a:ext cx="146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878920" y="4639680"/>
                    <a:ext cx="531360" cy="444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079440" y="480312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060360" y="478656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060360" y="4786560"/>
                    <a:ext cx="206280" cy="1720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047040" y="4773960"/>
                    <a:ext cx="191160" cy="161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2663640" y="5111640"/>
                  <a:ext cx="99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069"/>
                      </a:solidFill>
                      <a:latin typeface="ITC Officina Sans Book"/>
                    </a:rPr>
                    <a:t>TCGen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057400" y="5028840"/>
                <a:ext cx="762120" cy="43668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581280" y="4191120"/>
                <a:ext cx="762120" cy="45720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V="1">
              <a:off x="3657600" y="4419720"/>
              <a:ext cx="685800" cy="38088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914400"/>
            <a:ext cx="614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t first we need a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947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609480" y="838080"/>
            <a:ext cx="6553440" cy="3276720"/>
            <a:chOff x="609480" y="838080"/>
            <a:chExt cx="6553440" cy="3276720"/>
          </a:xfrm>
        </p:grpSpPr>
        <p:sp>
          <p:nvSpPr>
            <p:cNvPr id="409" name=""/>
            <p:cNvSpPr/>
            <p:nvPr/>
          </p:nvSpPr>
          <p:spPr>
            <a:xfrm>
              <a:off x="609480" y="838080"/>
              <a:ext cx="6143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marL="198720" indent="-1987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request duplication of primitives out of PS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currently manually, upcoming ccddata features will enable more comfortable selecting – „Matrix Reloaded“ :-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2057400"/>
              <a:ext cx="838440" cy="20574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1523520"/>
            <a:ext cx="6400800" cy="914400"/>
            <a:chOff x="609480" y="1523520"/>
            <a:chExt cx="6400800" cy="914400"/>
          </a:xfrm>
        </p:grpSpPr>
        <p:sp>
          <p:nvSpPr>
            <p:cNvPr id="412" name=""/>
            <p:cNvSpPr/>
            <p:nvPr/>
          </p:nvSpPr>
          <p:spPr>
            <a:xfrm flipV="1">
              <a:off x="6019920" y="1523520"/>
              <a:ext cx="990360" cy="66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80" y="2022480"/>
              <a:ext cx="6067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nd start logging into a specified .pco-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9480" y="2400480"/>
            <a:ext cx="6143760" cy="3763800"/>
            <a:chOff x="609480" y="2400480"/>
            <a:chExt cx="6143760" cy="376380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990720" y="2997360"/>
              <a:ext cx="50292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9480" y="2400480"/>
              <a:ext cx="614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ptionally watch arriving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2743200"/>
              <a:ext cx="76320" cy="13716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1960" y="990720"/>
            <a:ext cx="78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we use TCGen with the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447920"/>
            <a:ext cx="7619760" cy="504720"/>
            <a:chOff x="762120" y="1447920"/>
            <a:chExt cx="7619760" cy="504720"/>
          </a:xfrm>
        </p:grpSpPr>
        <p:sp>
          <p:nvSpPr>
            <p:cNvPr id="421" name=""/>
            <p:cNvSpPr/>
            <p:nvPr/>
          </p:nvSpPr>
          <p:spPr>
            <a:xfrm>
              <a:off x="762120" y="1447920"/>
              <a:ext cx="6248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rt the PCO-server (if not already running)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934320" y="1447920"/>
              <a:ext cx="1447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/>
          <p:nvPr/>
        </p:nvSpPr>
        <p:spPr>
          <a:xfrm>
            <a:off x="774720" y="4673520"/>
            <a:ext cx="78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490320" indent="-1886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tl. inspect the generated files in the VisualStudio</a:t>
            </a:r>
            <a:br>
              <a:rPr sz="2000"/>
            </a:b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(if the project already contained cases the new stuff will be merged at the beginning of all file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880" y="1905120"/>
            <a:ext cx="8458200" cy="1039680"/>
            <a:chOff x="380880" y="1905120"/>
            <a:chExt cx="8458200" cy="1039680"/>
          </a:xfrm>
        </p:grpSpPr>
        <p:sp>
          <p:nvSpPr>
            <p:cNvPr id="425" name=""/>
            <p:cNvSpPr/>
            <p:nvPr/>
          </p:nvSpPr>
          <p:spPr>
            <a:xfrm>
              <a:off x="762120" y="190512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all TCGen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45820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380880" y="2971800"/>
            <a:ext cx="8534520" cy="1752480"/>
            <a:chOff x="380880" y="2971800"/>
            <a:chExt cx="8534520" cy="1752480"/>
          </a:xfrm>
        </p:grpSpPr>
        <p:sp>
          <p:nvSpPr>
            <p:cNvPr id="428" name=""/>
            <p:cNvSpPr/>
            <p:nvPr/>
          </p:nvSpPr>
          <p:spPr>
            <a:xfrm>
              <a:off x="765000" y="2971800"/>
              <a:ext cx="7820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lvl="1" marL="490320" indent="-188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k, call it with appropriate parameters </a:t>
              </a:r>
              <a:r>
                <a:rPr b="0" lang="en-US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library paths and more parameters are taken from the tcgen.ini fil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3"/>
            <a:stretch/>
          </p:blipFill>
          <p:spPr>
            <a:xfrm>
              <a:off x="380880" y="3591000"/>
              <a:ext cx="8534520" cy="11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609480" y="5435640"/>
            <a:ext cx="8001000" cy="855720"/>
            <a:chOff x="609480" y="5435640"/>
            <a:chExt cx="8001000" cy="85572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609480" y="5892840"/>
              <a:ext cx="800100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62120" y="543564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r just 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uild the testcase DLL from command line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 look at the result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477120" cy="422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162400" y="914400"/>
            <a:ext cx="3219480" cy="135576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37120" cy="1103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3863880" cy="3092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ow what to do with it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352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you might edit the TDC files and adapt them to your special need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change „online parameters“ like IMSI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43434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unfortunately manually by using the VisualStudio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due to the lack of a dedicated „test case editor“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1814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of course the beloved perl scripts can do nice work, too </a:t>
            </a:r>
            <a:r>
              <a:rPr b="0" lang="de-DE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5627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n rebuild the test case and use TAP ag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914400"/>
            <a:ext cx="8382240" cy="2182680"/>
            <a:chOff x="609480" y="914400"/>
            <a:chExt cx="8382240" cy="2182680"/>
          </a:xfrm>
        </p:grpSpPr>
        <p:sp>
          <p:nvSpPr>
            <p:cNvPr id="446" name=""/>
            <p:cNvSpPr/>
            <p:nvPr/>
          </p:nvSpPr>
          <p:spPr>
            <a:xfrm>
              <a:off x="609480" y="1600200"/>
              <a:ext cx="4343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you might use TAP and run the fresh test case with a Windows-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343400" cy="21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CGen is implemented as a PCO-Viewer …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600200"/>
            <a:ext cx="793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by internally deriving from viewer core C++ class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ich enables it to easily request all primitives from a specified PCO-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s often as it wants t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3352680"/>
            <a:ext cx="7935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In a first pass ...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necessary routings are generated in TD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using information about the primitive sender and 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and the SAP name, currently taken from primitive n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declarations of constants, structs a.s.o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re written to the TDC header fi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93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look inside the primitive hierarchy level by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generat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SEND() / AWAIT() commands for primitiv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arameter values and sub-structur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IMEOUT() commands for delay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finally the whole test cas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1911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re implementational details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ll be documented in \gpf\DOC\tcgen\tcgen_description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n be found out from the sources in \gpf\util\tcgen\... </a:t>
            </a:r>
            <a:r>
              <a:rPr b="0" lang="en-US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any further passes 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nfortunately in many cases the pure generated test case will fail due to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2360" y="1981080"/>
            <a:ext cx="79358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 lot of parameter values coming from networ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with Windows-PS we don‘t have tha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ometimes missing initial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with BMI-image the first SIM_GMM_INSERT_IND gets lo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everal parameters which could be ignor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but which are expected with exactly the recorded valu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4952880"/>
            <a:ext cx="793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069"/>
                </a:solidFill>
                <a:latin typeface="Arial"/>
              </a:rPr>
              <a:t>A quite funny side effec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if the PCO-logfile comes from a TAP run which fail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the new generated test case will pass </a:t>
            </a:r>
            <a:r>
              <a:rPr b="0" i="1" lang="en-GB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quit long time differences between primitives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hich are not necessary with the Windows-P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ut a maximal timeout value can be defined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rimitive duplication does not work with all entities by now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ecause of changed tim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LLC the PS will crash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urrently no support of duplication of pointers by the FRAM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descriptor li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nd finally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ir-messages are currently handled as binary bloc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support of other formats then TDC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t TTCN-3 should be no problem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complete GUI exist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allowing execution of all processes from one place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9907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urther problems are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Some solutions seem obvious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2360" y="2057400"/>
            <a:ext cx="8240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generated TDC files could be post processed to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t parameters to „not used“ etc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TST queue on target could be temporarily enlarg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o reduce timing influence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support of pointer duplication could be implemen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e.g. similarly as done with PCON on UMTS stac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Concerning the GUI support …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0880" y="1828800"/>
            <a:ext cx="8001000" cy="1752480"/>
            <a:chOff x="380880" y="1828800"/>
            <a:chExt cx="8001000" cy="175248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5562720" y="1866960"/>
              <a:ext cx="28191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80880" y="1828800"/>
              <a:ext cx="4735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a first step is already done: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TCGen can be started right from the PCO-controll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14400" y="3200400"/>
            <a:ext cx="6324480" cy="1552680"/>
            <a:chOff x="914400" y="3200400"/>
            <a:chExt cx="6324480" cy="1552680"/>
          </a:xfrm>
        </p:grpSpPr>
        <p:sp>
          <p:nvSpPr>
            <p:cNvPr id="477" name=""/>
            <p:cNvSpPr/>
            <p:nvPr/>
          </p:nvSpPr>
          <p:spPr>
            <a:xfrm flipH="1">
              <a:off x="4191120" y="3276720"/>
              <a:ext cx="3047760" cy="6094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327672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1676520" y="4495680"/>
            <a:ext cx="7095960" cy="1700280"/>
            <a:chOff x="1676520" y="4495680"/>
            <a:chExt cx="7095960" cy="1700280"/>
          </a:xfrm>
        </p:grpSpPr>
        <p:sp>
          <p:nvSpPr>
            <p:cNvPr id="480" name=""/>
            <p:cNvSpPr/>
            <p:nvPr/>
          </p:nvSpPr>
          <p:spPr>
            <a:xfrm>
              <a:off x="1676520" y="4495680"/>
              <a:ext cx="25905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4343400" y="4800600"/>
              <a:ext cx="4429080" cy="13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TCGen could/will be enhanced to support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2360" y="152388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erpretation of air messages using ccddata-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upcoming ccddata features to find out redirections independent from „random“ primitives in 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option to generate primitives with direct parameter pass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figuring the level of structure expand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ules specified in an extra file and applied during generation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e.g. set/ignore special parameter valu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 dedicated GUI for convenient gene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5715000"/>
            <a:ext cx="793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fter all TCGen is still in Beta state </a:t>
            </a:r>
            <a:r>
              <a:rPr b="0" lang="de-DE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standard serial cable, COM-ports on both end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running test cases: usually shared memory on one PC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86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3704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77120" y="3124080"/>
            <a:ext cx="2361960" cy="3126960"/>
            <a:chOff x="6477120" y="3124080"/>
            <a:chExt cx="2361960" cy="3126960"/>
          </a:xfrm>
        </p:grpSpPr>
        <p:sp>
          <p:nvSpPr>
            <p:cNvPr id="90" name=""/>
            <p:cNvSpPr/>
            <p:nvPr/>
          </p:nvSpPr>
          <p:spPr>
            <a:xfrm>
              <a:off x="6477120" y="3124080"/>
              <a:ext cx="2361960" cy="2498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TAPCaller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TAP2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xPanel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2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 test syste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3124080"/>
            <a:ext cx="2819160" cy="3126960"/>
            <a:chOff x="533520" y="3124080"/>
            <a:chExt cx="2819160" cy="3126960"/>
          </a:xfrm>
        </p:grpSpPr>
        <p:sp>
          <p:nvSpPr>
            <p:cNvPr id="93" name=""/>
            <p:cNvSpPr/>
            <p:nvPr/>
          </p:nvSpPr>
          <p:spPr>
            <a:xfrm>
              <a:off x="533520" y="3124080"/>
              <a:ext cx="2819160" cy="2498760"/>
            </a:xfrm>
            <a:prstGeom prst="rect">
              <a:avLst/>
            </a:prstGeom>
            <a:solidFill>
              <a:srgbClr val="02ea6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952880"/>
              <a:ext cx="1752840" cy="517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3429000"/>
              <a:ext cx="912960" cy="990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296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99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102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2440" y="3505320"/>
            <a:ext cx="4954680" cy="1389240"/>
            <a:chOff x="1522440" y="3505320"/>
            <a:chExt cx="4954680" cy="1389240"/>
          </a:xfrm>
        </p:grpSpPr>
        <p:grpSp>
          <p:nvGrpSpPr>
            <p:cNvPr id="105" name=""/>
            <p:cNvGrpSpPr/>
            <p:nvPr/>
          </p:nvGrpSpPr>
          <p:grpSpPr>
            <a:xfrm>
              <a:off x="2208240" y="3505320"/>
              <a:ext cx="4268880" cy="398880"/>
              <a:chOff x="2208240" y="3505320"/>
              <a:chExt cx="426888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208240" y="3581280"/>
                <a:ext cx="4268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7560" y="3505320"/>
                <a:ext cx="30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109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323028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using standard OS drivers or via a Multiplexer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AP,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3611160"/>
            <a:ext cx="79358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CO (Point of Control and Observation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ools cabable to stimulate the protocol stack and display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for logging and replaying test session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xPanel (eXtended Panel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virtual mobile“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AP (Test Application Process) 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rogram which executes test cases by sending, receiving and comparing primitives to/from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APCaller provides GUI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1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9480" y="4343400"/>
            <a:ext cx="7925040" cy="1846800"/>
            <a:chOff x="609480" y="4343400"/>
            <a:chExt cx="7925040" cy="1846800"/>
          </a:xfrm>
        </p:grpSpPr>
        <p:sp>
          <p:nvSpPr>
            <p:cNvPr id="126" name=""/>
            <p:cNvSpPr/>
            <p:nvPr/>
          </p:nvSpPr>
          <p:spPr>
            <a:xfrm>
              <a:off x="3733920" y="487692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434340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434340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57150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791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343400"/>
            <a:ext cx="3504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37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981080"/>
            <a:ext cx="53316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3160" y="3276720"/>
            <a:ext cx="12571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981080"/>
            <a:ext cx="68580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98144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Ddat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1523880"/>
            <a:ext cx="0" cy="17528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523880"/>
            <a:ext cx="0" cy="45720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133720"/>
            <a:ext cx="1067040" cy="2743200"/>
          </a:xfrm>
          <a:prstGeom prst="rect">
            <a:avLst/>
          </a:prstGeom>
          <a:solidFill>
            <a:srgbClr val="b4d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069"/>
                </a:solidFill>
                <a:latin typeface="Arial"/>
              </a:rPr>
              <a:t>Caller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eld Test Examp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158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160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(e.g. d-sample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7620120" y="4800600"/>
            <a:ext cx="1244160" cy="914400"/>
            <a:chOff x="7620120" y="4800600"/>
            <a:chExt cx="1244160" cy="914400"/>
          </a:xfrm>
        </p:grpSpPr>
        <p:sp>
          <p:nvSpPr>
            <p:cNvPr id="169" name=""/>
            <p:cNvSpPr/>
            <p:nvPr/>
          </p:nvSpPr>
          <p:spPr>
            <a:xfrm>
              <a:off x="7986240" y="4800600"/>
              <a:ext cx="87804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486400"/>
              <a:ext cx="36612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172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182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186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187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1600" y="1142640"/>
            <a:ext cx="76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build)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905120"/>
            <a:ext cx="8595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Generator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oc2txt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cd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pil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sdev / cl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mktc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1992240"/>
            <a:ext cx="1054080" cy="1058040"/>
            <a:chOff x="2743200" y="1992240"/>
            <a:chExt cx="1054080" cy="1058040"/>
          </a:xfrm>
        </p:grpSpPr>
        <p:sp>
          <p:nvSpPr>
            <p:cNvPr id="200" name=""/>
            <p:cNvSpPr/>
            <p:nvPr/>
          </p:nvSpPr>
          <p:spPr>
            <a:xfrm>
              <a:off x="2921040" y="1992240"/>
              <a:ext cx="733320" cy="533880"/>
            </a:xfrm>
            <a:prstGeom prst="flowChart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848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85920" y="3886200"/>
            <a:ext cx="1060920" cy="1305720"/>
            <a:chOff x="3985920" y="3886200"/>
            <a:chExt cx="1060920" cy="1305720"/>
          </a:xfrm>
        </p:grpSpPr>
        <p:sp>
          <p:nvSpPr>
            <p:cNvPr id="204" name=""/>
            <p:cNvSpPr/>
            <p:nvPr/>
          </p:nvSpPr>
          <p:spPr>
            <a:xfrm>
              <a:off x="407160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008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574800">
              <a:off x="398664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480" y="3100320"/>
            <a:ext cx="1562040" cy="1931040"/>
            <a:chOff x="5181480" y="3100320"/>
            <a:chExt cx="1562040" cy="1931040"/>
          </a:xfrm>
        </p:grpSpPr>
        <p:grpSp>
          <p:nvGrpSpPr>
            <p:cNvPr id="208" name=""/>
            <p:cNvGrpSpPr/>
            <p:nvPr/>
          </p:nvGrpSpPr>
          <p:grpSpPr>
            <a:xfrm>
              <a:off x="5715360" y="3898800"/>
              <a:ext cx="1028160" cy="1132560"/>
              <a:chOff x="5715360" y="3898800"/>
              <a:chExt cx="1028160" cy="11325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70520" y="3898800"/>
                <a:ext cx="726120" cy="602280"/>
                <a:chOff x="5870520" y="3898800"/>
                <a:chExt cx="726120" cy="602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7616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50880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0112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5836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8640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5836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39036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7472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7960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4556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7856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7052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2956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5796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2956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6192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4196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864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4952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3044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3044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1712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1536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18148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296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05720" y="3733920"/>
            <a:ext cx="1752480" cy="1143000"/>
            <a:chOff x="6705720" y="3733920"/>
            <a:chExt cx="1752480" cy="1143000"/>
          </a:xfrm>
        </p:grpSpPr>
        <p:sp>
          <p:nvSpPr>
            <p:cNvPr id="236" name=""/>
            <p:cNvSpPr/>
            <p:nvPr/>
          </p:nvSpPr>
          <p:spPr>
            <a:xfrm>
              <a:off x="6705720" y="4191120"/>
              <a:ext cx="38088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733920"/>
              <a:ext cx="129528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7280" y="1905120"/>
            <a:ext cx="1607760" cy="918720"/>
            <a:chOff x="3797280" y="1905120"/>
            <a:chExt cx="1607760" cy="918720"/>
          </a:xfrm>
        </p:grpSpPr>
        <p:sp>
          <p:nvSpPr>
            <p:cNvPr id="239" name=""/>
            <p:cNvSpPr/>
            <p:nvPr/>
          </p:nvSpPr>
          <p:spPr>
            <a:xfrm>
              <a:off x="3797280" y="2209680"/>
              <a:ext cx="317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924360" y="1905120"/>
              <a:ext cx="1480680" cy="918720"/>
              <a:chOff x="3924360" y="1905120"/>
              <a:chExt cx="1480680" cy="9187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305240" y="1905120"/>
                <a:ext cx="726480" cy="601560"/>
                <a:chOff x="4305240" y="1905120"/>
                <a:chExt cx="726480" cy="601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611240" y="1923840"/>
                  <a:ext cx="15084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943880" y="215820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35840" y="215820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393080" y="1989720"/>
                  <a:ext cx="14904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21480" y="1992240"/>
                  <a:ext cx="15084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93080" y="23216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25440" y="2319840"/>
                  <a:ext cx="14688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09440" y="24364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14320" y="1992240"/>
                  <a:ext cx="52920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580280" y="190512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13280" y="213660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305240" y="21344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64640" y="196848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93040" y="196848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364640" y="230076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6640" y="22960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7040" y="24109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83720" y="1972800"/>
                  <a:ext cx="53136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84240" y="213660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65160" y="211968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565160" y="2119680"/>
                  <a:ext cx="20628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551840" y="2107080"/>
                  <a:ext cx="19116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392436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181480" y="1752480"/>
            <a:ext cx="2190600" cy="1310760"/>
            <a:chOff x="5181480" y="1752480"/>
            <a:chExt cx="2190600" cy="1310760"/>
          </a:xfrm>
        </p:grpSpPr>
        <p:grpSp>
          <p:nvGrpSpPr>
            <p:cNvPr id="266" name=""/>
            <p:cNvGrpSpPr/>
            <p:nvPr/>
          </p:nvGrpSpPr>
          <p:grpSpPr>
            <a:xfrm>
              <a:off x="5361120" y="1752480"/>
              <a:ext cx="2010960" cy="1310760"/>
              <a:chOff x="5361120" y="1752480"/>
              <a:chExt cx="2010960" cy="1310760"/>
            </a:xfrm>
          </p:grpSpPr>
          <p:sp>
            <p:nvSpPr>
              <p:cNvPr id="267" name=""/>
              <p:cNvSpPr/>
              <p:nvPr/>
            </p:nvSpPr>
            <p:spPr>
              <a:xfrm>
                <a:off x="5808600" y="1752480"/>
                <a:ext cx="1125360" cy="789120"/>
              </a:xfrm>
              <a:prstGeom prst="flowChartMultidocumen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112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574800">
                <a:off x="572796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220968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3-07-17T08:50:56Z</dcterms:modified>
  <cp:revision>205</cp:revision>
  <dc:subject/>
  <dc:title>PowerPoint-Präsentation</dc:title>
</cp:coreProperties>
</file>