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220320" cy="520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P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85800" y="2209680"/>
            <a:ext cx="7503840" cy="2987640"/>
            <a:chOff x="685800" y="2209680"/>
            <a:chExt cx="7503840" cy="2987640"/>
          </a:xfrm>
        </p:grpSpPr>
        <p:grpSp>
          <p:nvGrpSpPr>
            <p:cNvPr id="59" name=""/>
            <p:cNvGrpSpPr/>
            <p:nvPr/>
          </p:nvGrpSpPr>
          <p:grpSpPr>
            <a:xfrm>
              <a:off x="689040" y="2211840"/>
              <a:ext cx="7496280" cy="2982960"/>
              <a:chOff x="689040" y="2211840"/>
              <a:chExt cx="7496280" cy="29829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689040" y="2211840"/>
                <a:ext cx="1597680" cy="1237680"/>
                <a:chOff x="689040" y="2211840"/>
                <a:chExt cx="1597680" cy="1237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63200" y="2211840"/>
                  <a:ext cx="144900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ndator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</a:t>
                  </a: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tion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llega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9040" y="2211840"/>
                  <a:ext cx="15976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287080" y="2211840"/>
                <a:ext cx="1048320" cy="1237680"/>
                <a:chOff x="2287080" y="2211840"/>
                <a:chExt cx="1048320" cy="1237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361240" y="2211840"/>
                  <a:ext cx="89964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crip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87080" y="2211840"/>
                  <a:ext cx="104832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336120" y="2211840"/>
                <a:ext cx="972000" cy="1237680"/>
                <a:chOff x="3336120" y="2211840"/>
                <a:chExt cx="972000" cy="12376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409920" y="2211840"/>
                  <a:ext cx="82404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agm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336120" y="2211840"/>
                  <a:ext cx="97200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308480" y="2211840"/>
                <a:ext cx="977400" cy="1237680"/>
                <a:chOff x="4308480" y="2211840"/>
                <a:chExt cx="977400" cy="12376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382640" y="2211840"/>
                  <a:ext cx="82908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fini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308480" y="2211840"/>
                  <a:ext cx="97740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286240" y="2211840"/>
                <a:ext cx="910080" cy="1237680"/>
                <a:chOff x="5286240" y="2211840"/>
                <a:chExt cx="910080" cy="12376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360400" y="2211840"/>
                  <a:ext cx="76176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em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286240" y="2211840"/>
                  <a:ext cx="9100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197040" y="2211840"/>
                <a:ext cx="993240" cy="1237680"/>
                <a:chOff x="6197040" y="2211840"/>
                <a:chExt cx="993240" cy="12376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271200" y="2211840"/>
                  <a:ext cx="84456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alu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197040" y="2211840"/>
                  <a:ext cx="99324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190640" y="2211840"/>
                <a:ext cx="994680" cy="1237680"/>
                <a:chOff x="7190640" y="2211840"/>
                <a:chExt cx="994680" cy="1237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264440" y="2211840"/>
                  <a:ext cx="846360" cy="12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istor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190640" y="2211840"/>
                  <a:ext cx="994680" cy="123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89040" y="3449520"/>
                <a:ext cx="1597680" cy="436320"/>
                <a:chOff x="689040" y="3449520"/>
                <a:chExt cx="1597680" cy="4363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63200" y="3449520"/>
                  <a:ext cx="144900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sta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89040" y="3449520"/>
                  <a:ext cx="15976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287080" y="3449520"/>
                <a:ext cx="1048320" cy="436320"/>
                <a:chOff x="2287080" y="3449520"/>
                <a:chExt cx="1048320" cy="436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361240" y="3449520"/>
                  <a:ext cx="899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287080" y="3449520"/>
                  <a:ext cx="104832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336120" y="3449520"/>
                <a:ext cx="972000" cy="436320"/>
                <a:chOff x="3336120" y="3449520"/>
                <a:chExt cx="972000" cy="4363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409920" y="3449520"/>
                  <a:ext cx="8240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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336120" y="3449520"/>
                  <a:ext cx="97200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308480" y="3449520"/>
                <a:ext cx="977400" cy="436320"/>
                <a:chOff x="4308480" y="3449520"/>
                <a:chExt cx="977400" cy="4363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382640" y="3449520"/>
                  <a:ext cx="8290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308480" y="3449520"/>
                  <a:ext cx="97740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5286240" y="3449520"/>
                <a:ext cx="910080" cy="436320"/>
                <a:chOff x="5286240" y="3449520"/>
                <a:chExt cx="910080" cy="4363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5360400" y="3449520"/>
                  <a:ext cx="76176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286240" y="3449520"/>
                  <a:ext cx="910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197040" y="3449520"/>
                <a:ext cx="993240" cy="436320"/>
                <a:chOff x="6197040" y="3449520"/>
                <a:chExt cx="993240" cy="4363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271200" y="3449520"/>
                  <a:ext cx="84456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197040" y="3449520"/>
                  <a:ext cx="993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190640" y="3449520"/>
                <a:ext cx="994680" cy="436320"/>
                <a:chOff x="7190640" y="3449520"/>
                <a:chExt cx="994680" cy="43632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264440" y="3449520"/>
                  <a:ext cx="84636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90640" y="3449520"/>
                  <a:ext cx="9946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89040" y="3885840"/>
                <a:ext cx="1597680" cy="435960"/>
                <a:chOff x="689040" y="3885840"/>
                <a:chExt cx="1597680" cy="435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3200" y="3885840"/>
                  <a:ext cx="144900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mitiv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89040" y="3885840"/>
                  <a:ext cx="15976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287080" y="3885840"/>
                <a:ext cx="1048320" cy="435960"/>
                <a:chOff x="2287080" y="3885840"/>
                <a:chExt cx="1048320" cy="4359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61240" y="3885840"/>
                  <a:ext cx="8996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287080" y="3885840"/>
                  <a:ext cx="104832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336120" y="3885840"/>
                <a:ext cx="972000" cy="435960"/>
                <a:chOff x="3336120" y="3885840"/>
                <a:chExt cx="972000" cy="435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409920" y="3885840"/>
                  <a:ext cx="8240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336120" y="3885840"/>
                  <a:ext cx="97200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308480" y="3885840"/>
                <a:ext cx="977400" cy="435960"/>
                <a:chOff x="4308480" y="3885840"/>
                <a:chExt cx="977400" cy="4359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382640" y="3885840"/>
                  <a:ext cx="82908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08480" y="3885840"/>
                  <a:ext cx="97740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5286240" y="3885840"/>
                <a:ext cx="910080" cy="435960"/>
                <a:chOff x="5286240" y="3885840"/>
                <a:chExt cx="910080" cy="4359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5360400" y="3885840"/>
                  <a:ext cx="7617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86240" y="3885840"/>
                  <a:ext cx="910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197040" y="3885840"/>
                <a:ext cx="993240" cy="435960"/>
                <a:chOff x="6197040" y="3885840"/>
                <a:chExt cx="993240" cy="4359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271200" y="3885840"/>
                  <a:ext cx="8445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97040" y="3885840"/>
                  <a:ext cx="99324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190640" y="3885840"/>
                <a:ext cx="994680" cy="435960"/>
                <a:chOff x="7190640" y="3885840"/>
                <a:chExt cx="994680" cy="435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264440" y="3885840"/>
                  <a:ext cx="8463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90640" y="3885840"/>
                  <a:ext cx="9946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689040" y="4322160"/>
                <a:ext cx="1597680" cy="435960"/>
                <a:chOff x="689040" y="4322160"/>
                <a:chExt cx="1597680" cy="435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63200" y="4322160"/>
                  <a:ext cx="144900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unction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89040" y="4322160"/>
                  <a:ext cx="15976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287080" y="4322160"/>
                <a:ext cx="1048320" cy="435960"/>
                <a:chOff x="2287080" y="4322160"/>
                <a:chExt cx="1048320" cy="435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361240" y="4322160"/>
                  <a:ext cx="8996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287080" y="4322160"/>
                  <a:ext cx="104832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336120" y="4322160"/>
                <a:ext cx="972000" cy="435960"/>
                <a:chOff x="3336120" y="4322160"/>
                <a:chExt cx="972000" cy="435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409920" y="4322160"/>
                  <a:ext cx="8240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336120" y="4322160"/>
                  <a:ext cx="97200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308480" y="4322160"/>
                <a:ext cx="977400" cy="435960"/>
                <a:chOff x="4308480" y="4322160"/>
                <a:chExt cx="977400" cy="435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382640" y="4322160"/>
                  <a:ext cx="82908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308480" y="4322160"/>
                  <a:ext cx="97740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286240" y="4322160"/>
                <a:ext cx="910080" cy="435960"/>
                <a:chOff x="5286240" y="4322160"/>
                <a:chExt cx="910080" cy="435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360400" y="4322160"/>
                  <a:ext cx="7617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286240" y="4322160"/>
                  <a:ext cx="9100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197040" y="4322160"/>
                <a:ext cx="993240" cy="435960"/>
                <a:chOff x="6197040" y="4322160"/>
                <a:chExt cx="993240" cy="4359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271200" y="4322160"/>
                  <a:ext cx="8445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197040" y="4322160"/>
                  <a:ext cx="99324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190640" y="4322160"/>
                <a:ext cx="994680" cy="435960"/>
                <a:chOff x="7190640" y="4322160"/>
                <a:chExt cx="994680" cy="4359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264440" y="4322160"/>
                  <a:ext cx="8463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190640" y="4322160"/>
                  <a:ext cx="994680" cy="43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89040" y="4758480"/>
                <a:ext cx="1597680" cy="436320"/>
                <a:chOff x="689040" y="4758480"/>
                <a:chExt cx="1597680" cy="4363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3200" y="4758480"/>
                  <a:ext cx="144900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ramet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9040" y="4758480"/>
                  <a:ext cx="15976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2287080" y="4758480"/>
                <a:ext cx="1048320" cy="436320"/>
                <a:chOff x="2287080" y="4758480"/>
                <a:chExt cx="1048320" cy="436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361240" y="4758480"/>
                  <a:ext cx="8996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287080" y="4758480"/>
                  <a:ext cx="104832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3336120" y="4758480"/>
                <a:ext cx="972000" cy="436320"/>
                <a:chOff x="3336120" y="4758480"/>
                <a:chExt cx="972000" cy="4363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409920" y="4758480"/>
                  <a:ext cx="82404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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336120" y="4758480"/>
                  <a:ext cx="97200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308480" y="4758480"/>
                <a:ext cx="977400" cy="436320"/>
                <a:chOff x="4308480" y="4758480"/>
                <a:chExt cx="977400" cy="4363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382640" y="4758480"/>
                  <a:ext cx="82908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308480" y="4758480"/>
                  <a:ext cx="97740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286240" y="4758480"/>
                <a:ext cx="910080" cy="436320"/>
                <a:chOff x="5286240" y="4758480"/>
                <a:chExt cx="910080" cy="4363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360400" y="4758480"/>
                  <a:ext cx="76176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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86240" y="4758480"/>
                  <a:ext cx="9100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197040" y="4758480"/>
                <a:ext cx="993240" cy="436320"/>
                <a:chOff x="6197040" y="4758480"/>
                <a:chExt cx="993240" cy="4363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271200" y="4758480"/>
                  <a:ext cx="84456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 2"/>
                      <a:ea typeface="Wingdings 2"/>
                    </a:rPr>
                    <a:t>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97040" y="4758480"/>
                  <a:ext cx="99324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190640" y="4758480"/>
                <a:ext cx="994680" cy="436320"/>
                <a:chOff x="7190640" y="4758480"/>
                <a:chExt cx="994680" cy="436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264440" y="4758480"/>
                  <a:ext cx="846360" cy="43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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190640" y="4758480"/>
                  <a:ext cx="994680" cy="43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685800" y="2209680"/>
              <a:ext cx="7503840" cy="29876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vailable 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8, S8, U16, S16, U32, S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Simple decl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Arrays and dynamic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Option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Advanced decla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Linke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Poi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C-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point is now how to compile S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Example of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Illustration of simple primitve definitions and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-228600" y="0"/>
          <a:ext cx="96775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6775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From SAP to .h files (C declar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Myantiword (doc2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X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CCD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These steps are transparent to the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stration of output h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SAP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SAP concep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The SAP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Demonstration of general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he SAP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Service Access Point (S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Based on the layered protocol stack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Purpose of the 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Provides a clearly defined interface for the entity to other entities at a high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Interface defined by primitives o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SAPs defined and described in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Specific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Processed by the TI tool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a set of includable source files (C decla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Output used throughout the tool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Implementatio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Tes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Tracing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Developer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omic Sans MS"/>
              </a:rPr>
              <a:t>Includable source files (C decla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umentation in form of the original SAP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Code structured according to the cod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Ensures consistency in decla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E.g.valid flags, naming, counter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No name clashes due to PREFIX on entity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Integrated with implementation, test and tr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Single sourc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omic Sans MS"/>
              </a:rPr>
              <a:t>Code and documentation in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omic Sans MS"/>
              </a:rPr>
              <a:t>Possible to maintain documentation and code at the sam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create and maintain S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laration pos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mple of usage and decla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S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Ps created in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main sections in a SAP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omic Sans MS"/>
              </a:rPr>
              <a:t>The SAP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of the main sections have subsections according to their n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18:22:49Z</dcterms:created>
  <dc:creator>KSP - Kenneth Skou Pedersen</dc:creator>
  <dc:description/>
  <dc:language>en-US</dc:language>
  <cp:lastModifiedBy>Kenneth Skou Pedersen</cp:lastModifiedBy>
  <cp:lastPrinted>1999-04-13T20:20:45Z</cp:lastPrinted>
  <dcterms:modified xsi:type="dcterms:W3CDTF">2003-05-21T09:11:37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number">
    <vt:lpwstr>8434.532.03.001</vt:lpwstr>
  </property>
</Properties>
</file>