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AB51-4544-4470-9112-DC60BAB52BC0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5708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B6ECF6DD-8495-4D93-857A-BE3A1513099D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1600" y="1566720"/>
            <a:ext cx="76676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069"/>
                </a:solidFill>
                <a:latin typeface="Arial"/>
              </a:rPr>
              <a:t>PCO-Tracing</a:t>
            </a:r>
            <a:endParaRPr b="0" lang="en-US" sz="44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069"/>
                </a:solidFill>
                <a:latin typeface="Arial"/>
              </a:rPr>
              <a:t>for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069"/>
                </a:solidFill>
                <a:latin typeface="Arial"/>
              </a:rPr>
              <a:t>TC-Gen</a:t>
            </a:r>
            <a:endParaRPr b="0" lang="en-US" sz="6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(an introduction)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400" spc="-1" strike="noStrike">
                <a:solidFill>
                  <a:srgbClr val="003069"/>
                </a:solidFill>
                <a:latin typeface="Arial"/>
              </a:rPr>
              <a:t>duplicating primitives</a:t>
            </a:r>
            <a:endParaRPr b="1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57200" y="2819520"/>
            <a:ext cx="8153280" cy="3409920"/>
            <a:chOff x="457200" y="2819520"/>
            <a:chExt cx="8153280" cy="3409920"/>
          </a:xfrm>
        </p:grpSpPr>
        <p:grpSp>
          <p:nvGrpSpPr>
            <p:cNvPr id="178" name=""/>
            <p:cNvGrpSpPr/>
            <p:nvPr/>
          </p:nvGrpSpPr>
          <p:grpSpPr>
            <a:xfrm>
              <a:off x="457200" y="2819520"/>
              <a:ext cx="5029200" cy="3390840"/>
              <a:chOff x="457200" y="2819520"/>
              <a:chExt cx="5029200" cy="3390840"/>
            </a:xfrm>
          </p:grpSpPr>
          <p:sp>
            <p:nvSpPr>
              <p:cNvPr id="179" name=""/>
              <p:cNvSpPr/>
              <p:nvPr/>
            </p:nvSpPr>
            <p:spPr>
              <a:xfrm>
                <a:off x="457200" y="2819520"/>
                <a:ext cx="502920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Furthermore ...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via the matrix context menu the observation of specific entities can easily be configured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419720"/>
                <a:ext cx="1200240" cy="161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0" y="4343400"/>
                <a:ext cx="1762200" cy="186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 flipV="1">
                <a:off x="1523880" y="4952880"/>
                <a:ext cx="685800" cy="76320"/>
              </a:xfrm>
              <a:prstGeom prst="line">
                <a:avLst/>
              </a:prstGeom>
              <a:ln w="284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4067280" y="5333760"/>
                <a:ext cx="609480" cy="152280"/>
              </a:xfrm>
              <a:prstGeom prst="line">
                <a:avLst/>
              </a:prstGeom>
              <a:ln w="284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4678200" y="4191120"/>
              <a:ext cx="3932280" cy="203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"/>
          <p:cNvGrpSpPr/>
          <p:nvPr/>
        </p:nvGrpSpPr>
        <p:grpSpPr>
          <a:xfrm>
            <a:off x="457200" y="1066680"/>
            <a:ext cx="8232840" cy="2221200"/>
            <a:chOff x="457200" y="1066680"/>
            <a:chExt cx="8232840" cy="2221200"/>
          </a:xfrm>
        </p:grpSpPr>
        <p:pic>
          <p:nvPicPr>
            <p:cNvPr id="186" name="" descr=""/>
            <p:cNvPicPr/>
            <p:nvPr/>
          </p:nvPicPr>
          <p:blipFill>
            <a:blip r:embed="rId4"/>
            <a:stretch/>
          </p:blipFill>
          <p:spPr>
            <a:xfrm>
              <a:off x="5562720" y="1066680"/>
              <a:ext cx="3127320" cy="22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57200" y="1143000"/>
              <a:ext cx="50497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Since CCDDATA version 1.6.x (GPF 15) ...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PCO is provided with information about existing entities and their SAP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therefore only meaningful checkboxes are enabled in the matrix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Duplicating Primitives 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069"/>
                </a:solidFill>
                <a:latin typeface="Arial"/>
              </a:rPr>
              <a:t>GUI-Integr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066320"/>
            <a:ext cx="7935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During the second step, the logging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a meaningful named PCO logfile will be created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46040" y="1981080"/>
            <a:ext cx="7935840" cy="4067280"/>
            <a:chOff x="446040" y="1981080"/>
            <a:chExt cx="7935840" cy="406728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027080" y="3657600"/>
              <a:ext cx="27828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46040" y="1981080"/>
              <a:ext cx="7935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At first a directory has to be select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35480" indent="-2829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where the sessions shall be stor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5029200" y="2895480"/>
              <a:ext cx="3086280" cy="31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flipV="1">
              <a:off x="3581280" y="3580920"/>
              <a:ext cx="1371600" cy="38124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505320"/>
            <a:ext cx="7935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very received trace and primitive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will now be stored into the PCO logfile (cipher_test_23.pco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(the ASCII-traces are not needed for TCGen later on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57200" y="1143000"/>
            <a:ext cx="7748640" cy="990720"/>
            <a:chOff x="457200" y="1143000"/>
            <a:chExt cx="7748640" cy="990720"/>
          </a:xfrm>
        </p:grpSpPr>
        <p:sp>
          <p:nvSpPr>
            <p:cNvPr id="200" name=""/>
            <p:cNvSpPr/>
            <p:nvPr/>
          </p:nvSpPr>
          <p:spPr>
            <a:xfrm>
              <a:off x="457200" y="1143000"/>
              <a:ext cx="53341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a session name has to be provid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preferable self explaining </a:t>
              </a:r>
              <a:r>
                <a:rPr b="0" lang="de-DE" sz="2000" spc="-1" strike="noStrike">
                  <a:solidFill>
                    <a:srgbClr val="003069"/>
                  </a:solidFill>
                  <a:latin typeface="Wingdings"/>
                  <a:ea typeface="Wingdings"/>
                </a:rPr>
                <a:t>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6019920" y="1143000"/>
              <a:ext cx="2185920" cy="94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457200" y="2362320"/>
            <a:ext cx="7796160" cy="927000"/>
            <a:chOff x="457200" y="2362320"/>
            <a:chExt cx="7796160" cy="927000"/>
          </a:xfrm>
        </p:grpSpPr>
        <p:sp>
          <p:nvSpPr>
            <p:cNvPr id="203" name=""/>
            <p:cNvSpPr/>
            <p:nvPr/>
          </p:nvSpPr>
          <p:spPr>
            <a:xfrm>
              <a:off x="457200" y="2362320"/>
              <a:ext cx="54864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… 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and the logging can begi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35480" indent="-2829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by pressing the „REC“ord-butto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6019920" y="2362320"/>
              <a:ext cx="2233440" cy="92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"/>
          <p:cNvGrpSpPr/>
          <p:nvPr/>
        </p:nvGrpSpPr>
        <p:grpSpPr>
          <a:xfrm>
            <a:off x="457200" y="4800600"/>
            <a:ext cx="7935840" cy="917640"/>
            <a:chOff x="457200" y="4800600"/>
            <a:chExt cx="7935840" cy="917640"/>
          </a:xfrm>
        </p:grpSpPr>
        <p:sp>
          <p:nvSpPr>
            <p:cNvPr id="206" name=""/>
            <p:cNvSpPr/>
            <p:nvPr/>
          </p:nvSpPr>
          <p:spPr>
            <a:xfrm>
              <a:off x="457200" y="4800600"/>
              <a:ext cx="7935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5000"/>
            </a:bodyPr>
            <a:p>
              <a:pPr marL="188640" indent="-1886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When the session is ov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8600" indent="-1569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„STOP“ will close the .pco 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8600" indent="-156960">
                <a:lnSpc>
                  <a:spcPct val="100000"/>
                </a:lnSpc>
                <a:spcBef>
                  <a:spcPts val="2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8600" indent="-1569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c:\testsessions\MM_SM_observation\</a:t>
              </a: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cipher_test_23.pco“ can be forwarded to other testers for TCGen processing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6019920" y="4800600"/>
              <a:ext cx="2205000" cy="91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Duplicating Primitives 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GUI-Integr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UI-integr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36680" y="990720"/>
            <a:ext cx="793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There are two ways to call TCGen directly through the PCO GUI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57200" y="1371600"/>
            <a:ext cx="5181480" cy="3906360"/>
            <a:chOff x="457200" y="1371600"/>
            <a:chExt cx="5181480" cy="3906360"/>
          </a:xfrm>
        </p:grpSpPr>
        <p:sp>
          <p:nvSpPr>
            <p:cNvPr id="213" name=""/>
            <p:cNvSpPr/>
            <p:nvPr/>
          </p:nvSpPr>
          <p:spPr>
            <a:xfrm>
              <a:off x="457200" y="1371600"/>
              <a:ext cx="49528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Via the PCO-Controlle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1143000" y="1904760"/>
              <a:ext cx="2205000" cy="9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3429000" y="3581280"/>
              <a:ext cx="2209680" cy="16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971800" y="2438280"/>
              <a:ext cx="609480" cy="106632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57200" y="5048280"/>
            <a:ext cx="83818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In both cases 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the other parameters to TCGen have to filled into the edit field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ini-file and rules-file of TCGen may be opened and edited via the button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the „Run“-button will start the gener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048120"/>
            <a:ext cx="28195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In this case all entries of the selected .pco-file will be taken into account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495680" y="1371600"/>
            <a:ext cx="4434120" cy="2590920"/>
            <a:chOff x="4495680" y="1371600"/>
            <a:chExt cx="4434120" cy="2590920"/>
          </a:xfrm>
        </p:grpSpPr>
        <p:sp>
          <p:nvSpPr>
            <p:cNvPr id="220" name=""/>
            <p:cNvSpPr/>
            <p:nvPr/>
          </p:nvSpPr>
          <p:spPr>
            <a:xfrm>
              <a:off x="4495680" y="1371600"/>
              <a:ext cx="3810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Via a PCO-Standard-Viewe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4495680" y="1752840"/>
              <a:ext cx="4334040" cy="17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5334120" y="1828800"/>
              <a:ext cx="95544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5"/>
            <a:stretch/>
          </p:blipFill>
          <p:spPr>
            <a:xfrm>
              <a:off x="6858000" y="2438640"/>
              <a:ext cx="2071800" cy="10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flipH="1">
              <a:off x="5029200" y="2438640"/>
              <a:ext cx="457200" cy="114300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638680" y="3353040"/>
              <a:ext cx="2743200" cy="60948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715000" y="3886200"/>
            <a:ext cx="3276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In this case either all entries visible in the current viewer ..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or all selected entries will be taken into account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069"/>
                </a:solidFill>
                <a:latin typeface="Arial"/>
              </a:rPr>
              <a:t>Thanx for your patience !</a:t>
            </a:r>
            <a:endParaRPr b="0" lang="en-US" sz="4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Duplicating Primitives 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069"/>
                </a:solidFill>
                <a:latin typeface="Arial"/>
              </a:rPr>
              <a:t>GUI-Integr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7200" y="2286000"/>
            <a:ext cx="2451240" cy="3657600"/>
            <a:chOff x="457200" y="2286000"/>
            <a:chExt cx="2451240" cy="3657600"/>
          </a:xfrm>
        </p:grpSpPr>
        <p:grpSp>
          <p:nvGrpSpPr>
            <p:cNvPr id="85" name=""/>
            <p:cNvGrpSpPr/>
            <p:nvPr/>
          </p:nvGrpSpPr>
          <p:grpSpPr>
            <a:xfrm>
              <a:off x="457200" y="2286000"/>
              <a:ext cx="2442960" cy="2370240"/>
              <a:chOff x="457200" y="2286000"/>
              <a:chExt cx="2442960" cy="2370240"/>
            </a:xfrm>
          </p:grpSpPr>
          <p:pic>
            <p:nvPicPr>
              <p:cNvPr id="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77920" y="2286000"/>
                <a:ext cx="1722240" cy="181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57200" y="3507120"/>
                <a:ext cx="1830240" cy="1149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"/>
            <p:cNvSpPr/>
            <p:nvPr/>
          </p:nvSpPr>
          <p:spPr>
            <a:xfrm>
              <a:off x="533520" y="4724280"/>
              <a:ext cx="237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069"/>
                  </a:solidFill>
                  <a:latin typeface="Arial"/>
                </a:rPr>
                <a:t>Field-Test</a:t>
              </a:r>
              <a:br>
                <a:rPr sz="2800"/>
              </a:br>
              <a:r>
                <a:rPr b="1" lang="en-US" sz="2800" spc="-1" strike="noStrike">
                  <a:solidFill>
                    <a:srgbClr val="003069"/>
                  </a:solidFill>
                  <a:latin typeface="Arial"/>
                </a:rPr>
                <a:t>with PCO</a:t>
              </a:r>
              <a:endParaRPr b="0" lang="en-US" sz="2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590920" y="3200400"/>
            <a:ext cx="1695240" cy="1384200"/>
            <a:chOff x="2590920" y="3200400"/>
            <a:chExt cx="1695240" cy="1384200"/>
          </a:xfrm>
        </p:grpSpPr>
        <p:sp>
          <p:nvSpPr>
            <p:cNvPr id="90" name=""/>
            <p:cNvSpPr/>
            <p:nvPr/>
          </p:nvSpPr>
          <p:spPr>
            <a:xfrm>
              <a:off x="3124080" y="3200400"/>
              <a:ext cx="1162080" cy="1384200"/>
            </a:xfrm>
            <a:prstGeom prst="foldedCorner">
              <a:avLst>
                <a:gd name="adj" fmla="val 12500"/>
              </a:avLst>
            </a:prstGeom>
            <a:solidFill>
              <a:srgbClr val="b4d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 </a:t>
              </a:r>
              <a:br>
                <a:rPr sz="2000"/>
              </a:b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log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r>
                <a:rPr b="0" lang="de-DE" sz="1200" spc="-1" strike="noStrike">
                  <a:solidFill>
                    <a:srgbClr val="0063ce"/>
                  </a:solidFill>
                  <a:latin typeface="Arial"/>
                </a:rPr>
                <a:t>100010010100</a:t>
              </a:r>
              <a:br>
                <a:rPr sz="1200"/>
              </a:br>
              <a:r>
                <a:rPr b="0" lang="de-DE" sz="1200" spc="-1" strike="noStrike">
                  <a:solidFill>
                    <a:srgbClr val="0063ce"/>
                  </a:solidFill>
                  <a:latin typeface="Arial"/>
                </a:rPr>
                <a:t>011001110110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590920" y="3809880"/>
              <a:ext cx="431640" cy="14400"/>
            </a:xfrm>
            <a:prstGeom prst="line">
              <a:avLst/>
            </a:prstGeom>
            <a:ln w="7632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343400" y="3124080"/>
            <a:ext cx="1767600" cy="1820880"/>
            <a:chOff x="4343400" y="3124080"/>
            <a:chExt cx="1767600" cy="1820880"/>
          </a:xfrm>
        </p:grpSpPr>
        <p:grpSp>
          <p:nvGrpSpPr>
            <p:cNvPr id="93" name=""/>
            <p:cNvGrpSpPr/>
            <p:nvPr/>
          </p:nvGrpSpPr>
          <p:grpSpPr>
            <a:xfrm>
              <a:off x="4877280" y="3124080"/>
              <a:ext cx="1233720" cy="1820880"/>
              <a:chOff x="4877280" y="3124080"/>
              <a:chExt cx="1233720" cy="182088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4924800" y="3124080"/>
                <a:ext cx="1150560" cy="1030680"/>
                <a:chOff x="4924800" y="3124080"/>
                <a:chExt cx="1150560" cy="10306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409360" y="3156120"/>
                  <a:ext cx="238680" cy="13104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936040" y="3557520"/>
                  <a:ext cx="139320" cy="21456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973400" y="3557520"/>
                  <a:ext cx="135720" cy="20700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64120" y="3269160"/>
                  <a:ext cx="236160" cy="20808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742360" y="3273480"/>
                  <a:ext cx="238680" cy="21060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064120" y="3837600"/>
                  <a:ext cx="236160" cy="20700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748840" y="3834360"/>
                  <a:ext cx="232560" cy="21060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406840" y="4034160"/>
                  <a:ext cx="232560" cy="1206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097600" y="3273480"/>
                  <a:ext cx="838440" cy="760680"/>
                </a:xfrm>
                <a:prstGeom prst="ellipse">
                  <a:avLst/>
                </a:prstGeom>
                <a:solidFill>
                  <a:srgbClr val="ff33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360760" y="3124080"/>
                  <a:ext cx="233280" cy="11952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888160" y="3520440"/>
                  <a:ext cx="141840" cy="21132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924800" y="3517200"/>
                  <a:ext cx="139320" cy="21456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018760" y="3232800"/>
                  <a:ext cx="233280" cy="20700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697360" y="3232800"/>
                  <a:ext cx="232560" cy="21132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018760" y="3801240"/>
                  <a:ext cx="239400" cy="20700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703480" y="3793680"/>
                  <a:ext cx="232560" cy="21456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355360" y="3990600"/>
                  <a:ext cx="232560" cy="12780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049000" y="3240360"/>
                  <a:ext cx="841680" cy="761400"/>
                </a:xfrm>
                <a:prstGeom prst="ellipse">
                  <a:avLst/>
                </a:prstGeom>
                <a:solidFill>
                  <a:srgbClr val="ff33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366880" y="3520440"/>
                  <a:ext cx="311760" cy="284040"/>
                </a:xfrm>
                <a:prstGeom prst="ellips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336640" y="3491640"/>
                  <a:ext cx="311760" cy="284040"/>
                </a:xfrm>
                <a:prstGeom prst="ellips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336640" y="3491640"/>
                  <a:ext cx="326880" cy="294840"/>
                </a:xfrm>
                <a:prstGeom prst="ellips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315400" y="3470040"/>
                  <a:ext cx="302760" cy="276480"/>
                </a:xfrm>
                <a:prstGeom prst="ellipse">
                  <a:avLst/>
                </a:prstGeom>
                <a:solidFill>
                  <a:srgbClr val="ff33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4877280" y="4226400"/>
                <a:ext cx="1233720" cy="7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500"/>
                </a:b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est-Case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Generator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4343400" y="3809880"/>
              <a:ext cx="431640" cy="14400"/>
            </a:xfrm>
            <a:prstGeom prst="line">
              <a:avLst/>
            </a:prstGeom>
            <a:ln w="7632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172200" y="2971800"/>
            <a:ext cx="2832120" cy="2971800"/>
            <a:chOff x="6172200" y="2971800"/>
            <a:chExt cx="2832120" cy="2971800"/>
          </a:xfrm>
        </p:grpSpPr>
        <p:sp>
          <p:nvSpPr>
            <p:cNvPr id="120" name=""/>
            <p:cNvSpPr/>
            <p:nvPr/>
          </p:nvSpPr>
          <p:spPr>
            <a:xfrm>
              <a:off x="6629400" y="4724280"/>
              <a:ext cx="237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069"/>
                  </a:solidFill>
                  <a:latin typeface="Arial"/>
                </a:rPr>
                <a:t>Lab-Test</a:t>
              </a:r>
              <a:br>
                <a:rPr sz="2800"/>
              </a:br>
              <a:r>
                <a:rPr b="1" lang="en-US" sz="2800" spc="-1" strike="noStrike">
                  <a:solidFill>
                    <a:srgbClr val="003069"/>
                  </a:solidFill>
                  <a:latin typeface="Arial"/>
                </a:rPr>
                <a:t>with TAP</a:t>
              </a:r>
              <a:endParaRPr b="0" lang="en-US" sz="2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172200" y="2971800"/>
              <a:ext cx="2328840" cy="1833480"/>
              <a:chOff x="6172200" y="2971800"/>
              <a:chExt cx="2328840" cy="1833480"/>
            </a:xfrm>
          </p:grpSpPr>
          <p:pic>
            <p:nvPicPr>
              <p:cNvPr id="12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705720" y="2971800"/>
                <a:ext cx="1795320" cy="183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 flipV="1">
                <a:off x="6172200" y="3809880"/>
                <a:ext cx="431640" cy="1440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36680" y="1066320"/>
            <a:ext cx="7935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 final goal is: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o generate new test cas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... using logged life data from field test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81080" y="1752480"/>
            <a:ext cx="5027760" cy="4803120"/>
            <a:chOff x="1981080" y="1752480"/>
            <a:chExt cx="5027760" cy="4803120"/>
          </a:xfrm>
        </p:grpSpPr>
        <p:grpSp>
          <p:nvGrpSpPr>
            <p:cNvPr id="127" name=""/>
            <p:cNvGrpSpPr/>
            <p:nvPr/>
          </p:nvGrpSpPr>
          <p:grpSpPr>
            <a:xfrm>
              <a:off x="1981080" y="1752480"/>
              <a:ext cx="3219120" cy="4803120"/>
              <a:chOff x="1981080" y="1752480"/>
              <a:chExt cx="3219120" cy="480312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1981080" y="1752480"/>
                <a:ext cx="3208320" cy="3112200"/>
                <a:chOff x="1981080" y="1752480"/>
                <a:chExt cx="3208320" cy="3112200"/>
              </a:xfrm>
            </p:grpSpPr>
            <p:pic>
              <p:nvPicPr>
                <p:cNvPr id="129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927520" y="1752480"/>
                  <a:ext cx="2261880" cy="2380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981080" y="3355920"/>
                  <a:ext cx="2403720" cy="150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31" name=""/>
              <p:cNvSpPr/>
              <p:nvPr/>
            </p:nvSpPr>
            <p:spPr>
              <a:xfrm>
                <a:off x="2081160" y="4954320"/>
                <a:ext cx="3119040" cy="160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069"/>
                    </a:solidFill>
                    <a:latin typeface="Arial"/>
                  </a:rPr>
                  <a:t>Field-Test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3069"/>
                    </a:solidFill>
                    <a:latin typeface="Arial"/>
                  </a:rPr>
                  <a:t>with PCO</a:t>
                </a:r>
                <a:endParaRPr b="0" lang="en-US" sz="2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783320" y="2953080"/>
              <a:ext cx="2225520" cy="1817280"/>
              <a:chOff x="4783320" y="2953080"/>
              <a:chExt cx="2225520" cy="1817280"/>
            </a:xfrm>
          </p:grpSpPr>
          <p:sp>
            <p:nvSpPr>
              <p:cNvPr id="133" name=""/>
              <p:cNvSpPr/>
              <p:nvPr/>
            </p:nvSpPr>
            <p:spPr>
              <a:xfrm>
                <a:off x="5483160" y="2953080"/>
                <a:ext cx="1525680" cy="1817280"/>
              </a:xfrm>
              <a:prstGeom prst="foldedCorner">
                <a:avLst>
                  <a:gd name="adj" fmla="val 12500"/>
                </a:avLst>
              </a:prstGeom>
              <a:solidFill>
                <a:srgbClr val="b4d9ff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PCO </a:t>
                </a:r>
                <a:br>
                  <a:rPr sz="2000"/>
                </a:b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logfile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200"/>
                </a:br>
                <a:r>
                  <a:rPr b="0" lang="de-DE" sz="1200" spc="-1" strike="noStrike">
                    <a:solidFill>
                      <a:srgbClr val="0063ce"/>
                    </a:solidFill>
                    <a:latin typeface="Arial"/>
                  </a:rPr>
                  <a:t>100010010100</a:t>
                </a:r>
                <a:br>
                  <a:rPr sz="1200"/>
                </a:br>
                <a:r>
                  <a:rPr b="0" lang="de-DE" sz="1200" spc="-1" strike="noStrike">
                    <a:solidFill>
                      <a:srgbClr val="0063ce"/>
                    </a:solidFill>
                    <a:latin typeface="Arial"/>
                  </a:rPr>
                  <a:t>011001110110</a:t>
                </a:r>
                <a:endParaRPr b="0" lang="en-US" sz="12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783320" y="3753000"/>
                <a:ext cx="566640" cy="1872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6680" y="1066320"/>
            <a:ext cx="7935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oday you’ll learn how to create suitable PCO logfil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36680" y="1066680"/>
            <a:ext cx="793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What is a PCO logfile ?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200" y="1523880"/>
            <a:ext cx="7935840" cy="3570480"/>
            <a:chOff x="457200" y="1523880"/>
            <a:chExt cx="7935840" cy="3570480"/>
          </a:xfrm>
        </p:grpSpPr>
        <p:sp>
          <p:nvSpPr>
            <p:cNvPr id="139" name=""/>
            <p:cNvSpPr/>
            <p:nvPr/>
          </p:nvSpPr>
          <p:spPr>
            <a:xfrm>
              <a:off x="1447920" y="3276720"/>
              <a:ext cx="1527120" cy="1817640"/>
            </a:xfrm>
            <a:prstGeom prst="foldedCorner">
              <a:avLst>
                <a:gd name="adj" fmla="val 12500"/>
              </a:avLst>
            </a:prstGeom>
            <a:solidFill>
              <a:srgbClr val="b4d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 </a:t>
              </a:r>
              <a:br>
                <a:rPr sz="2000"/>
              </a:b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log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r>
                <a:rPr b="0" lang="de-DE" sz="1200" spc="-1" strike="noStrike">
                  <a:solidFill>
                    <a:srgbClr val="0063ce"/>
                  </a:solidFill>
                  <a:latin typeface="Arial"/>
                </a:rPr>
                <a:t>100010010100</a:t>
              </a:r>
              <a:br>
                <a:rPr sz="1200"/>
              </a:br>
              <a:r>
                <a:rPr b="0" lang="de-DE" sz="1200" spc="-1" strike="noStrike">
                  <a:solidFill>
                    <a:srgbClr val="0063ce"/>
                  </a:solidFill>
                  <a:latin typeface="Arial"/>
                </a:rPr>
                <a:t>011001110110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1523880"/>
              <a:ext cx="7935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a binary File named „xxx.pco“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57200" y="1981080"/>
            <a:ext cx="7935840" cy="4083120"/>
            <a:chOff x="457200" y="1981080"/>
            <a:chExt cx="7935840" cy="4083120"/>
          </a:xfrm>
        </p:grpSpPr>
        <p:grpSp>
          <p:nvGrpSpPr>
            <p:cNvPr id="142" name=""/>
            <p:cNvGrpSpPr/>
            <p:nvPr/>
          </p:nvGrpSpPr>
          <p:grpSpPr>
            <a:xfrm>
              <a:off x="457200" y="1981080"/>
              <a:ext cx="7935840" cy="4083120"/>
              <a:chOff x="457200" y="1981080"/>
              <a:chExt cx="7935840" cy="4083120"/>
            </a:xfrm>
          </p:grpSpPr>
          <p:pic>
            <p:nvPicPr>
              <p:cNvPr id="1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62520" y="2514600"/>
                <a:ext cx="4419360" cy="354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457200" y="1981080"/>
                <a:ext cx="793584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... containing information about sent primitiv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3200400" y="3886200"/>
              <a:ext cx="533520" cy="457200"/>
            </a:xfrm>
            <a:prstGeom prst="leftRightArrow">
              <a:avLst>
                <a:gd name="adj1" fmla="val 50000"/>
                <a:gd name="adj2" fmla="val 23230"/>
              </a:avLst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069"/>
                </a:solidFill>
                <a:latin typeface="Arial"/>
              </a:rPr>
              <a:t>Duplicating Primitives</a:t>
            </a: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069"/>
                </a:solidFill>
                <a:latin typeface="Arial"/>
              </a:rPr>
              <a:t>GUI-Integr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400" spc="-1" strike="noStrike">
                <a:solidFill>
                  <a:srgbClr val="003069"/>
                </a:solidFill>
                <a:latin typeface="Arial"/>
              </a:rPr>
              <a:t>duplicating primitives</a:t>
            </a:r>
            <a:endParaRPr b="1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6680" y="1066680"/>
            <a:ext cx="793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As a first step primitive duplication has to be requested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7200" y="1447920"/>
            <a:ext cx="7935840" cy="4824360"/>
            <a:chOff x="457200" y="1447920"/>
            <a:chExt cx="7935840" cy="482436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533520" y="2286000"/>
              <a:ext cx="302256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57200" y="1447920"/>
              <a:ext cx="793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by setting up the primitive matrix in PCO controller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46040" y="1828800"/>
            <a:ext cx="7935840" cy="3852000"/>
            <a:chOff x="446040" y="1828800"/>
            <a:chExt cx="7935840" cy="3852000"/>
          </a:xfrm>
        </p:grpSpPr>
        <p:sp>
          <p:nvSpPr>
            <p:cNvPr id="154" name=""/>
            <p:cNvSpPr/>
            <p:nvPr/>
          </p:nvSpPr>
          <p:spPr>
            <a:xfrm>
              <a:off x="446040" y="1828800"/>
              <a:ext cx="793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and sending the configuration to the P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1502600">
              <a:off x="1141560" y="2762280"/>
              <a:ext cx="3124080" cy="2628720"/>
            </a:xfrm>
            <a:prstGeom prst="lightningBol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657600" y="2286000"/>
            <a:ext cx="5105520" cy="3809880"/>
            <a:chOff x="3657600" y="2286000"/>
            <a:chExt cx="5105520" cy="3809880"/>
          </a:xfrm>
        </p:grpSpPr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4419720" y="2286000"/>
              <a:ext cx="4276440" cy="34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flipV="1">
              <a:off x="3657600" y="4267080"/>
              <a:ext cx="609480" cy="14400"/>
            </a:xfrm>
            <a:prstGeom prst="line">
              <a:avLst/>
            </a:prstGeom>
            <a:ln w="7632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14800" y="5638680"/>
              <a:ext cx="4648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4000"/>
            </a:bodyPr>
            <a:p>
              <a:pPr lvl="1" marL="549720" indent="-21132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connected viewers will show immediate result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549720" indent="-21132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400" spc="-1" strike="noStrike">
                <a:solidFill>
                  <a:srgbClr val="003069"/>
                </a:solidFill>
                <a:latin typeface="Arial"/>
              </a:rPr>
              <a:t>duplicating primitives</a:t>
            </a:r>
            <a:endParaRPr b="1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36680" y="914400"/>
            <a:ext cx="793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What has to be configured in the matrix ?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219320"/>
            <a:ext cx="793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depends on which entities shall be observed ... e.g. MM &amp; 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6040" y="1523880"/>
            <a:ext cx="7935840" cy="4673880"/>
            <a:chOff x="446040" y="1523880"/>
            <a:chExt cx="7935840" cy="4673880"/>
          </a:xfrm>
        </p:grpSpPr>
        <p:sp>
          <p:nvSpPr>
            <p:cNvPr id="164" name=""/>
            <p:cNvSpPr/>
            <p:nvPr/>
          </p:nvSpPr>
          <p:spPr>
            <a:xfrm>
              <a:off x="446040" y="1523880"/>
              <a:ext cx="793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and the existing SAP‘s ... e.g. for the GPRS protocol stack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914400" y="1981080"/>
              <a:ext cx="7238880" cy="421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400" spc="-1" strike="noStrike">
                <a:solidFill>
                  <a:srgbClr val="003069"/>
                </a:solidFill>
                <a:latin typeface="Arial"/>
              </a:rPr>
              <a:t>duplicating primitives</a:t>
            </a:r>
            <a:endParaRPr b="1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36680" y="914400"/>
            <a:ext cx="793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To observe MM and SS ...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57200" y="1219320"/>
            <a:ext cx="7935840" cy="4937040"/>
            <a:chOff x="457200" y="1219320"/>
            <a:chExt cx="7935840" cy="4937040"/>
          </a:xfrm>
        </p:grpSpPr>
        <p:sp>
          <p:nvSpPr>
            <p:cNvPr id="169" name=""/>
            <p:cNvSpPr/>
            <p:nvPr/>
          </p:nvSpPr>
          <p:spPr>
            <a:xfrm>
              <a:off x="457200" y="1219320"/>
              <a:ext cx="7935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lvl="1" marL="698400" indent="-2685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all „outer“ SAP‘s have to be identifi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838080" y="2133720"/>
              <a:ext cx="3468960" cy="402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446040" y="1523880"/>
            <a:ext cx="8255160" cy="4503960"/>
            <a:chOff x="446040" y="1523880"/>
            <a:chExt cx="8255160" cy="4503960"/>
          </a:xfrm>
        </p:grpSpPr>
        <p:grpSp>
          <p:nvGrpSpPr>
            <p:cNvPr id="172" name=""/>
            <p:cNvGrpSpPr/>
            <p:nvPr/>
          </p:nvGrpSpPr>
          <p:grpSpPr>
            <a:xfrm>
              <a:off x="446040" y="1523880"/>
              <a:ext cx="7935840" cy="2300400"/>
              <a:chOff x="446040" y="1523880"/>
              <a:chExt cx="7935840" cy="2300400"/>
            </a:xfrm>
          </p:grpSpPr>
          <p:sp>
            <p:nvSpPr>
              <p:cNvPr id="173" name=""/>
              <p:cNvSpPr/>
              <p:nvPr/>
            </p:nvSpPr>
            <p:spPr>
              <a:xfrm>
                <a:off x="446040" y="1523880"/>
                <a:ext cx="7935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... and selected in the matrix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4368960" y="3809880"/>
                <a:ext cx="431640" cy="1440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4876920" y="2057400"/>
              <a:ext cx="3824280" cy="3970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SPRK</dc:creator>
  <dc:description/>
  <dc:language>en-US</dc:language>
  <cp:lastModifiedBy>Ronny Kiessling</cp:lastModifiedBy>
  <dcterms:modified xsi:type="dcterms:W3CDTF">2004-06-09T14:25:49Z</dcterms:modified>
  <cp:revision>254</cp:revision>
  <dc:subject/>
  <dc:title>PowerPoint-Präsentation</dc:title>
</cp:coreProperties>
</file>