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8AD8F-B754-4CEB-8B9D-3051D7711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7680" y="367164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08CED-1DE5-4CA6-8F0F-7517E6E12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2192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13C52-2D34-4D22-AB59-699690ED6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2360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988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1768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2360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988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CFA0B-6FD9-43CD-93EC-EEB081370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3384A-27BD-4806-B819-083682F1E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ACE81-30FF-47A8-A96A-496FCD1CC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EB9FD-886A-478F-815A-94747B3C0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C3B00-876E-4C16-83BC-2626CA7A0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17320" y="272880"/>
            <a:ext cx="838188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85B69-6B13-45D3-ADB4-A899CA88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D03E7-6A99-4B42-80A4-A91BA24B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2192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B90E4-61C4-46DC-86CF-FECC923F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6DCDE-6824-46B1-AD26-A31A6A9E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38280" y="6616800"/>
            <a:ext cx="180504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Condat AG, Berlin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641800" y="6616800"/>
            <a:ext cx="1304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Slide No.  </a:t>
            </a:r>
            <a:fld id="{5294BCBE-A417-429F-ADF1-5D57D33A0A8D}" type="slidenum"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441320" y="6599160"/>
            <a:ext cx="90288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65200" y="743040"/>
            <a:ext cx="8273880" cy="0"/>
          </a:xfrm>
          <a:prstGeom prst="line">
            <a:avLst/>
          </a:prstGeom>
          <a:ln w="12600">
            <a:solidFill>
              <a:srgbClr val="0063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80960" y="6553080"/>
            <a:ext cx="2840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3069"/>
                </a:solidFill>
                <a:latin typeface="Symbol"/>
                <a:ea typeface="Symbol"/>
              </a:rPr>
              <a:t>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Click to edit the title text format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Click to edit the outline text format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econd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Third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Fourth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Fifth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ixth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eventh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989920" y="71280"/>
            <a:ext cx="806400" cy="7207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61760" y="6229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069"/>
                </a:solidFill>
                <a:latin typeface="ITC Officina Sans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7086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069"/>
                </a:solidFill>
                <a:latin typeface="ITC Officina Sans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5E81-214D-4168-B9CF-902F55F99FFC}" type="slidenum"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069"/>
                </a:solidFill>
                <a:latin typeface="ITC Officina Sans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043520" y="5257800"/>
            <a:ext cx="5198760" cy="7621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indow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Linux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60240" y="4724280"/>
            <a:ext cx="2887920" cy="129564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ucleus, PSO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43520" y="4724280"/>
            <a:ext cx="5198760" cy="5335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C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60240" y="3657600"/>
            <a:ext cx="5446440" cy="1066680"/>
            <a:chOff x="660240" y="3657600"/>
            <a:chExt cx="5446440" cy="1066680"/>
          </a:xfrm>
        </p:grpSpPr>
        <p:sp>
          <p:nvSpPr>
            <p:cNvPr id="51" name=""/>
            <p:cNvSpPr/>
            <p:nvPr/>
          </p:nvSpPr>
          <p:spPr>
            <a:xfrm>
              <a:off x="4043520" y="3657600"/>
              <a:ext cx="206316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60240" y="3657600"/>
              <a:ext cx="288828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660240" y="2057400"/>
            <a:ext cx="1733760" cy="16002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76440" y="3048120"/>
            <a:ext cx="1071720" cy="60948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043520" y="3048120"/>
            <a:ext cx="660240" cy="60948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48160" y="3352680"/>
            <a:ext cx="495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86080" y="6095880"/>
            <a:ext cx="105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59360" y="6172200"/>
            <a:ext cx="18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00600" y="1905120"/>
            <a:ext cx="1306440" cy="1752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Pa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230880" y="3657600"/>
            <a:ext cx="990720" cy="10666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304040" y="3657600"/>
            <a:ext cx="1030320" cy="10666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416800" y="3657600"/>
            <a:ext cx="825480" cy="106668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499600" y="3505320"/>
            <a:ext cx="825480" cy="106668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7262640" y="1905120"/>
            <a:ext cx="2171520" cy="2514600"/>
            <a:chOff x="7262640" y="1905120"/>
            <a:chExt cx="2171520" cy="2514600"/>
          </a:xfrm>
        </p:grpSpPr>
        <p:sp>
          <p:nvSpPr>
            <p:cNvPr id="65" name=""/>
            <p:cNvSpPr/>
            <p:nvPr/>
          </p:nvSpPr>
          <p:spPr>
            <a:xfrm>
              <a:off x="8609400" y="3352680"/>
              <a:ext cx="824760" cy="106704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vie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262640" y="1905120"/>
              <a:ext cx="214416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CDedit </a:t>
              </a:r>
              <a:br>
                <a:rPr sz="2400"/>
              </a:b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(ccddata_dll.dll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994240" y="25146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xPanel &amp; PCO2 - usage with TI-Multiplexer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0666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al concept without TI-Multiplex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03440" y="2666880"/>
            <a:ext cx="83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ial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043520" y="5257800"/>
            <a:ext cx="5198760" cy="7621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indow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Linux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0240" y="4724280"/>
            <a:ext cx="2887920" cy="129564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ucleus, PSO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43520" y="4724280"/>
            <a:ext cx="5198760" cy="5335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C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60240" y="3657600"/>
            <a:ext cx="5446440" cy="1066680"/>
            <a:chOff x="660240" y="3657600"/>
            <a:chExt cx="5446440" cy="1066680"/>
          </a:xfrm>
        </p:grpSpPr>
        <p:sp>
          <p:nvSpPr>
            <p:cNvPr id="75" name=""/>
            <p:cNvSpPr/>
            <p:nvPr/>
          </p:nvSpPr>
          <p:spPr>
            <a:xfrm>
              <a:off x="4043520" y="3657600"/>
              <a:ext cx="206316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60240" y="3657600"/>
              <a:ext cx="288828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660240" y="2057400"/>
            <a:ext cx="1930680" cy="16002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81360" y="3048120"/>
            <a:ext cx="774720" cy="60948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51440" y="3200400"/>
            <a:ext cx="1358640" cy="4572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48160" y="2362320"/>
            <a:ext cx="495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86080" y="6095880"/>
            <a:ext cx="105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859360" y="6172200"/>
            <a:ext cx="18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29240" y="1905120"/>
            <a:ext cx="577800" cy="1752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Pa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230880" y="3657600"/>
            <a:ext cx="990720" cy="10666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304040" y="3657600"/>
            <a:ext cx="1030320" cy="10666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416800" y="3657600"/>
            <a:ext cx="825480" cy="106668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499600" y="3505320"/>
            <a:ext cx="825480" cy="106668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7262640" y="1905120"/>
            <a:ext cx="2171520" cy="2514600"/>
            <a:chOff x="7262640" y="1905120"/>
            <a:chExt cx="2171520" cy="2514600"/>
          </a:xfrm>
        </p:grpSpPr>
        <p:sp>
          <p:nvSpPr>
            <p:cNvPr id="89" name=""/>
            <p:cNvSpPr/>
            <p:nvPr/>
          </p:nvSpPr>
          <p:spPr>
            <a:xfrm>
              <a:off x="8609400" y="3352680"/>
              <a:ext cx="824760" cy="106704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vie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262640" y="1905120"/>
              <a:ext cx="214416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CDedit</a:t>
              </a:r>
              <a:br>
                <a:rPr sz="2400"/>
              </a:b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(ccddata_dll.dll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994240" y="25146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xPanel &amp; PCO2 - usage with TI-Multiplexer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10666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 with TI-Multiplex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03440" y="1676520"/>
            <a:ext cx="83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ial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06560" y="1905120"/>
            <a:ext cx="7495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I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051440" y="1905120"/>
            <a:ext cx="1434960" cy="76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I-MUX</a:t>
            </a:r>
            <a:br>
              <a:rPr sz="2400"/>
            </a:b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(TraceMultiplexer.ex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572000" y="26668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495680" y="274320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xPanel &amp; PCO2 - usage with TI-Multiplexer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94489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Configuration on target side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spcBef>
                <a:spcPts val="4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enable L1-tracing over one of the Com-Ports of the B/C-Sample </a:t>
            </a:r>
            <a:br>
              <a:rPr sz="2000"/>
            </a:b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(via monitor-program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01" name=""/>
          <p:cNvSpPr/>
          <p:nvPr/>
        </p:nvSpPr>
        <p:spPr>
          <a:xfrm>
            <a:off x="1650960" y="1228680"/>
            <a:ext cx="66009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09480" y="2666880"/>
            <a:ext cx="4722840" cy="1600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286000" y="3733920"/>
            <a:ext cx="2781360" cy="23810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943600" y="3429000"/>
            <a:ext cx="3102120" cy="2682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438280" y="3276720"/>
            <a:ext cx="53352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52880" y="4952880"/>
            <a:ext cx="1371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xPanel &amp; PCO2 - usage with TI-Multiplexer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94489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Configuration on </a:t>
            </a: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t</a:t>
            </a: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estsystem/tool side (1)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spcBef>
                <a:spcPts val="4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ClearCase: 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insert “include \\hokus\csi\gpf_testtools.csi” right after “mkbranch xxx_view” in your ConfigSpec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spcBef>
                <a:spcPts val="4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general: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build ccddata_dll.dll (in /GPF/BIN):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initvars.bat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m ccddata gprs win32 tr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xPanel &amp; PCO2 - usage with TI-Multiplexer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Configuration on </a:t>
            </a: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t</a:t>
            </a: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estsystem/tool side (2)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spcBef>
                <a:spcPts val="4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general: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copy …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\\rk\ti_mux\bin\TraceMultiplexer.exe -&gt; /GPF/BIN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et baudrate of comport inside TI-TraceMultiplexer to 115200: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33520" y="3809880"/>
            <a:ext cx="2985840" cy="1590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886200" y="4029120"/>
            <a:ext cx="5591160" cy="1366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371600" y="4267080"/>
            <a:ext cx="25909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xPanel &amp; PCO2 - usage with TI-Multiplexer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Usage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spcBef>
                <a:spcPts val="4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Testsystem/tool side: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tart pco2.bat in /GPF/BIN</a:t>
            </a:r>
            <a:br>
              <a:rPr sz="2000"/>
            </a:b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(CAVE! For Win2000-SP2 use pco2000.bat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ee /GPF/DOC/pco/pco_userguide.doc and /GPF/DOC/xpanel/xpan_userguide.doc </a:t>
            </a:r>
            <a:br>
              <a:rPr sz="2000"/>
            </a:b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for detailed informations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Exit 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766880" cy="5257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828800" y="5181480"/>
            <a:ext cx="61722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3T12:19:08Z</dcterms:created>
  <dc:creator>rk</dc:creator>
  <dc:description/>
  <dc:language>en-US</dc:language>
  <cp:lastModifiedBy>rk</cp:lastModifiedBy>
  <cp:lastPrinted>2000-10-17T07:41:10Z</cp:lastPrinted>
  <dcterms:modified xsi:type="dcterms:W3CDTF">2001-08-20T15:36:50Z</dcterms:modified>
  <cp:revision>80</cp:revision>
  <dc:subject/>
  <dc:title>xPanel &amp; PCO2</dc:title>
</cp:coreProperties>
</file>