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4.png" ContentType="image/png"/>
  <Override PartName="/ppt/media/image20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77.png" ContentType="image/png"/>
  <Override PartName="/ppt/media/image65.png" ContentType="image/png"/>
  <Override PartName="/ppt/media/image76.png" ContentType="image/png"/>
  <Override PartName="/ppt/media/image75.png" ContentType="image/png"/>
  <Override PartName="/ppt/media/image74.wmf" ContentType="image/x-wmf"/>
  <Override PartName="/ppt/media/image3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57.png" ContentType="image/png"/>
  <Override PartName="/ppt/media/image2.wmf" ContentType="image/x-wmf"/>
  <Override PartName="/ppt/media/image29.png" ContentType="image/png"/>
  <Override PartName="/ppt/media/image69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66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16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1600" y="376992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9064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5432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4704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160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5432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4704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92120" y="228240"/>
            <a:ext cx="7385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49064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61600" y="376992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49064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5432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74704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6160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5432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74704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92120" y="228240"/>
            <a:ext cx="7385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9064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90400" y="790560"/>
            <a:ext cx="7639200" cy="0"/>
          </a:xfrm>
          <a:prstGeom prst="line">
            <a:avLst/>
          </a:prstGeom>
          <a:ln w="12600">
            <a:solidFill>
              <a:srgbClr val="004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70720" y="0"/>
            <a:ext cx="77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418E3-9B5A-419D-AF8F-BEEB506DE117}" type="slidenum">
              <a:rPr b="0" lang="de-DE" sz="1200" spc="-1" strike="noStrike">
                <a:solidFill>
                  <a:srgbClr val="00306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6337440"/>
            <a:ext cx="9144000" cy="52056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457200" y="6496200"/>
            <a:ext cx="1523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 u="sng">
                <a:solidFill>
                  <a:srgbClr val="6699ff"/>
                </a:solidFill>
                <a:uFillTx/>
                <a:latin typeface="ITC Officina Sans Book"/>
                <a:hlinkClick r:id="rId3" action="ppaction://hlinksldjump"/>
              </a:rPr>
              <a:t>Outline</a:t>
            </a:r>
            <a:endParaRPr b="0" lang="en-US" sz="10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968960" y="6616800"/>
            <a:ext cx="12740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3069"/>
                </a:solidFill>
                <a:latin typeface="ITC Officina Sans Book"/>
              </a:rPr>
              <a:t>Folie Nr.  </a:t>
            </a:r>
            <a:fld id="{7512C912-5B6E-4F4C-B553-83EE0A80AF01}" type="slidenum">
              <a:rPr b="0" lang="de-DE" sz="1000" spc="-1" strike="noStrike">
                <a:solidFill>
                  <a:srgbClr val="003069"/>
                </a:solidFill>
                <a:latin typeface="ITC Officina Sans Book"/>
              </a:rPr>
              <a:t>&lt;number&gt;</a:t>
            </a:fld>
            <a:endParaRPr b="0" lang="en-US" sz="10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337440"/>
            <a:ext cx="9144000" cy="52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2.wmf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6.pn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image" Target="../media/image31.png"/><Relationship Id="rId13" Type="http://schemas.openxmlformats.org/officeDocument/2006/relationships/image" Target="../media/image32.png"/><Relationship Id="rId14" Type="http://schemas.openxmlformats.org/officeDocument/2006/relationships/image" Target="../media/image26.png"/><Relationship Id="rId15" Type="http://schemas.openxmlformats.org/officeDocument/2006/relationships/image" Target="../media/image33.png"/><Relationship Id="rId16" Type="http://schemas.openxmlformats.org/officeDocument/2006/relationships/image" Target="../media/image26.png"/><Relationship Id="rId17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2.wmf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14.xml"/><Relationship Id="rId3" Type="http://schemas.openxmlformats.org/officeDocument/2006/relationships/slide" Target="slide16.xml"/><Relationship Id="rId4" Type="http://schemas.openxmlformats.org/officeDocument/2006/relationships/slide" Target="slide17.xml"/><Relationship Id="rId5" Type="http://schemas.openxmlformats.org/officeDocument/2006/relationships/slide" Target="slide21.xml"/><Relationship Id="rId6" Type="http://schemas.openxmlformats.org/officeDocument/2006/relationships/slide" Target="slide22.xml"/><Relationship Id="rId7" Type="http://schemas.openxmlformats.org/officeDocument/2006/relationships/slide" Target="slide24.xml"/><Relationship Id="rId8" Type="http://schemas.openxmlformats.org/officeDocument/2006/relationships/slide" Target="slide25.xml"/><Relationship Id="rId9" Type="http://schemas.openxmlformats.org/officeDocument/2006/relationships/slide" Target="slide26.xml"/><Relationship Id="rId10" Type="http://schemas.openxmlformats.org/officeDocument/2006/relationships/slide" Target="slide30.xml"/><Relationship Id="rId1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image" Target="../media/image68.png"/><Relationship Id="rId6" Type="http://schemas.openxmlformats.org/officeDocument/2006/relationships/image" Target="../media/image69.png"/><Relationship Id="rId7" Type="http://schemas.openxmlformats.org/officeDocument/2006/relationships/image" Target="../media/image70.png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61600" y="1566720"/>
            <a:ext cx="76676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069"/>
                </a:solidFill>
                <a:latin typeface="Arial"/>
              </a:rPr>
              <a:t>Testing with</a:t>
            </a:r>
            <a:endParaRPr b="0" lang="en-US" sz="36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069"/>
                </a:solidFill>
                <a:latin typeface="Arial"/>
              </a:rPr>
              <a:t>xPanel &amp; PCO2</a:t>
            </a:r>
            <a:endParaRPr b="0" lang="en-US" sz="60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(an introduction)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>
            <a:lum bright="80000"/>
          </a:blip>
          <a:stretch/>
        </p:blipFill>
        <p:spPr>
          <a:xfrm>
            <a:off x="6543720" y="990720"/>
            <a:ext cx="1060560" cy="44193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>
            <a:lum bright="80000"/>
          </a:blip>
          <a:stretch/>
        </p:blipFill>
        <p:spPr>
          <a:xfrm>
            <a:off x="2322360" y="5105520"/>
            <a:ext cx="3868920" cy="118728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usage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201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Compressed Tracing with Str2Ind-Tables: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>
            <a:lum bright="90000"/>
          </a:blip>
          <a:stretch/>
        </p:blipFill>
        <p:spPr>
          <a:xfrm>
            <a:off x="774720" y="2590920"/>
            <a:ext cx="1041480" cy="31240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>
            <a:lum bright="80000"/>
          </a:blip>
          <a:stretch/>
        </p:blipFill>
        <p:spPr>
          <a:xfrm>
            <a:off x="6684840" y="5791320"/>
            <a:ext cx="1013040" cy="4791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09520" y="5867280"/>
            <a:ext cx="8553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069"/>
                </a:solidFill>
                <a:latin typeface="Arial"/>
              </a:rPr>
              <a:t>after loading of the table all traces will be shown as expected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209520" y="2362320"/>
            <a:ext cx="8020080" cy="1885680"/>
            <a:chOff x="209520" y="2362320"/>
            <a:chExt cx="8020080" cy="1885680"/>
          </a:xfrm>
        </p:grpSpPr>
        <p:pic>
          <p:nvPicPr>
            <p:cNvPr id="161" name="" descr=""/>
            <p:cNvPicPr/>
            <p:nvPr/>
          </p:nvPicPr>
          <p:blipFill>
            <a:blip r:embed="rId5"/>
            <a:stretch/>
          </p:blipFill>
          <p:spPr>
            <a:xfrm>
              <a:off x="2971800" y="2362320"/>
              <a:ext cx="5257800" cy="12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209520" y="2419200"/>
              <a:ext cx="295452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initially no table for</a:t>
              </a:r>
              <a:br>
                <a:rPr sz="1600"/>
              </a:b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interpretation of Trace-IDs is loaded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2895480" y="2876400"/>
              <a:ext cx="3733920" cy="15264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209520" y="3782880"/>
            <a:ext cx="8753400" cy="1932120"/>
            <a:chOff x="209520" y="3782880"/>
            <a:chExt cx="8753400" cy="1932120"/>
          </a:xfrm>
        </p:grpSpPr>
        <p:sp>
          <p:nvSpPr>
            <p:cNvPr id="165" name=""/>
            <p:cNvSpPr/>
            <p:nvPr/>
          </p:nvSpPr>
          <p:spPr>
            <a:xfrm>
              <a:off x="209520" y="3782880"/>
              <a:ext cx="4819680" cy="14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after reset or by explicit request 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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PS sends a version number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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Viewer searches for matching .tab-file in specified directory structure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166" name="" descr=""/>
            <p:cNvPicPr/>
            <p:nvPr/>
          </p:nvPicPr>
          <p:blipFill>
            <a:blip r:embed="rId6"/>
            <a:stretch/>
          </p:blipFill>
          <p:spPr>
            <a:xfrm>
              <a:off x="5181480" y="3935520"/>
              <a:ext cx="1473480" cy="69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" descr=""/>
            <p:cNvPicPr/>
            <p:nvPr/>
          </p:nvPicPr>
          <p:blipFill>
            <a:blip r:embed="rId7"/>
            <a:stretch/>
          </p:blipFill>
          <p:spPr>
            <a:xfrm>
              <a:off x="533520" y="5002200"/>
              <a:ext cx="842940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3962520" y="3935520"/>
              <a:ext cx="1295280" cy="45720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925880"/>
              <a:ext cx="457200" cy="15264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203040" y="1523880"/>
            <a:ext cx="8553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lvl="1" marL="713160" indent="-27432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069"/>
                </a:solidFill>
                <a:latin typeface="Arial"/>
              </a:rPr>
              <a:t>for performance and memory reasons traces are compressed at compile time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069"/>
                </a:solidFill>
                <a:latin typeface="Arial"/>
              </a:rPr>
              <a:t>each PS build creates a str2ind-table containing [ID]-&gt;[Trace string] combinations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usage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63400" y="1523520"/>
            <a:ext cx="7880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Function traces …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1266840" y="4572000"/>
            <a:ext cx="6415200" cy="5097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>
            <a:lum bright="40000"/>
          </a:blip>
          <a:stretch/>
        </p:blipFill>
        <p:spPr>
          <a:xfrm>
            <a:off x="1309680" y="1981080"/>
            <a:ext cx="6500880" cy="5968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>
            <a:lum bright="40000"/>
          </a:blip>
          <a:stretch/>
        </p:blipFill>
        <p:spPr>
          <a:xfrm>
            <a:off x="1266840" y="3124080"/>
            <a:ext cx="7197840" cy="8636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563400" y="990720"/>
            <a:ext cx="788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Types of traces shown by PCO-Viewer: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63400" y="2666880"/>
            <a:ext cx="788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Event traces …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3400" y="4114800"/>
            <a:ext cx="7880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Primitive traces …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63400" y="5181480"/>
            <a:ext cx="788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State traces …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1266840" y="5562720"/>
            <a:ext cx="7105680" cy="55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>
            <a:lum bright="80000"/>
          </a:blip>
          <a:stretch/>
        </p:blipFill>
        <p:spPr>
          <a:xfrm>
            <a:off x="3306600" y="2514600"/>
            <a:ext cx="2881440" cy="25304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>
            <a:lum bright="80000"/>
          </a:blip>
          <a:stretch/>
        </p:blipFill>
        <p:spPr>
          <a:xfrm>
            <a:off x="2322360" y="5105520"/>
            <a:ext cx="3868920" cy="118728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usage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6684840" y="5791320"/>
            <a:ext cx="1013040" cy="4791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4">
            <a:lum bright="80000"/>
          </a:blip>
          <a:stretch/>
        </p:blipFill>
        <p:spPr>
          <a:xfrm>
            <a:off x="6543720" y="990720"/>
            <a:ext cx="1060560" cy="44193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5">
            <a:lum bright="90000"/>
          </a:blip>
          <a:stretch/>
        </p:blipFill>
        <p:spPr>
          <a:xfrm>
            <a:off x="774720" y="2590920"/>
            <a:ext cx="1041480" cy="312408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77800" y="1828800"/>
            <a:ext cx="7935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receives all traces and redirected primitives from the target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forwards them to viewers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may store them into logfiles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3240" y="1066680"/>
            <a:ext cx="7936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The PCO-Server: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6"/>
          <a:stretch/>
        </p:blipFill>
        <p:spPr>
          <a:xfrm>
            <a:off x="5767560" y="4343400"/>
            <a:ext cx="3000240" cy="1933560"/>
          </a:xfrm>
          <a:prstGeom prst="rect">
            <a:avLst/>
          </a:prstGeom>
          <a:ln w="0">
            <a:noFill/>
          </a:ln>
        </p:spPr>
      </p:pic>
      <p:grpSp>
        <p:nvGrpSpPr>
          <p:cNvPr id="190" name=""/>
          <p:cNvGrpSpPr/>
          <p:nvPr/>
        </p:nvGrpSpPr>
        <p:grpSpPr>
          <a:xfrm>
            <a:off x="574560" y="3581280"/>
            <a:ext cx="8218440" cy="2713320"/>
            <a:chOff x="574560" y="3581280"/>
            <a:chExt cx="8218440" cy="2713320"/>
          </a:xfrm>
        </p:grpSpPr>
        <p:sp>
          <p:nvSpPr>
            <p:cNvPr id="191" name=""/>
            <p:cNvSpPr/>
            <p:nvPr/>
          </p:nvSpPr>
          <p:spPr>
            <a:xfrm>
              <a:off x="574560" y="3581280"/>
              <a:ext cx="79354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8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for replay it can forward logged data to viewers, too 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192" name="" descr=""/>
            <p:cNvPicPr/>
            <p:nvPr/>
          </p:nvPicPr>
          <p:blipFill>
            <a:blip r:embed="rId7"/>
            <a:stretch/>
          </p:blipFill>
          <p:spPr>
            <a:xfrm>
              <a:off x="5767560" y="4343400"/>
              <a:ext cx="3025440" cy="195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3" name=""/>
          <p:cNvGrpSpPr/>
          <p:nvPr/>
        </p:nvGrpSpPr>
        <p:grpSpPr>
          <a:xfrm>
            <a:off x="561960" y="4038480"/>
            <a:ext cx="7527600" cy="1981080"/>
            <a:chOff x="561960" y="4038480"/>
            <a:chExt cx="7527600" cy="1981080"/>
          </a:xfrm>
        </p:grpSpPr>
        <p:pic>
          <p:nvPicPr>
            <p:cNvPr id="194" name="" descr=""/>
            <p:cNvPicPr/>
            <p:nvPr/>
          </p:nvPicPr>
          <p:blipFill>
            <a:blip r:embed="rId8"/>
            <a:stretch/>
          </p:blipFill>
          <p:spPr>
            <a:xfrm>
              <a:off x="5416200" y="4038480"/>
              <a:ext cx="2673360" cy="18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 flipH="1" flipV="1">
              <a:off x="7175520" y="5638320"/>
              <a:ext cx="69840" cy="381240"/>
            </a:xfrm>
            <a:prstGeom prst="line">
              <a:avLst/>
            </a:prstGeom>
            <a:ln w="3816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61960" y="4648320"/>
              <a:ext cx="50655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8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may insert extra timestamp traces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576360" y="5562720"/>
            <a:ext cx="4628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is controlled by the PCO-Controller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>
            <a:lum bright="90000"/>
          </a:blip>
          <a:stretch/>
        </p:blipFill>
        <p:spPr>
          <a:xfrm>
            <a:off x="6964200" y="5486400"/>
            <a:ext cx="1013040" cy="47952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usage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6934320" y="1447920"/>
            <a:ext cx="984240" cy="32004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6705720" y="533520"/>
            <a:ext cx="1685880" cy="54864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4">
            <a:lum bright="80000"/>
          </a:blip>
          <a:stretch/>
        </p:blipFill>
        <p:spPr>
          <a:xfrm>
            <a:off x="2322360" y="5105520"/>
            <a:ext cx="3868920" cy="11872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5">
            <a:lum bright="90000"/>
          </a:blip>
          <a:stretch/>
        </p:blipFill>
        <p:spPr>
          <a:xfrm>
            <a:off x="774720" y="2590920"/>
            <a:ext cx="1041480" cy="31240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6">
            <a:lum bright="80000"/>
          </a:blip>
          <a:stretch/>
        </p:blipFill>
        <p:spPr>
          <a:xfrm>
            <a:off x="3306600" y="2514600"/>
            <a:ext cx="2881440" cy="25304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477720" y="838080"/>
            <a:ext cx="59961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The PCO-Controller: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344520" y="1143000"/>
            <a:ext cx="8418600" cy="990720"/>
            <a:chOff x="344520" y="1143000"/>
            <a:chExt cx="8418600" cy="990720"/>
          </a:xfrm>
        </p:grpSpPr>
        <p:sp>
          <p:nvSpPr>
            <p:cNvPr id="207" name=""/>
            <p:cNvSpPr/>
            <p:nvPr/>
          </p:nvSpPr>
          <p:spPr>
            <a:xfrm>
              <a:off x="344520" y="1143000"/>
              <a:ext cx="612144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069"/>
                  </a:solidFill>
                  <a:latin typeface="Arial"/>
                </a:rPr>
                <a:t>is actually executed by pco2.bat and starts a configurable set of other applications, like xPanel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08" name="" descr=""/>
            <p:cNvPicPr/>
            <p:nvPr/>
          </p:nvPicPr>
          <p:blipFill>
            <a:blip r:embed="rId7"/>
            <a:stretch/>
          </p:blipFill>
          <p:spPr>
            <a:xfrm>
              <a:off x="6400800" y="1143000"/>
              <a:ext cx="2362320" cy="690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9" name=""/>
          <p:cNvGrpSpPr/>
          <p:nvPr/>
        </p:nvGrpSpPr>
        <p:grpSpPr>
          <a:xfrm>
            <a:off x="351000" y="762120"/>
            <a:ext cx="8564400" cy="2057400"/>
            <a:chOff x="351000" y="762120"/>
            <a:chExt cx="8564400" cy="2057400"/>
          </a:xfrm>
        </p:grpSpPr>
        <p:sp>
          <p:nvSpPr>
            <p:cNvPr id="210" name=""/>
            <p:cNvSpPr/>
            <p:nvPr/>
          </p:nvSpPr>
          <p:spPr>
            <a:xfrm>
              <a:off x="351000" y="1828800"/>
              <a:ext cx="612108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069"/>
                  </a:solidFill>
                  <a:latin typeface="Arial"/>
                </a:rPr>
                <a:t>provides access to PCO-Server 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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to start logging of data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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to replay logged data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11" name="" descr=""/>
            <p:cNvPicPr/>
            <p:nvPr/>
          </p:nvPicPr>
          <p:blipFill>
            <a:blip r:embed="rId8"/>
            <a:stretch/>
          </p:blipFill>
          <p:spPr>
            <a:xfrm>
              <a:off x="6400800" y="762120"/>
              <a:ext cx="2514600" cy="1073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2" name=""/>
          <p:cNvGrpSpPr/>
          <p:nvPr/>
        </p:nvGrpSpPr>
        <p:grpSpPr>
          <a:xfrm>
            <a:off x="351000" y="533520"/>
            <a:ext cx="8640720" cy="5486400"/>
            <a:chOff x="351000" y="533520"/>
            <a:chExt cx="8640720" cy="5486400"/>
          </a:xfrm>
        </p:grpSpPr>
        <p:sp>
          <p:nvSpPr>
            <p:cNvPr id="213" name=""/>
            <p:cNvSpPr/>
            <p:nvPr/>
          </p:nvSpPr>
          <p:spPr>
            <a:xfrm>
              <a:off x="351000" y="2743200"/>
              <a:ext cx="612108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069"/>
                  </a:solidFill>
                  <a:latin typeface="Arial"/>
                </a:rPr>
                <a:t>allows sending of FRAME system primitives to the protocol stack (via  PCO-Server)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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from direct user input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6324480" y="533520"/>
              <a:ext cx="2667240" cy="5486400"/>
              <a:chOff x="6324480" y="533520"/>
              <a:chExt cx="2667240" cy="5486400"/>
            </a:xfrm>
          </p:grpSpPr>
          <p:sp>
            <p:nvSpPr>
              <p:cNvPr id="215" name=""/>
              <p:cNvSpPr/>
              <p:nvPr/>
            </p:nvSpPr>
            <p:spPr>
              <a:xfrm>
                <a:off x="6324480" y="685800"/>
                <a:ext cx="2667240" cy="1295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pic>
            <p:nvPicPr>
              <p:cNvPr id="216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6705720" y="533520"/>
                <a:ext cx="1685880" cy="5486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7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6400800" y="5105520"/>
                <a:ext cx="2195640" cy="468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18" name=""/>
          <p:cNvGrpSpPr/>
          <p:nvPr/>
        </p:nvGrpSpPr>
        <p:grpSpPr>
          <a:xfrm>
            <a:off x="351000" y="2286000"/>
            <a:ext cx="8305560" cy="3352680"/>
            <a:chOff x="351000" y="2286000"/>
            <a:chExt cx="8305560" cy="3352680"/>
          </a:xfrm>
        </p:grpSpPr>
        <p:sp>
          <p:nvSpPr>
            <p:cNvPr id="219" name=""/>
            <p:cNvSpPr/>
            <p:nvPr/>
          </p:nvSpPr>
          <p:spPr>
            <a:xfrm>
              <a:off x="351000" y="3657600"/>
              <a:ext cx="612108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2" marL="1143000" indent="-22860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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out of a pool of predefined system primitives loaded from a dedicated file (usually View.txt)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20" name="" descr=""/>
            <p:cNvPicPr/>
            <p:nvPr/>
          </p:nvPicPr>
          <p:blipFill>
            <a:blip r:embed="rId11"/>
            <a:stretch/>
          </p:blipFill>
          <p:spPr>
            <a:xfrm>
              <a:off x="6400800" y="2286000"/>
              <a:ext cx="2255760" cy="3352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1" name=""/>
          <p:cNvGrpSpPr/>
          <p:nvPr/>
        </p:nvGrpSpPr>
        <p:grpSpPr>
          <a:xfrm>
            <a:off x="351000" y="2057400"/>
            <a:ext cx="8335800" cy="4038480"/>
            <a:chOff x="351000" y="2057400"/>
            <a:chExt cx="8335800" cy="4038480"/>
          </a:xfrm>
        </p:grpSpPr>
        <p:sp>
          <p:nvSpPr>
            <p:cNvPr id="222" name=""/>
            <p:cNvSpPr/>
            <p:nvPr/>
          </p:nvSpPr>
          <p:spPr>
            <a:xfrm>
              <a:off x="351000" y="4191120"/>
              <a:ext cx="612108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2" marL="1143000" indent="-22860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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by selections in a matrix (stored per default in pco_stack.xml</a:t>
              </a:r>
              <a:r>
                <a:rPr b="0" lang="en-GB" sz="1600" spc="-1" strike="noStrike">
                  <a:solidFill>
                    <a:srgbClr val="003069"/>
                  </a:solidFill>
                  <a:latin typeface="Arial"/>
                </a:rPr>
                <a:t>) which may be ex-/imported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23" name="" descr=""/>
            <p:cNvPicPr/>
            <p:nvPr/>
          </p:nvPicPr>
          <p:blipFill>
            <a:blip r:embed="rId12"/>
            <a:stretch/>
          </p:blipFill>
          <p:spPr>
            <a:xfrm>
              <a:off x="6400800" y="2057400"/>
              <a:ext cx="2286000" cy="196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" descr=""/>
            <p:cNvPicPr/>
            <p:nvPr/>
          </p:nvPicPr>
          <p:blipFill>
            <a:blip r:embed="rId13"/>
            <a:stretch/>
          </p:blipFill>
          <p:spPr>
            <a:xfrm>
              <a:off x="6400800" y="4038480"/>
              <a:ext cx="2286000" cy="2057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5" name=""/>
          <p:cNvGrpSpPr/>
          <p:nvPr/>
        </p:nvGrpSpPr>
        <p:grpSpPr>
          <a:xfrm>
            <a:off x="344520" y="533520"/>
            <a:ext cx="8594640" cy="5638680"/>
            <a:chOff x="344520" y="533520"/>
            <a:chExt cx="8594640" cy="5638680"/>
          </a:xfrm>
        </p:grpSpPr>
        <p:grpSp>
          <p:nvGrpSpPr>
            <p:cNvPr id="226" name=""/>
            <p:cNvGrpSpPr/>
            <p:nvPr/>
          </p:nvGrpSpPr>
          <p:grpSpPr>
            <a:xfrm>
              <a:off x="6324480" y="533520"/>
              <a:ext cx="2590920" cy="5638680"/>
              <a:chOff x="6324480" y="533520"/>
              <a:chExt cx="2590920" cy="5638680"/>
            </a:xfrm>
          </p:grpSpPr>
          <p:sp>
            <p:nvSpPr>
              <p:cNvPr id="227" name=""/>
              <p:cNvSpPr/>
              <p:nvPr/>
            </p:nvSpPr>
            <p:spPr>
              <a:xfrm>
                <a:off x="6324480" y="1447920"/>
                <a:ext cx="2590920" cy="4724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pic>
            <p:nvPicPr>
              <p:cNvPr id="228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6705720" y="533520"/>
                <a:ext cx="1685880" cy="5486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9" name=""/>
            <p:cNvSpPr/>
            <p:nvPr/>
          </p:nvSpPr>
          <p:spPr>
            <a:xfrm>
              <a:off x="344520" y="4876920"/>
              <a:ext cx="6121440" cy="9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3069"/>
                  </a:solidFill>
                  <a:latin typeface="Arial"/>
                </a:rPr>
                <a:t>enables setup of the communication drivers to be used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30" name="" descr=""/>
            <p:cNvPicPr/>
            <p:nvPr/>
          </p:nvPicPr>
          <p:blipFill>
            <a:blip r:embed="rId15"/>
            <a:stretch/>
          </p:blipFill>
          <p:spPr>
            <a:xfrm>
              <a:off x="6324480" y="5410080"/>
              <a:ext cx="2614680" cy="400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1" name=""/>
          <p:cNvGrpSpPr/>
          <p:nvPr/>
        </p:nvGrpSpPr>
        <p:grpSpPr>
          <a:xfrm>
            <a:off x="351000" y="533520"/>
            <a:ext cx="8640720" cy="5943600"/>
            <a:chOff x="351000" y="533520"/>
            <a:chExt cx="8640720" cy="5943600"/>
          </a:xfrm>
        </p:grpSpPr>
        <p:sp>
          <p:nvSpPr>
            <p:cNvPr id="232" name=""/>
            <p:cNvSpPr/>
            <p:nvPr/>
          </p:nvSpPr>
          <p:spPr>
            <a:xfrm>
              <a:off x="351000" y="5486400"/>
              <a:ext cx="612108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069"/>
                  </a:solidFill>
                  <a:latin typeface="Arial"/>
                </a:rPr>
                <a:t>on exit: shuts down all initially started applications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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called the “test environment”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324480" y="4724280"/>
              <a:ext cx="2667240" cy="129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34" name="" descr=""/>
            <p:cNvPicPr/>
            <p:nvPr/>
          </p:nvPicPr>
          <p:blipFill>
            <a:blip r:embed="rId16"/>
            <a:stretch/>
          </p:blipFill>
          <p:spPr>
            <a:xfrm>
              <a:off x="6705720" y="533520"/>
              <a:ext cx="1685880" cy="5486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logging and replay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33240" y="1066680"/>
            <a:ext cx="7936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Logging / Recording: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522360" y="1219320"/>
            <a:ext cx="8012160" cy="1218960"/>
            <a:chOff x="522360" y="1219320"/>
            <a:chExt cx="8012160" cy="1218960"/>
          </a:xfrm>
        </p:grpSpPr>
        <p:pic>
          <p:nvPicPr>
            <p:cNvPr id="238" name="" descr=""/>
            <p:cNvPicPr/>
            <p:nvPr/>
          </p:nvPicPr>
          <p:blipFill>
            <a:blip r:embed="rId1"/>
            <a:stretch/>
          </p:blipFill>
          <p:spPr>
            <a:xfrm>
              <a:off x="5486400" y="1219320"/>
              <a:ext cx="304812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 flipV="1">
              <a:off x="4572000" y="1752480"/>
              <a:ext cx="2362320" cy="7632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3809880" y="2133360"/>
              <a:ext cx="1905120" cy="7596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2360" y="1600200"/>
              <a:ext cx="793584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specify name of test session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start logging process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501480" y="2514600"/>
            <a:ext cx="7956720" cy="1905120"/>
            <a:chOff x="501480" y="2514600"/>
            <a:chExt cx="7956720" cy="1905120"/>
          </a:xfrm>
        </p:grpSpPr>
        <p:pic>
          <p:nvPicPr>
            <p:cNvPr id="243" name="" descr=""/>
            <p:cNvPicPr/>
            <p:nvPr/>
          </p:nvPicPr>
          <p:blipFill>
            <a:blip r:embed="rId2"/>
            <a:stretch/>
          </p:blipFill>
          <p:spPr>
            <a:xfrm>
              <a:off x="6324480" y="3657600"/>
              <a:ext cx="1013040" cy="47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/>
            <p:cNvPicPr/>
            <p:nvPr/>
          </p:nvPicPr>
          <p:blipFill>
            <a:blip r:embed="rId3"/>
            <a:stretch/>
          </p:blipFill>
          <p:spPr>
            <a:xfrm>
              <a:off x="5486400" y="2590920"/>
              <a:ext cx="2971800" cy="77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4495680" y="3962520"/>
              <a:ext cx="1828800" cy="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01480" y="2514600"/>
              <a:ext cx="496440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now every trace/primitive received via the test interface will be logged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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Independent of any filter setting in a PCO-Viewer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PCO-Server appears green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314840" y="5028840"/>
            <a:ext cx="1600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90680" y="4267080"/>
            <a:ext cx="8520120" cy="2057400"/>
            <a:chOff x="490680" y="4267080"/>
            <a:chExt cx="8520120" cy="2057400"/>
          </a:xfrm>
        </p:grpSpPr>
        <p:sp>
          <p:nvSpPr>
            <p:cNvPr id="249" name=""/>
            <p:cNvSpPr/>
            <p:nvPr/>
          </p:nvSpPr>
          <p:spPr>
            <a:xfrm>
              <a:off x="490680" y="4267080"/>
              <a:ext cx="4964040" cy="20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lvl="1" marL="727920" indent="-28008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after pressing the “STOP” button …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2" marL="1119960" indent="-22392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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a &lt;session name&gt;.pco file can be found in the current session dir of PCO-Server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2" marL="1119960" indent="-22392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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a copy of (selected parts of) the logged session can be stored somewhere else (and, e.g., be sent to developers)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27920" indent="-28008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PCO-Server appears red again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50" name="" descr=""/>
            <p:cNvPicPr/>
            <p:nvPr/>
          </p:nvPicPr>
          <p:blipFill>
            <a:blip r:embed="rId4"/>
            <a:stretch/>
          </p:blipFill>
          <p:spPr>
            <a:xfrm>
              <a:off x="5791320" y="5791320"/>
              <a:ext cx="426960" cy="41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5"/>
            <a:stretch/>
          </p:blipFill>
          <p:spPr>
            <a:xfrm>
              <a:off x="5486400" y="4419720"/>
              <a:ext cx="2895480" cy="88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6"/>
            <a:stretch/>
          </p:blipFill>
          <p:spPr>
            <a:xfrm>
              <a:off x="6781680" y="4800600"/>
              <a:ext cx="2229120" cy="14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5791320" y="4800600"/>
              <a:ext cx="990360" cy="76212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4876920" y="6019560"/>
              <a:ext cx="838080" cy="7596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logging and replay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33240" y="1066680"/>
            <a:ext cx="7936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Replay: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533520" y="914400"/>
            <a:ext cx="8153280" cy="2144880"/>
            <a:chOff x="533520" y="914400"/>
            <a:chExt cx="8153280" cy="2144880"/>
          </a:xfrm>
        </p:grpSpPr>
        <p:pic>
          <p:nvPicPr>
            <p:cNvPr id="258" name="" descr=""/>
            <p:cNvPicPr/>
            <p:nvPr/>
          </p:nvPicPr>
          <p:blipFill>
            <a:blip r:embed="rId1"/>
            <a:stretch/>
          </p:blipFill>
          <p:spPr>
            <a:xfrm>
              <a:off x="5943600" y="2209680"/>
              <a:ext cx="1044720" cy="84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533520" y="1523880"/>
              <a:ext cx="79358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select test session name 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or drag/drop .pco-file to PCO-Controller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60" name="" descr=""/>
            <p:cNvPicPr/>
            <p:nvPr/>
          </p:nvPicPr>
          <p:blipFill>
            <a:blip r:embed="rId2"/>
            <a:stretch/>
          </p:blipFill>
          <p:spPr>
            <a:xfrm>
              <a:off x="5715000" y="914400"/>
              <a:ext cx="2971800" cy="10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4191120" y="1752480"/>
              <a:ext cx="2286000" cy="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6400800" y="1828800"/>
              <a:ext cx="0" cy="53352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533520" y="2971800"/>
            <a:ext cx="8153280" cy="928800"/>
            <a:chOff x="533520" y="2971800"/>
            <a:chExt cx="8153280" cy="928800"/>
          </a:xfrm>
        </p:grpSpPr>
        <p:sp>
          <p:nvSpPr>
            <p:cNvPr id="264" name=""/>
            <p:cNvSpPr/>
            <p:nvPr/>
          </p:nvSpPr>
          <p:spPr>
            <a:xfrm>
              <a:off x="533520" y="2971800"/>
              <a:ext cx="49640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press the „PLAY“ button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65" name="" descr=""/>
            <p:cNvPicPr/>
            <p:nvPr/>
          </p:nvPicPr>
          <p:blipFill>
            <a:blip r:embed="rId3"/>
            <a:stretch/>
          </p:blipFill>
          <p:spPr>
            <a:xfrm>
              <a:off x="5715000" y="2971800"/>
              <a:ext cx="2971800" cy="9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4343400" y="3200400"/>
              <a:ext cx="2438280" cy="30492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533520" y="5638680"/>
            <a:ext cx="6333840" cy="457200"/>
            <a:chOff x="533520" y="5638680"/>
            <a:chExt cx="6333840" cy="457200"/>
          </a:xfrm>
        </p:grpSpPr>
        <p:sp>
          <p:nvSpPr>
            <p:cNvPr id="268" name=""/>
            <p:cNvSpPr/>
            <p:nvPr/>
          </p:nvSpPr>
          <p:spPr>
            <a:xfrm>
              <a:off x="4648320" y="5867280"/>
              <a:ext cx="1828800" cy="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69" name="" descr=""/>
            <p:cNvPicPr/>
            <p:nvPr/>
          </p:nvPicPr>
          <p:blipFill>
            <a:blip r:embed="rId4"/>
            <a:stretch/>
          </p:blipFill>
          <p:spPr>
            <a:xfrm>
              <a:off x="6553080" y="5715000"/>
              <a:ext cx="314280" cy="3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533520" y="5638680"/>
              <a:ext cx="5105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PCO-Server appears yellow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533520" y="3962520"/>
            <a:ext cx="8076960" cy="1447560"/>
            <a:chOff x="533520" y="3962520"/>
            <a:chExt cx="8076960" cy="1447560"/>
          </a:xfrm>
        </p:grpSpPr>
        <p:sp>
          <p:nvSpPr>
            <p:cNvPr id="272" name=""/>
            <p:cNvSpPr/>
            <p:nvPr/>
          </p:nvSpPr>
          <p:spPr>
            <a:xfrm>
              <a:off x="533520" y="3962520"/>
              <a:ext cx="541008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now logged traces/primitives will be replayed in connected PCO-Viewers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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depending on the individual filter settings 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pausing and repositioning are possible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73" name="" descr=""/>
            <p:cNvPicPr/>
            <p:nvPr/>
          </p:nvPicPr>
          <p:blipFill>
            <a:blip r:embed="rId5"/>
            <a:stretch/>
          </p:blipFill>
          <p:spPr>
            <a:xfrm>
              <a:off x="5715000" y="4114800"/>
              <a:ext cx="2895480" cy="9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 flipV="1">
              <a:off x="5791320" y="4952520"/>
              <a:ext cx="1904760" cy="30492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5791320" y="4876920"/>
              <a:ext cx="1066680" cy="30456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filter setup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33240" y="1066680"/>
            <a:ext cx="7936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Trace/primitive filtering is done in two stages: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495680" y="4648320"/>
            <a:ext cx="914400" cy="761760"/>
          </a:xfrm>
          <a:prstGeom prst="foldedCorner">
            <a:avLst>
              <a:gd name="adj" fmla="val 12500"/>
            </a:avLst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069"/>
                </a:solidFill>
                <a:latin typeface="ITC Officina Sans Book"/>
              </a:rPr>
              <a:t>Logfile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-784080" y="2362320"/>
            <a:ext cx="2765160" cy="3581280"/>
            <a:chOff x="-784080" y="2362320"/>
            <a:chExt cx="2765160" cy="3581280"/>
          </a:xfrm>
        </p:grpSpPr>
        <p:sp>
          <p:nvSpPr>
            <p:cNvPr id="280" name=""/>
            <p:cNvSpPr/>
            <p:nvPr/>
          </p:nvSpPr>
          <p:spPr>
            <a:xfrm>
              <a:off x="152280" y="2362320"/>
              <a:ext cx="1295640" cy="3108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447920" y="3200400"/>
              <a:ext cx="533160" cy="14032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03773d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74600" y="2514600"/>
              <a:ext cx="1219320" cy="274320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743200"/>
                <a:gd name="textAreaBottom" fmla="*/ 2743560 h 274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03773d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-784080" y="5486400"/>
              <a:ext cx="2743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54000"/>
            </a:bodyPr>
            <a:p>
              <a:pPr lvl="1" marL="401040" indent="-154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Protocol 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401040" indent="-154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Stack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1371600" y="1676520"/>
            <a:ext cx="4267080" cy="4267080"/>
            <a:chOff x="1371600" y="1676520"/>
            <a:chExt cx="4267080" cy="4267080"/>
          </a:xfrm>
        </p:grpSpPr>
        <p:sp>
          <p:nvSpPr>
            <p:cNvPr id="285" name=""/>
            <p:cNvSpPr/>
            <p:nvPr/>
          </p:nvSpPr>
          <p:spPr>
            <a:xfrm>
              <a:off x="1371600" y="5486400"/>
              <a:ext cx="2743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54000"/>
            </a:bodyPr>
            <a:p>
              <a:pPr lvl="1" marL="401040" indent="-154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PCO-Controller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401040" indent="-154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Matrix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752480" y="1676520"/>
              <a:ext cx="25909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“</a:t>
              </a: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Hard”-Filter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87" name="" descr=""/>
            <p:cNvPicPr/>
            <p:nvPr/>
          </p:nvPicPr>
          <p:blipFill>
            <a:blip r:embed="rId1"/>
            <a:stretch/>
          </p:blipFill>
          <p:spPr>
            <a:xfrm>
              <a:off x="2003400" y="2444760"/>
              <a:ext cx="1922400" cy="296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3951360" y="4648320"/>
              <a:ext cx="533160" cy="76176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1ab843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962520" y="2590920"/>
              <a:ext cx="1371600" cy="761760"/>
            </a:xfrm>
            <a:prstGeom prst="rightArrow">
              <a:avLst>
                <a:gd name="adj1" fmla="val 50000"/>
                <a:gd name="adj2" fmla="val 45014"/>
              </a:avLst>
            </a:prstGeom>
            <a:solidFill>
              <a:srgbClr val="1ab843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962520" y="3733920"/>
              <a:ext cx="1676160" cy="761760"/>
            </a:xfrm>
            <a:prstGeom prst="rightArrow">
              <a:avLst>
                <a:gd name="adj1" fmla="val 50000"/>
                <a:gd name="adj2" fmla="val 55009"/>
              </a:avLst>
            </a:prstGeom>
            <a:solidFill>
              <a:srgbClr val="1ab843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4572000" y="1676520"/>
            <a:ext cx="2971800" cy="4267080"/>
            <a:chOff x="4572000" y="1676520"/>
            <a:chExt cx="2971800" cy="4267080"/>
          </a:xfrm>
        </p:grpSpPr>
        <p:sp>
          <p:nvSpPr>
            <p:cNvPr id="292" name=""/>
            <p:cNvSpPr/>
            <p:nvPr/>
          </p:nvSpPr>
          <p:spPr>
            <a:xfrm>
              <a:off x="4952880" y="1676520"/>
              <a:ext cx="25909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“</a:t>
              </a: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Soft”-Filter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553080" y="2666880"/>
              <a:ext cx="685800" cy="457200"/>
            </a:xfrm>
            <a:prstGeom prst="rightArrow">
              <a:avLst>
                <a:gd name="adj1" fmla="val 50000"/>
                <a:gd name="adj2" fmla="val 37500"/>
              </a:avLst>
            </a:prstGeom>
            <a:solidFill>
              <a:srgbClr val="66ff33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94" name="" descr=""/>
            <p:cNvPicPr/>
            <p:nvPr/>
          </p:nvPicPr>
          <p:blipFill>
            <a:blip r:embed="rId2"/>
            <a:stretch/>
          </p:blipFill>
          <p:spPr>
            <a:xfrm>
              <a:off x="5410080" y="2189160"/>
              <a:ext cx="1144800" cy="154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4572000" y="5486400"/>
              <a:ext cx="2743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54000"/>
            </a:bodyPr>
            <a:p>
              <a:pPr lvl="1" marL="401040" indent="-154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PCO-Viewer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401040" indent="-154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Filter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96" name="" descr=""/>
            <p:cNvPicPr/>
            <p:nvPr/>
          </p:nvPicPr>
          <p:blipFill>
            <a:blip r:embed="rId3"/>
            <a:stretch/>
          </p:blipFill>
          <p:spPr>
            <a:xfrm>
              <a:off x="5715000" y="3809880"/>
              <a:ext cx="1089000" cy="14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6781680" y="4343400"/>
              <a:ext cx="457200" cy="152280"/>
            </a:xfrm>
            <a:prstGeom prst="rightArrow">
              <a:avLst>
                <a:gd name="adj1" fmla="val 50000"/>
                <a:gd name="adj2" fmla="val 75059"/>
              </a:avLst>
            </a:prstGeom>
            <a:solidFill>
              <a:srgbClr val="66ff33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6705720" y="2405160"/>
            <a:ext cx="2361960" cy="3538440"/>
            <a:chOff x="6705720" y="2405160"/>
            <a:chExt cx="2361960" cy="3538440"/>
          </a:xfrm>
        </p:grpSpPr>
        <p:grpSp>
          <p:nvGrpSpPr>
            <p:cNvPr id="299" name=""/>
            <p:cNvGrpSpPr/>
            <p:nvPr/>
          </p:nvGrpSpPr>
          <p:grpSpPr>
            <a:xfrm>
              <a:off x="7238880" y="2405160"/>
              <a:ext cx="1676520" cy="2825640"/>
              <a:chOff x="7238880" y="2405160"/>
              <a:chExt cx="1676520" cy="2825640"/>
            </a:xfrm>
          </p:grpSpPr>
          <p:pic>
            <p:nvPicPr>
              <p:cNvPr id="30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238880" y="4114800"/>
                <a:ext cx="1676520" cy="111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238880" y="2405160"/>
                <a:ext cx="1676520" cy="1071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02" name=""/>
            <p:cNvSpPr/>
            <p:nvPr/>
          </p:nvSpPr>
          <p:spPr>
            <a:xfrm>
              <a:off x="6705720" y="5486400"/>
              <a:ext cx="2361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PCO-Viewers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"/>
          <p:cNvGrpSpPr/>
          <p:nvPr/>
        </p:nvGrpSpPr>
        <p:grpSpPr>
          <a:xfrm>
            <a:off x="838080" y="1306440"/>
            <a:ext cx="3429000" cy="1454400"/>
            <a:chOff x="838080" y="1306440"/>
            <a:chExt cx="3429000" cy="1454400"/>
          </a:xfrm>
        </p:grpSpPr>
        <p:pic>
          <p:nvPicPr>
            <p:cNvPr id="304" name="" descr=""/>
            <p:cNvPicPr/>
            <p:nvPr/>
          </p:nvPicPr>
          <p:blipFill>
            <a:blip r:embed="rId1"/>
            <a:stretch/>
          </p:blipFill>
          <p:spPr>
            <a:xfrm>
              <a:off x="838080" y="1600200"/>
              <a:ext cx="3429000" cy="116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/>
            <p:nvPr/>
          </p:nvSpPr>
          <p:spPr>
            <a:xfrm>
              <a:off x="838080" y="1306440"/>
              <a:ext cx="243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ITC Officina Sans Book"/>
                </a:rPr>
                <a:t>PCO-Controller</a:t>
              </a:r>
              <a:r>
                <a:rPr b="0" lang="de-DE" sz="1400" spc="-1" strike="noStrike">
                  <a:solidFill>
                    <a:srgbClr val="003069"/>
                  </a:solidFill>
                  <a:latin typeface="ITC Officina Sans Book"/>
                </a:rPr>
                <a:t>: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communication setup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2181240" y="4038480"/>
            <a:ext cx="4784760" cy="2438640"/>
            <a:chOff x="2181240" y="4038480"/>
            <a:chExt cx="4784760" cy="2438640"/>
          </a:xfrm>
        </p:grpSpPr>
        <p:sp>
          <p:nvSpPr>
            <p:cNvPr id="308" name=""/>
            <p:cNvSpPr/>
            <p:nvPr/>
          </p:nvSpPr>
          <p:spPr>
            <a:xfrm>
              <a:off x="2181240" y="6095880"/>
              <a:ext cx="4784760" cy="381240"/>
            </a:xfrm>
            <a:prstGeom prst="rect">
              <a:avLst/>
            </a:prstGeom>
            <a:solidFill>
              <a:srgbClr val="b4d9ff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069"/>
                  </a:solidFill>
                  <a:latin typeface="Times New Roman"/>
                </a:rPr>
                <a:t>Protocol stack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55440" y="4038480"/>
              <a:ext cx="3729600" cy="45720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TST (Testinterface)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095640" y="4495680"/>
              <a:ext cx="0" cy="1600200"/>
            </a:xfrm>
            <a:prstGeom prst="line">
              <a:avLst/>
            </a:prstGeom>
            <a:ln w="38160">
              <a:solidFill>
                <a:srgbClr val="00306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rot="16200000">
              <a:off x="2255040" y="5044320"/>
              <a:ext cx="131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069"/>
                  </a:solidFill>
                  <a:latin typeface="Times New Roman"/>
                </a:rPr>
                <a:t>Serial cable 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14200" y="4952880"/>
              <a:ext cx="1688760" cy="60984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069"/>
                  </a:solidFill>
                  <a:latin typeface="Times New Roman"/>
                </a:rPr>
                <a:t>Multiplexer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558760" y="4495680"/>
              <a:ext cx="0" cy="457200"/>
            </a:xfrm>
            <a:prstGeom prst="line">
              <a:avLst/>
            </a:prstGeom>
            <a:ln w="38160">
              <a:solidFill>
                <a:srgbClr val="003069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558760" y="5562720"/>
              <a:ext cx="0" cy="533160"/>
            </a:xfrm>
            <a:prstGeom prst="line">
              <a:avLst/>
            </a:prstGeom>
            <a:ln w="38160">
              <a:solidFill>
                <a:srgbClr val="00306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728880" y="4495680"/>
              <a:ext cx="0" cy="1600200"/>
            </a:xfrm>
            <a:prstGeom prst="line">
              <a:avLst/>
            </a:prstGeom>
            <a:ln w="38160">
              <a:solidFill>
                <a:srgbClr val="003069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6200000">
              <a:off x="3069360" y="5108760"/>
              <a:ext cx="98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069"/>
                  </a:solidFill>
                  <a:latin typeface="Times New Roman"/>
                </a:rPr>
                <a:t>Network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4419360" y="4495680"/>
              <a:ext cx="12960" cy="1594080"/>
            </a:xfrm>
            <a:prstGeom prst="line">
              <a:avLst/>
            </a:prstGeom>
            <a:ln w="38160">
              <a:solidFill>
                <a:srgbClr val="003069"/>
              </a:solidFill>
              <a:prstDash val="lgDashDot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16200000">
              <a:off x="3431520" y="5130360"/>
              <a:ext cx="163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069"/>
                  </a:solidFill>
                  <a:latin typeface="Times New Roman"/>
                </a:rPr>
                <a:t>Shared memory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5063760" y="3581280"/>
            <a:ext cx="3728880" cy="1981440"/>
            <a:chOff x="5063760" y="3581280"/>
            <a:chExt cx="3728880" cy="1981440"/>
          </a:xfrm>
        </p:grpSpPr>
        <p:sp>
          <p:nvSpPr>
            <p:cNvPr id="320" name=""/>
            <p:cNvSpPr/>
            <p:nvPr/>
          </p:nvSpPr>
          <p:spPr>
            <a:xfrm flipH="1">
              <a:off x="5063760" y="3657600"/>
              <a:ext cx="281160" cy="380880"/>
            </a:xfrm>
            <a:prstGeom prst="line">
              <a:avLst/>
            </a:prstGeom>
            <a:ln w="28440">
              <a:solidFill>
                <a:srgbClr val="cc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6400440" y="3581280"/>
              <a:ext cx="492480" cy="1447920"/>
            </a:xfrm>
            <a:prstGeom prst="line">
              <a:avLst/>
            </a:prstGeom>
            <a:ln w="28440">
              <a:solidFill>
                <a:srgbClr val="cc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400440" y="4572000"/>
              <a:ext cx="239220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87000"/>
            </a:bodyPr>
            <a:p>
              <a:pPr lvl="1" marL="646200" indent="-24840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configuration of test interface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646200" indent="-24840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evtl. start of extra tools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490680" y="762120"/>
            <a:ext cx="8196120" cy="3200400"/>
            <a:chOff x="490680" y="762120"/>
            <a:chExt cx="8196120" cy="3200400"/>
          </a:xfrm>
        </p:grpSpPr>
        <p:sp>
          <p:nvSpPr>
            <p:cNvPr id="324" name=""/>
            <p:cNvSpPr/>
            <p:nvPr/>
          </p:nvSpPr>
          <p:spPr>
            <a:xfrm>
              <a:off x="1828800" y="2286000"/>
              <a:ext cx="2673360" cy="457200"/>
            </a:xfrm>
            <a:prstGeom prst="line">
              <a:avLst/>
            </a:prstGeom>
            <a:ln w="3816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90680" y="2971800"/>
              <a:ext cx="358920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selection of mode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secification of individual parameters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326" name="" descr=""/>
            <p:cNvPicPr/>
            <p:nvPr/>
          </p:nvPicPr>
          <p:blipFill>
            <a:blip r:embed="rId2"/>
            <a:stretch/>
          </p:blipFill>
          <p:spPr>
            <a:xfrm>
              <a:off x="4572000" y="762120"/>
              <a:ext cx="4114800" cy="3003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communication setup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7086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for convenience  several default configurations exist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63400" y="1219320"/>
            <a:ext cx="7880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2971800" y="1676520"/>
            <a:ext cx="4876920" cy="1761840"/>
          </a:xfrm>
          <a:prstGeom prst="rect">
            <a:avLst/>
          </a:prstGeom>
          <a:ln w="0">
            <a:noFill/>
          </a:ln>
        </p:spPr>
      </p:pic>
      <p:grpSp>
        <p:nvGrpSpPr>
          <p:cNvPr id="331" name=""/>
          <p:cNvGrpSpPr/>
          <p:nvPr/>
        </p:nvGrpSpPr>
        <p:grpSpPr>
          <a:xfrm>
            <a:off x="338040" y="3657600"/>
            <a:ext cx="8805960" cy="2514600"/>
            <a:chOff x="338040" y="3657600"/>
            <a:chExt cx="8805960" cy="2514600"/>
          </a:xfrm>
        </p:grpSpPr>
        <p:grpSp>
          <p:nvGrpSpPr>
            <p:cNvPr id="332" name=""/>
            <p:cNvGrpSpPr/>
            <p:nvPr/>
          </p:nvGrpSpPr>
          <p:grpSpPr>
            <a:xfrm>
              <a:off x="457200" y="3657600"/>
              <a:ext cx="8686800" cy="2514600"/>
              <a:chOff x="457200" y="3657600"/>
              <a:chExt cx="8686800" cy="2514600"/>
            </a:xfrm>
          </p:grpSpPr>
          <p:pic>
            <p:nvPicPr>
              <p:cNvPr id="33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971800" y="4114800"/>
                <a:ext cx="2362320" cy="166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4" name=""/>
              <p:cNvSpPr/>
              <p:nvPr/>
            </p:nvSpPr>
            <p:spPr>
              <a:xfrm>
                <a:off x="457200" y="3657600"/>
                <a:ext cx="79358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lvl="1" marL="743040" indent="-285840">
                  <a:lnSpc>
                    <a:spcPct val="100000"/>
                  </a:lnSpc>
                  <a:spcBef>
                    <a:spcPts val="499"/>
                  </a:spcBef>
                  <a:buClr>
                    <a:srgbClr val="003069"/>
                  </a:buClr>
                  <a:buFont typeface="Wingdings" charset="2"/>
                  <a:buChar char="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069"/>
                    </a:solidFill>
                    <a:latin typeface="Arial"/>
                  </a:rPr>
                  <a:t>it has to be ensured that a matching ccddata-DLL is selected</a:t>
                </a:r>
                <a:endParaRPr b="0" lang="en-US" sz="20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marL="343080" indent="-343080">
                  <a:lnSpc>
                    <a:spcPct val="100000"/>
                  </a:lnSpc>
                  <a:spcBef>
                    <a:spcPts val="499"/>
                  </a:spcBef>
                  <a:buClr>
                    <a:srgbClr val="003069"/>
                  </a:buClr>
                  <a:buFont typeface="Wingdings" charset="2"/>
                  <a:buChar char="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pic>
            <p:nvPicPr>
              <p:cNvPr id="33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143000" y="4038480"/>
                <a:ext cx="1344600" cy="213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6" name=""/>
              <p:cNvSpPr/>
              <p:nvPr/>
            </p:nvSpPr>
            <p:spPr>
              <a:xfrm flipV="1">
                <a:off x="2133720" y="5409720"/>
                <a:ext cx="761760" cy="685800"/>
              </a:xfrm>
              <a:prstGeom prst="line">
                <a:avLst/>
              </a:prstGeom>
              <a:ln w="3816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029200" y="4114800"/>
                <a:ext cx="4114800" cy="198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 lvl="2" marL="1131480" indent="-226080">
                  <a:lnSpc>
                    <a:spcPct val="100000"/>
                  </a:lnSpc>
                  <a:spcBef>
                    <a:spcPts val="451"/>
                  </a:spcBef>
                  <a:buClr>
                    <a:srgbClr val="003069"/>
                  </a:buClr>
                  <a:buFont typeface="Wingdings" charset="2"/>
                  <a:buChar char=""/>
                  <a:tabLst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069"/>
                    </a:solidFill>
                    <a:latin typeface="Arial"/>
                  </a:rPr>
                  <a:t>either a DLL which has been delivered together with the PS-image</a:t>
                </a:r>
                <a:endParaRPr b="0" lang="en-US" sz="18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lvl="2" marL="1131480" indent="-226080">
                  <a:lnSpc>
                    <a:spcPct val="100000"/>
                  </a:lnSpc>
                  <a:spcBef>
                    <a:spcPts val="400"/>
                  </a:spcBef>
                  <a:buClr>
                    <a:srgbClr val="003069"/>
                  </a:buClr>
                  <a:buFont typeface="Wingdings" charset="2"/>
                  <a:buChar char=""/>
                  <a:tabLst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3069"/>
                    </a:solidFill>
                    <a:latin typeface="Arial"/>
                  </a:rPr>
                  <a:t>or a prebuild DLL from ...\ccddata\  (</a:t>
                </a:r>
                <a:r>
                  <a:rPr b="0" lang="de-DE" sz="1600" spc="-1" strike="noStrike">
                    <a:solidFill>
                      <a:srgbClr val="003069"/>
                    </a:solidFill>
                    <a:latin typeface="Arial"/>
                  </a:rPr>
                  <a:t>e.g. </a:t>
                </a:r>
                <a:r>
                  <a:rPr b="0" lang="en-US" sz="1600" spc="-1" strike="noStrike">
                    <a:solidFill>
                      <a:srgbClr val="003069"/>
                    </a:solidFill>
                    <a:latin typeface="Arial"/>
                  </a:rPr>
                  <a:t>ccddata_G23M_333_S64.dll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003069"/>
                    </a:solidFill>
                    <a:latin typeface="Arial"/>
                  </a:rPr>
                  <a:t>for older B-Sample-Releases)</a:t>
                </a:r>
                <a:endParaRPr b="0" lang="en-US" sz="16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V="1">
                <a:off x="4419720" y="4800600"/>
                <a:ext cx="1523880" cy="380880"/>
              </a:xfrm>
              <a:prstGeom prst="line">
                <a:avLst/>
              </a:prstGeom>
              <a:ln w="3816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  <p:sp>
          <p:nvSpPr>
            <p:cNvPr id="339" name=""/>
            <p:cNvSpPr/>
            <p:nvPr/>
          </p:nvSpPr>
          <p:spPr>
            <a:xfrm>
              <a:off x="338040" y="4295880"/>
              <a:ext cx="99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ITC Officina Sans Book"/>
                </a:rPr>
                <a:t>PCO-Viewer: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"/>
          <p:cNvGrpSpPr/>
          <p:nvPr/>
        </p:nvGrpSpPr>
        <p:grpSpPr>
          <a:xfrm>
            <a:off x="420840" y="1800360"/>
            <a:ext cx="8551800" cy="4387680"/>
            <a:chOff x="420840" y="1800360"/>
            <a:chExt cx="8551800" cy="4387680"/>
          </a:xfrm>
        </p:grpSpPr>
        <p:sp>
          <p:nvSpPr>
            <p:cNvPr id="341" name=""/>
            <p:cNvSpPr/>
            <p:nvPr/>
          </p:nvSpPr>
          <p:spPr>
            <a:xfrm>
              <a:off x="420840" y="1981080"/>
              <a:ext cx="2533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838080" indent="-38088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choose COM port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342" name="" descr=""/>
            <p:cNvPicPr/>
            <p:nvPr/>
          </p:nvPicPr>
          <p:blipFill>
            <a:blip r:embed="rId1"/>
            <a:stretch/>
          </p:blipFill>
          <p:spPr>
            <a:xfrm>
              <a:off x="6705720" y="5029200"/>
              <a:ext cx="1444680" cy="95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" descr=""/>
            <p:cNvPicPr/>
            <p:nvPr/>
          </p:nvPicPr>
          <p:blipFill>
            <a:blip r:embed="rId2"/>
            <a:stretch/>
          </p:blipFill>
          <p:spPr>
            <a:xfrm>
              <a:off x="4952880" y="1800360"/>
              <a:ext cx="4019760" cy="26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 flipH="1" flipV="1">
              <a:off x="6629040" y="4495320"/>
              <a:ext cx="228600" cy="762120"/>
            </a:xfrm>
            <a:prstGeom prst="line">
              <a:avLst/>
            </a:prstGeom>
            <a:ln w="936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345" name="" descr=""/>
            <p:cNvPicPr/>
            <p:nvPr/>
          </p:nvPicPr>
          <p:blipFill>
            <a:blip r:embed="rId3"/>
            <a:stretch/>
          </p:blipFill>
          <p:spPr>
            <a:xfrm>
              <a:off x="8077320" y="5943600"/>
              <a:ext cx="819000" cy="244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communication setup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77720" y="914040"/>
            <a:ext cx="810432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Communication via TraceMultiplexer: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if using the TraceMultiplexer for the first time it has to be configured: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63400" y="1219320"/>
            <a:ext cx="7880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361040" y="4495680"/>
            <a:ext cx="25333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83808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457200" y="5638680"/>
            <a:ext cx="8439120" cy="762120"/>
            <a:chOff x="457200" y="5638680"/>
            <a:chExt cx="8439120" cy="762120"/>
          </a:xfrm>
        </p:grpSpPr>
        <p:sp>
          <p:nvSpPr>
            <p:cNvPr id="351" name=""/>
            <p:cNvSpPr/>
            <p:nvPr/>
          </p:nvSpPr>
          <p:spPr>
            <a:xfrm>
              <a:off x="457200" y="5638680"/>
              <a:ext cx="46432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the green tray symbol signals a successful connection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343400" y="6019920"/>
              <a:ext cx="3733920" cy="75960"/>
            </a:xfrm>
            <a:prstGeom prst="line">
              <a:avLst/>
            </a:prstGeom>
            <a:ln w="936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353" name="" descr=""/>
            <p:cNvPicPr/>
            <p:nvPr/>
          </p:nvPicPr>
          <p:blipFill>
            <a:blip r:embed="rId4"/>
            <a:stretch/>
          </p:blipFill>
          <p:spPr>
            <a:xfrm>
              <a:off x="8077320" y="5943600"/>
              <a:ext cx="819000" cy="244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4" name=""/>
          <p:cNvGrpSpPr/>
          <p:nvPr/>
        </p:nvGrpSpPr>
        <p:grpSpPr>
          <a:xfrm>
            <a:off x="412920" y="1752480"/>
            <a:ext cx="6216480" cy="3810240"/>
            <a:chOff x="412920" y="1752480"/>
            <a:chExt cx="6216480" cy="3810240"/>
          </a:xfrm>
        </p:grpSpPr>
        <p:pic>
          <p:nvPicPr>
            <p:cNvPr id="355" name="" descr=""/>
            <p:cNvPicPr/>
            <p:nvPr/>
          </p:nvPicPr>
          <p:blipFill>
            <a:blip r:embed="rId5"/>
            <a:stretch/>
          </p:blipFill>
          <p:spPr>
            <a:xfrm>
              <a:off x="2819520" y="1752480"/>
              <a:ext cx="3276360" cy="381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 flipH="1">
              <a:off x="6095880" y="3352680"/>
              <a:ext cx="533520" cy="228600"/>
            </a:xfrm>
            <a:prstGeom prst="line">
              <a:avLst/>
            </a:prstGeom>
            <a:ln w="936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12920" y="3048120"/>
              <a:ext cx="2533320" cy="19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838080" indent="-38088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Arial"/>
                <a:buAutoNum type="arabicPeriod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select baudrate</a:t>
              </a:r>
              <a:br>
                <a:rPr sz="1600"/>
              </a:b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of 115200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838080" indent="-38088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Arial"/>
                <a:buAutoNum type="arabicPeriod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838080" indent="-38088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Arial"/>
                <a:buAutoNum type="arabicPeriod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disable flow control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General Concept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778f"/>
                </a:solidFill>
                <a:latin typeface="Arial"/>
              </a:rPr>
              <a:t>Usage of the Tools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6699ff"/>
                </a:solidFill>
                <a:uFillTx/>
                <a:latin typeface="Arial"/>
                <a:hlinkClick r:id="rId1" action="ppaction://hlinksldjump"/>
              </a:rPr>
              <a:t>Overview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6699ff"/>
                </a:solidFill>
                <a:uFillTx/>
                <a:latin typeface="Arial"/>
                <a:hlinkClick r:id="rId2" action="ppaction://hlinksldjump"/>
              </a:rPr>
              <a:t>Logging and Replay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6699ff"/>
                </a:solidFill>
                <a:uFillTx/>
                <a:latin typeface="Arial"/>
                <a:hlinkClick r:id="rId3" action="ppaction://hlinksldjump"/>
              </a:rPr>
              <a:t>Filter Setup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6699ff"/>
                </a:solidFill>
                <a:uFillTx/>
                <a:latin typeface="Arial"/>
                <a:hlinkClick r:id="rId4" action="ppaction://hlinksldjump"/>
              </a:rPr>
              <a:t>Communication Setup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6699ff"/>
                </a:solidFill>
                <a:uFillTx/>
                <a:latin typeface="Arial"/>
                <a:hlinkClick r:id="rId5" action="ppaction://hlinksldjump"/>
              </a:rPr>
              <a:t>Parameter Observation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6699ff"/>
                </a:solidFill>
                <a:uFillTx/>
                <a:latin typeface="Arial"/>
                <a:hlinkClick r:id="rId6" action="ppaction://hlinksldjump"/>
              </a:rPr>
              <a:t>Important Files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778f"/>
                </a:solidFill>
                <a:latin typeface="Arial"/>
              </a:rPr>
              <a:t>Background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6699ff"/>
                </a:solidFill>
                <a:uFillTx/>
                <a:latin typeface="Arial"/>
                <a:hlinkClick r:id="rId7" action="ppaction://hlinksldjump"/>
              </a:rPr>
              <a:t>Dataflow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6699ff"/>
                </a:solidFill>
                <a:uFillTx/>
                <a:latin typeface="Arial"/>
                <a:hlinkClick r:id="rId8" action="ppaction://hlinksldjump"/>
              </a:rPr>
              <a:t>Interpreting/Decoding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6699ff"/>
                </a:solidFill>
                <a:uFillTx/>
                <a:latin typeface="Arial"/>
                <a:hlinkClick r:id="rId9" action="ppaction://hlinksldjump"/>
              </a:rPr>
              <a:t>Software Layers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6699ff"/>
                </a:solidFill>
                <a:uFillTx/>
                <a:latin typeface="Arial"/>
                <a:hlinkClick r:id="rId10" action="ppaction://hlinksldjump"/>
              </a:rPr>
              <a:t>Configuration Files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parameter observation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77800" y="914040"/>
            <a:ext cx="793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Parameter observation is a special feature of PCO-Viewer ...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069"/>
                </a:solidFill>
                <a:latin typeface="Arial"/>
              </a:rPr>
              <a:t>allowing to filter specific strings out of traces</a:t>
            </a:r>
            <a:endParaRPr b="0" lang="en-US" sz="16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069"/>
                </a:solidFill>
                <a:latin typeface="Arial"/>
              </a:rPr>
              <a:t>... and displaying them in an extra sub-window</a:t>
            </a:r>
            <a:endParaRPr b="0" lang="en-US" sz="1600" spc="-1" strike="noStrike">
              <a:solidFill>
                <a:srgbClr val="003069"/>
              </a:solidFill>
              <a:latin typeface="Arial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87520" y="2057400"/>
            <a:ext cx="8092800" cy="1143000"/>
            <a:chOff x="587520" y="2057400"/>
            <a:chExt cx="8092800" cy="1143000"/>
          </a:xfrm>
        </p:grpSpPr>
        <p:sp>
          <p:nvSpPr>
            <p:cNvPr id="361" name=""/>
            <p:cNvSpPr/>
            <p:nvPr/>
          </p:nvSpPr>
          <p:spPr>
            <a:xfrm>
              <a:off x="587520" y="2057400"/>
              <a:ext cx="75657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First you have to …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find out how traces containing the wanted parameter look like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… </a:t>
              </a: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or request specific traces from the developer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362" name="" descr=""/>
            <p:cNvPicPr/>
            <p:nvPr/>
          </p:nvPicPr>
          <p:blipFill>
            <a:blip r:embed="rId1"/>
            <a:stretch/>
          </p:blipFill>
          <p:spPr>
            <a:xfrm>
              <a:off x="4114800" y="2133720"/>
              <a:ext cx="4565520" cy="2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"/>
          <p:cNvSpPr/>
          <p:nvPr/>
        </p:nvSpPr>
        <p:spPr>
          <a:xfrm>
            <a:off x="609480" y="3124080"/>
            <a:ext cx="54864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Afterwards you must …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translate an example trace into a mask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… </a:t>
            </a: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where the actual parameter values are exchanged by a placeholder starting and ending with ‘%’-characters,</a:t>
            </a:r>
            <a:br>
              <a:rPr sz="1600"/>
            </a:b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for example:  “--- IN:%Last primitive%-”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609480" y="3114720"/>
            <a:ext cx="8155080" cy="2981160"/>
            <a:chOff x="609480" y="3114720"/>
            <a:chExt cx="8155080" cy="2981160"/>
          </a:xfrm>
        </p:grpSpPr>
        <p:pic>
          <p:nvPicPr>
            <p:cNvPr id="365" name="" descr=""/>
            <p:cNvPicPr/>
            <p:nvPr/>
          </p:nvPicPr>
          <p:blipFill>
            <a:blip r:embed="rId2"/>
            <a:stretch/>
          </p:blipFill>
          <p:spPr>
            <a:xfrm>
              <a:off x="6248520" y="3114720"/>
              <a:ext cx="2516040" cy="29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609480" y="5019840"/>
              <a:ext cx="54864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5000"/>
            </a:bodyPr>
            <a:p>
              <a:pPr marL="291600" indent="-29160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This mask can now be added to the list …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631440" indent="-24264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by opening the options dialog, e.g., via the menu entry “view/options…”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631440" indent="-24264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... and together with more settings, like the entity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parameter observation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85720" y="5181480"/>
            <a:ext cx="7935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Attention! The sender entities of the expected traces containing parameters have to be in the watch list of the PCO-Viewer filter! 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485640" y="990720"/>
            <a:ext cx="7755120" cy="2638440"/>
            <a:chOff x="485640" y="990720"/>
            <a:chExt cx="7755120" cy="2638440"/>
          </a:xfrm>
        </p:grpSpPr>
        <p:sp>
          <p:nvSpPr>
            <p:cNvPr id="370" name=""/>
            <p:cNvSpPr/>
            <p:nvPr/>
          </p:nvSpPr>
          <p:spPr>
            <a:xfrm>
              <a:off x="609480" y="990720"/>
              <a:ext cx="51818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2000"/>
            </a:bodyPr>
            <a:p>
              <a:pPr marL="315360" indent="-31536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Now the latest parameter values ...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683280" indent="-26280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can be watched in the special sub-window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683280" indent="-26280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... together with their historical values depending on the setting in the options dialog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371" name="" descr=""/>
            <p:cNvPicPr/>
            <p:nvPr/>
          </p:nvPicPr>
          <p:blipFill>
            <a:blip r:embed="rId1"/>
            <a:stretch/>
          </p:blipFill>
          <p:spPr>
            <a:xfrm>
              <a:off x="6172200" y="1295280"/>
              <a:ext cx="206856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" descr=""/>
            <p:cNvPicPr/>
            <p:nvPr/>
          </p:nvPicPr>
          <p:blipFill>
            <a:blip r:embed="rId2"/>
            <a:stretch/>
          </p:blipFill>
          <p:spPr>
            <a:xfrm>
              <a:off x="485640" y="2438280"/>
              <a:ext cx="4391280" cy="11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/>
            <p:nvPr/>
          </p:nvSpPr>
          <p:spPr>
            <a:xfrm flipV="1">
              <a:off x="5562720" y="1523520"/>
              <a:ext cx="609480" cy="381240"/>
            </a:xfrm>
            <a:prstGeom prst="line">
              <a:avLst/>
            </a:prstGeom>
            <a:ln w="3816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5105520" y="2514600"/>
            <a:ext cx="3744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Arial"/>
              </a:rPr>
              <a:t>Values in this grid ...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Arial"/>
              </a:rPr>
              <a:t>can be copied to clipboard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Arial"/>
              </a:rPr>
              <a:t>... and sorted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457200" y="3809880"/>
            <a:ext cx="8393040" cy="914400"/>
            <a:chOff x="457200" y="3809880"/>
            <a:chExt cx="8393040" cy="914400"/>
          </a:xfrm>
        </p:grpSpPr>
        <p:pic>
          <p:nvPicPr>
            <p:cNvPr id="376" name="" descr=""/>
            <p:cNvPicPr/>
            <p:nvPr/>
          </p:nvPicPr>
          <p:blipFill>
            <a:blip r:embed="rId3"/>
            <a:stretch/>
          </p:blipFill>
          <p:spPr>
            <a:xfrm>
              <a:off x="457200" y="4024440"/>
              <a:ext cx="4419720" cy="6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"/>
            <p:cNvSpPr/>
            <p:nvPr/>
          </p:nvSpPr>
          <p:spPr>
            <a:xfrm>
              <a:off x="5105520" y="3809880"/>
              <a:ext cx="37447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93000"/>
            </a:bodyPr>
            <a:p>
              <a:pPr marL="318960" indent="-31896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3069"/>
                  </a:solidFill>
                  <a:latin typeface="Arial"/>
                </a:rPr>
                <a:t>A click on a value ...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690840" indent="-26568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3069"/>
                  </a:solidFill>
                  <a:latin typeface="Arial"/>
                </a:rPr>
                <a:t>moves the main entry list to the corresponding trace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690840" indent="-26568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important files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77800" y="914400"/>
            <a:ext cx="79358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Volatile files: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have to be build together with the used protocol stack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069"/>
                </a:solidFill>
                <a:latin typeface="Arial"/>
              </a:rPr>
              <a:t>ccddata_dll.dll </a:t>
            </a: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(database with primitive symbols)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069"/>
                </a:solidFill>
                <a:latin typeface="Arial"/>
              </a:rPr>
              <a:t>str2ind.tab </a:t>
            </a: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(table with “ID &lt;-&gt; trace text” associations)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85720" y="2286000"/>
            <a:ext cx="793584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Detailed documentation: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069"/>
                </a:solidFill>
                <a:latin typeface="Arial"/>
              </a:rPr>
              <a:t>pco_userguide.doc </a:t>
            </a:r>
            <a:br>
              <a:rPr sz="1800"/>
            </a:b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(ClearCase: \gpf\DOC\pco\pco_userguide.doc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069"/>
                </a:solidFill>
                <a:latin typeface="Arial"/>
              </a:rPr>
              <a:t>xpan_userguide.doc</a:t>
            </a: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(ClearCase: \gpf\DOC\xpanel\xpan_userguide.doc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069"/>
                </a:solidFill>
                <a:latin typeface="Arial"/>
              </a:rPr>
              <a:t>xPanel_plus_design_spec.doc</a:t>
            </a:r>
            <a:br>
              <a:rPr sz="1800"/>
            </a:b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(ClearCase: \gpf\DOC\xpanel\xPanel_plus_design_spec.doc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2" marL="1040040" indent="-20772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contains requirements for a graphical display-driver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069"/>
                </a:solidFill>
                <a:latin typeface="Arial"/>
              </a:rPr>
              <a:t>frame_users_guide.doc</a:t>
            </a:r>
            <a:br>
              <a:rPr sz="1800"/>
            </a:b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(ClearCase: \gpf\DOC\frame_users_guide.doc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2" marL="1040040" indent="-20772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contains description of FRAME system primitives</a:t>
            </a: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069"/>
                </a:solidFill>
                <a:latin typeface="Arial"/>
              </a:rPr>
              <a:t>pco_intro.pps </a:t>
            </a: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(this document)</a:t>
            </a:r>
            <a:r>
              <a:rPr b="1" lang="en-US" sz="1800" spc="-1" strike="noStrike">
                <a:solidFill>
                  <a:srgbClr val="003069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(ClearCase: \gpf\DOC\pco\pco_intro.pps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778f"/>
                </a:solidFill>
                <a:latin typeface="Arial"/>
              </a:rPr>
              <a:t>General Concept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778f"/>
                </a:solidFill>
                <a:latin typeface="Arial"/>
              </a:rPr>
              <a:t>Usage of the Tools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1778f"/>
                </a:solidFill>
                <a:latin typeface="Arial"/>
              </a:rPr>
              <a:t>Overview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1778f"/>
                </a:solidFill>
                <a:latin typeface="Arial"/>
              </a:rPr>
              <a:t>Logging and Replay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1778f"/>
                </a:solidFill>
                <a:latin typeface="Arial"/>
              </a:rPr>
              <a:t>Filter Setup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1778f"/>
                </a:solidFill>
                <a:latin typeface="Arial"/>
              </a:rPr>
              <a:t>Communication Setup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1778f"/>
                </a:solidFill>
                <a:latin typeface="Arial"/>
              </a:rPr>
              <a:t>Parameter Observation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1778f"/>
                </a:solidFill>
                <a:latin typeface="Arial"/>
              </a:rPr>
              <a:t>Important Files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Background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Dataflow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Interpreting/Decoding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Software Layers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Configuration Files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data flo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52080" y="914400"/>
            <a:ext cx="83026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351000" y="3505320"/>
            <a:ext cx="6735240" cy="2760840"/>
            <a:chOff x="351000" y="3505320"/>
            <a:chExt cx="6735240" cy="2760840"/>
          </a:xfrm>
        </p:grpSpPr>
        <p:sp>
          <p:nvSpPr>
            <p:cNvPr id="386" name=""/>
            <p:cNvSpPr/>
            <p:nvPr/>
          </p:nvSpPr>
          <p:spPr>
            <a:xfrm>
              <a:off x="965160" y="4873680"/>
              <a:ext cx="988920" cy="84132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TST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351000" y="3505320"/>
              <a:ext cx="6735240" cy="2760840"/>
              <a:chOff x="351000" y="3505320"/>
              <a:chExt cx="6735240" cy="2760840"/>
            </a:xfrm>
          </p:grpSpPr>
          <p:sp>
            <p:nvSpPr>
              <p:cNvPr id="388" name=""/>
              <p:cNvSpPr/>
              <p:nvPr/>
            </p:nvSpPr>
            <p:spPr>
              <a:xfrm>
                <a:off x="351000" y="3505320"/>
                <a:ext cx="1600200" cy="2209680"/>
              </a:xfrm>
              <a:prstGeom prst="rect">
                <a:avLst/>
              </a:prstGeom>
              <a:solidFill>
                <a:srgbClr val="00ff00">
                  <a:alpha val="50000"/>
                </a:srgbClr>
              </a:solidFill>
              <a:ln w="936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Protocol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Stack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370320" y="4800600"/>
                <a:ext cx="849960" cy="914400"/>
              </a:xfrm>
              <a:prstGeom prst="rect">
                <a:avLst/>
              </a:prstGeom>
              <a:solidFill>
                <a:srgbClr val="00ff00">
                  <a:alpha val="50000"/>
                </a:srgbClr>
              </a:solidFill>
              <a:ln w="936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TST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372680" y="5867280"/>
                <a:ext cx="978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069"/>
                    </a:solidFill>
                    <a:latin typeface="Arial"/>
                  </a:rPr>
                  <a:t>Target</a:t>
                </a:r>
                <a:endParaRPr b="0" lang="en-US" sz="20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410800" y="5867280"/>
                <a:ext cx="1675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069"/>
                    </a:solidFill>
                    <a:latin typeface="Arial"/>
                  </a:rPr>
                  <a:t>Test system</a:t>
                </a:r>
                <a:endParaRPr b="0" lang="en-US" sz="20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968840" y="5105520"/>
                <a:ext cx="1407240" cy="0"/>
              </a:xfrm>
              <a:prstGeom prst="line">
                <a:avLst/>
              </a:prstGeom>
              <a:ln w="57240">
                <a:solidFill>
                  <a:srgbClr val="003069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166480" y="4719600"/>
                <a:ext cx="1143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3069"/>
                    </a:solidFill>
                    <a:latin typeface="Arial"/>
                  </a:rPr>
                  <a:t>primitives</a:t>
                </a:r>
                <a:endParaRPr b="0" lang="en-US" sz="18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278440" y="5405400"/>
                <a:ext cx="802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3069"/>
                    </a:solidFill>
                    <a:latin typeface="Arial"/>
                  </a:rPr>
                  <a:t>traces</a:t>
                </a:r>
                <a:endParaRPr b="0" lang="en-US" sz="18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968840" y="5410080"/>
                <a:ext cx="1407240" cy="0"/>
              </a:xfrm>
              <a:prstGeom prst="line">
                <a:avLst/>
              </a:prstGeom>
              <a:ln w="5724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6" name=""/>
          <p:cNvGrpSpPr/>
          <p:nvPr/>
        </p:nvGrpSpPr>
        <p:grpSpPr>
          <a:xfrm>
            <a:off x="7667640" y="4800600"/>
            <a:ext cx="1196640" cy="914400"/>
            <a:chOff x="7667640" y="4800600"/>
            <a:chExt cx="1196640" cy="914400"/>
          </a:xfrm>
        </p:grpSpPr>
        <p:sp>
          <p:nvSpPr>
            <p:cNvPr id="397" name=""/>
            <p:cNvSpPr/>
            <p:nvPr/>
          </p:nvSpPr>
          <p:spPr>
            <a:xfrm>
              <a:off x="8019720" y="4800600"/>
              <a:ext cx="844560" cy="91440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PCO </a:t>
              </a:r>
              <a:br>
                <a:rPr sz="2000"/>
              </a:b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logfile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667640" y="5486400"/>
              <a:ext cx="352080" cy="0"/>
            </a:xfrm>
            <a:prstGeom prst="line">
              <a:avLst/>
            </a:prstGeom>
            <a:ln w="936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631800" y="1143000"/>
            <a:ext cx="6401520" cy="3504960"/>
            <a:chOff x="631800" y="1143000"/>
            <a:chExt cx="6401520" cy="3504960"/>
          </a:xfrm>
        </p:grpSpPr>
        <p:sp>
          <p:nvSpPr>
            <p:cNvPr id="400" name=""/>
            <p:cNvSpPr/>
            <p:nvPr/>
          </p:nvSpPr>
          <p:spPr>
            <a:xfrm>
              <a:off x="5300280" y="3375000"/>
              <a:ext cx="1282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3069"/>
                  </a:solidFill>
                  <a:latin typeface="Arial"/>
                </a:rPr>
                <a:t>duplicated </a:t>
              </a:r>
              <a:br>
                <a:rPr sz="1800"/>
              </a:br>
              <a:r>
                <a:rPr b="0" lang="de-DE" sz="1800" spc="-1" strike="noStrike">
                  <a:solidFill>
                    <a:srgbClr val="003069"/>
                  </a:solidFill>
                  <a:latin typeface="Arial"/>
                </a:rPr>
                <a:t>primitives,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3069"/>
                  </a:solidFill>
                  <a:latin typeface="Arial"/>
                </a:rPr>
                <a:t>traces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631800" y="1143000"/>
              <a:ext cx="6401520" cy="3504960"/>
              <a:chOff x="631800" y="1143000"/>
              <a:chExt cx="6401520" cy="3504960"/>
            </a:xfrm>
          </p:grpSpPr>
          <p:grpSp>
            <p:nvGrpSpPr>
              <p:cNvPr id="402" name=""/>
              <p:cNvGrpSpPr/>
              <p:nvPr/>
            </p:nvGrpSpPr>
            <p:grpSpPr>
              <a:xfrm>
                <a:off x="4290120" y="1143000"/>
                <a:ext cx="2743200" cy="1752120"/>
                <a:chOff x="4290120" y="1143000"/>
                <a:chExt cx="2743200" cy="175212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4290120" y="1362240"/>
                  <a:ext cx="2476440" cy="1532880"/>
                </a:xfrm>
                <a:prstGeom prst="rect">
                  <a:avLst/>
                </a:prstGeom>
                <a:solidFill>
                  <a:srgbClr val="000080">
                    <a:alpha val="50000"/>
                  </a:srgbClr>
                </a:solidFill>
                <a:ln w="9360">
                  <a:solidFill>
                    <a:srgbClr val="0030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Arial"/>
                    </a:rPr>
                    <a:t>PCO</a:t>
                  </a:r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Arial"/>
                    </a:rPr>
                    <a:t>view</a:t>
                  </a:r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4581000" y="1143000"/>
                  <a:ext cx="2452320" cy="1533240"/>
                </a:xfrm>
                <a:prstGeom prst="rect">
                  <a:avLst/>
                </a:prstGeom>
                <a:solidFill>
                  <a:srgbClr val="000080"/>
                </a:solidFill>
                <a:ln w="9360">
                  <a:solidFill>
                    <a:srgbClr val="0030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Arial"/>
                    </a:rPr>
                    <a:t>PCO</a:t>
                  </a:r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Arial"/>
                    </a:rPr>
                    <a:t>viewers</a:t>
                  </a:r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5" name=""/>
              <p:cNvSpPr/>
              <p:nvPr/>
            </p:nvSpPr>
            <p:spPr>
              <a:xfrm>
                <a:off x="631800" y="1371600"/>
                <a:ext cx="1980000" cy="6094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CCD-data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601360" y="1600200"/>
                <a:ext cx="1688400" cy="0"/>
              </a:xfrm>
              <a:prstGeom prst="line">
                <a:avLst/>
              </a:prstGeom>
              <a:ln w="936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V="1">
                <a:off x="6471000" y="2895120"/>
                <a:ext cx="0" cy="1752840"/>
              </a:xfrm>
              <a:prstGeom prst="line">
                <a:avLst/>
              </a:prstGeom>
              <a:ln w="5724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705040" y="1170000"/>
                <a:ext cx="14684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3069"/>
                    </a:solidFill>
                    <a:latin typeface="Arial"/>
                  </a:rPr>
                  <a:t>decode</a:t>
                </a:r>
                <a:br>
                  <a:rPr sz="2400"/>
                </a:br>
                <a:r>
                  <a:rPr b="0" lang="de-DE" sz="2400" spc="-1" strike="noStrike">
                    <a:solidFill>
                      <a:srgbClr val="003069"/>
                    </a:solidFill>
                    <a:latin typeface="Arial"/>
                  </a:rPr>
                  <a:t>interprete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9" name=""/>
          <p:cNvGrpSpPr/>
          <p:nvPr/>
        </p:nvGrpSpPr>
        <p:grpSpPr>
          <a:xfrm>
            <a:off x="2813040" y="2286000"/>
            <a:ext cx="2039760" cy="2514600"/>
            <a:chOff x="2813040" y="2286000"/>
            <a:chExt cx="2039760" cy="2514600"/>
          </a:xfrm>
        </p:grpSpPr>
        <p:sp>
          <p:nvSpPr>
            <p:cNvPr id="410" name=""/>
            <p:cNvSpPr/>
            <p:nvPr/>
          </p:nvSpPr>
          <p:spPr>
            <a:xfrm>
              <a:off x="2813040" y="2286000"/>
              <a:ext cx="984960" cy="152388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Panel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3656880" y="3809880"/>
              <a:ext cx="0" cy="990720"/>
            </a:xfrm>
            <a:prstGeom prst="line">
              <a:avLst/>
            </a:prstGeom>
            <a:ln w="57240">
              <a:solidFill>
                <a:srgbClr val="00306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656880" y="3809880"/>
              <a:ext cx="1195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primitives</a:t>
              </a:r>
              <a:br>
                <a:rPr sz="1600"/>
              </a:b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(display,</a:t>
              </a:r>
              <a:br>
                <a:rPr sz="1600"/>
              </a:b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keyboard)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4039200" y="1143000"/>
            <a:ext cx="4558320" cy="4794120"/>
            <a:chOff x="4039200" y="1143000"/>
            <a:chExt cx="4558320" cy="4794120"/>
          </a:xfrm>
        </p:grpSpPr>
        <p:grpSp>
          <p:nvGrpSpPr>
            <p:cNvPr id="414" name=""/>
            <p:cNvGrpSpPr/>
            <p:nvPr/>
          </p:nvGrpSpPr>
          <p:grpSpPr>
            <a:xfrm>
              <a:off x="4039200" y="1143000"/>
              <a:ext cx="4558320" cy="4794120"/>
              <a:chOff x="4039200" y="1143000"/>
              <a:chExt cx="4558320" cy="4794120"/>
            </a:xfrm>
          </p:grpSpPr>
          <p:sp>
            <p:nvSpPr>
              <p:cNvPr id="415" name=""/>
              <p:cNvSpPr/>
              <p:nvPr/>
            </p:nvSpPr>
            <p:spPr>
              <a:xfrm>
                <a:off x="6356880" y="4648320"/>
                <a:ext cx="1280880" cy="1066680"/>
              </a:xfrm>
              <a:prstGeom prst="rect">
                <a:avLst/>
              </a:prstGeom>
              <a:solidFill>
                <a:srgbClr val="000080"/>
              </a:solidFill>
              <a:ln w="936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PCO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server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221720" y="5573880"/>
                <a:ext cx="2149920" cy="0"/>
              </a:xfrm>
              <a:prstGeom prst="line">
                <a:avLst/>
              </a:prstGeom>
              <a:ln w="5724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693320" y="5568840"/>
                <a:ext cx="802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3069"/>
                    </a:solidFill>
                    <a:latin typeface="Arial"/>
                  </a:rPr>
                  <a:t>traces</a:t>
                </a:r>
                <a:endParaRPr b="0" lang="en-US" sz="18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039200" y="5199120"/>
                <a:ext cx="2373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3069"/>
                    </a:solidFill>
                    <a:latin typeface="Arial"/>
                  </a:rPr>
                  <a:t>  </a:t>
                </a:r>
                <a:r>
                  <a:rPr b="0" lang="de-DE" sz="1800" spc="-1" strike="noStrike">
                    <a:solidFill>
                      <a:srgbClr val="003069"/>
                    </a:solidFill>
                    <a:latin typeface="Arial"/>
                  </a:rPr>
                  <a:t>duplicated primitives</a:t>
                </a:r>
                <a:endParaRPr b="0" lang="en-US" sz="18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457400" y="3276720"/>
                <a:ext cx="0" cy="1371600"/>
              </a:xfrm>
              <a:prstGeom prst="line">
                <a:avLst/>
              </a:prstGeom>
              <a:ln w="936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7396200" y="3780000"/>
                <a:ext cx="945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069"/>
                    </a:solidFill>
                    <a:latin typeface="Arial"/>
                  </a:rPr>
                  <a:t>control</a:t>
                </a:r>
                <a:endParaRPr b="0" lang="en-US" sz="20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316640" y="1143000"/>
                <a:ext cx="1280880" cy="2133720"/>
              </a:xfrm>
              <a:prstGeom prst="rect">
                <a:avLst/>
              </a:prstGeom>
              <a:solidFill>
                <a:srgbClr val="000080"/>
              </a:solidFill>
              <a:ln w="936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PCO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controller</a:t>
                </a:r>
                <a:endParaRPr b="0" lang="en-US" sz="20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  <p:sp>
          <p:nvSpPr>
            <p:cNvPr id="422" name=""/>
            <p:cNvSpPr/>
            <p:nvPr/>
          </p:nvSpPr>
          <p:spPr>
            <a:xfrm flipH="1">
              <a:off x="4221720" y="5105520"/>
              <a:ext cx="2110320" cy="0"/>
            </a:xfrm>
            <a:prstGeom prst="line">
              <a:avLst/>
            </a:prstGeom>
            <a:ln w="572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381560" y="4746600"/>
              <a:ext cx="193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3069"/>
                  </a:solidFill>
                  <a:latin typeface="Arial"/>
                </a:rPr>
                <a:t>system primitives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91760" y="228240"/>
            <a:ext cx="8118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interpreting/decoding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52080" y="1020240"/>
            <a:ext cx="830268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Arial"/>
              </a:rPr>
              <a:t>What for do I need a ccddata-DLL (e.g. ccddata_dll.dll) ?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contains information about all primitive and air message structures used in the corresponding protocol stack 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257040" y="2282760"/>
            <a:ext cx="4140360" cy="2368440"/>
            <a:chOff x="257040" y="2282760"/>
            <a:chExt cx="4140360" cy="2368440"/>
          </a:xfrm>
        </p:grpSpPr>
        <p:sp>
          <p:nvSpPr>
            <p:cNvPr id="427" name=""/>
            <p:cNvSpPr/>
            <p:nvPr/>
          </p:nvSpPr>
          <p:spPr>
            <a:xfrm>
              <a:off x="1447920" y="2282760"/>
              <a:ext cx="11430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94000"/>
            </a:bodyPr>
            <a:p>
              <a:pPr marL="322200" indent="-3222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Without: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428" name="" descr=""/>
            <p:cNvPicPr/>
            <p:nvPr/>
          </p:nvPicPr>
          <p:blipFill>
            <a:blip r:embed="rId1"/>
            <a:stretch/>
          </p:blipFill>
          <p:spPr>
            <a:xfrm>
              <a:off x="260280" y="3429000"/>
              <a:ext cx="4137120" cy="34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9" name="" descr=""/>
            <p:cNvPicPr/>
            <p:nvPr/>
          </p:nvPicPr>
          <p:blipFill>
            <a:blip r:embed="rId2"/>
            <a:stretch/>
          </p:blipFill>
          <p:spPr>
            <a:xfrm>
              <a:off x="257040" y="2752560"/>
              <a:ext cx="3716640" cy="31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0" name="" descr=""/>
            <p:cNvPicPr/>
            <p:nvPr/>
          </p:nvPicPr>
          <p:blipFill>
            <a:blip r:embed="rId3"/>
            <a:stretch/>
          </p:blipFill>
          <p:spPr>
            <a:xfrm>
              <a:off x="260280" y="4114800"/>
              <a:ext cx="3219480" cy="536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1" name=""/>
          <p:cNvGrpSpPr/>
          <p:nvPr/>
        </p:nvGrpSpPr>
        <p:grpSpPr>
          <a:xfrm>
            <a:off x="4448160" y="2282760"/>
            <a:ext cx="4390920" cy="3794040"/>
            <a:chOff x="4448160" y="2282760"/>
            <a:chExt cx="4390920" cy="3794040"/>
          </a:xfrm>
        </p:grpSpPr>
        <p:sp>
          <p:nvSpPr>
            <p:cNvPr id="432" name=""/>
            <p:cNvSpPr/>
            <p:nvPr/>
          </p:nvSpPr>
          <p:spPr>
            <a:xfrm>
              <a:off x="5257800" y="2282760"/>
              <a:ext cx="27432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94000"/>
            </a:bodyPr>
            <a:p>
              <a:pPr marL="322200" indent="-3222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With a matching DLL: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433" name="" descr=""/>
            <p:cNvPicPr/>
            <p:nvPr/>
          </p:nvPicPr>
          <p:blipFill>
            <a:blip r:embed="rId4"/>
            <a:stretch/>
          </p:blipFill>
          <p:spPr>
            <a:xfrm>
              <a:off x="4908600" y="3429000"/>
              <a:ext cx="3854520" cy="3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4" name="" descr=""/>
            <p:cNvPicPr/>
            <p:nvPr/>
          </p:nvPicPr>
          <p:blipFill>
            <a:blip r:embed="rId5"/>
            <a:stretch/>
          </p:blipFill>
          <p:spPr>
            <a:xfrm>
              <a:off x="4724280" y="4113360"/>
              <a:ext cx="3970440" cy="83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5" name="" descr=""/>
            <p:cNvPicPr/>
            <p:nvPr/>
          </p:nvPicPr>
          <p:blipFill>
            <a:blip r:embed="rId6"/>
            <a:stretch/>
          </p:blipFill>
          <p:spPr>
            <a:xfrm>
              <a:off x="4448160" y="2752560"/>
              <a:ext cx="439092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" name="" descr=""/>
            <p:cNvPicPr/>
            <p:nvPr/>
          </p:nvPicPr>
          <p:blipFill>
            <a:blip r:embed="rId7"/>
            <a:stretch/>
          </p:blipFill>
          <p:spPr>
            <a:xfrm>
              <a:off x="4756320" y="5032440"/>
              <a:ext cx="3951000" cy="1044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7" name=""/>
          <p:cNvGrpSpPr/>
          <p:nvPr/>
        </p:nvGrpSpPr>
        <p:grpSpPr>
          <a:xfrm>
            <a:off x="609480" y="3276720"/>
            <a:ext cx="5029200" cy="1066680"/>
            <a:chOff x="609480" y="3276720"/>
            <a:chExt cx="5029200" cy="1066680"/>
          </a:xfrm>
        </p:grpSpPr>
        <p:sp>
          <p:nvSpPr>
            <p:cNvPr id="438" name=""/>
            <p:cNvSpPr/>
            <p:nvPr/>
          </p:nvSpPr>
          <p:spPr>
            <a:xfrm>
              <a:off x="3733560" y="3276720"/>
              <a:ext cx="1905120" cy="10666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FRAME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09480" y="3276720"/>
              <a:ext cx="2666880" cy="10666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FRAME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609480" y="1676520"/>
            <a:ext cx="4114800" cy="1600200"/>
            <a:chOff x="609480" y="1676520"/>
            <a:chExt cx="4114800" cy="1600200"/>
          </a:xfrm>
        </p:grpSpPr>
        <p:sp>
          <p:nvSpPr>
            <p:cNvPr id="441" name=""/>
            <p:cNvSpPr/>
            <p:nvPr/>
          </p:nvSpPr>
          <p:spPr>
            <a:xfrm>
              <a:off x="609480" y="1676520"/>
              <a:ext cx="1600200" cy="1600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Div.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Entities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(PS)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285640" y="2667240"/>
              <a:ext cx="990720" cy="6094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TST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733560" y="2667240"/>
              <a:ext cx="990720" cy="6094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TST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276360" y="2971800"/>
              <a:ext cx="457200" cy="0"/>
            </a:xfrm>
            <a:prstGeom prst="line">
              <a:avLst/>
            </a:prstGeom>
            <a:ln w="38160">
              <a:solidFill>
                <a:srgbClr val="00306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609480" y="4327560"/>
            <a:ext cx="7925040" cy="1846800"/>
            <a:chOff x="609480" y="4327560"/>
            <a:chExt cx="7925040" cy="1846800"/>
          </a:xfrm>
        </p:grpSpPr>
        <p:sp>
          <p:nvSpPr>
            <p:cNvPr id="446" name=""/>
            <p:cNvSpPr/>
            <p:nvPr/>
          </p:nvSpPr>
          <p:spPr>
            <a:xfrm>
              <a:off x="3733920" y="4861080"/>
              <a:ext cx="4800600" cy="7621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Windows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, Linux, ...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09480" y="4327560"/>
              <a:ext cx="2667240" cy="1295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Nucleus, PSOS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, ...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733920" y="4327560"/>
              <a:ext cx="4800600" cy="533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VCMS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371600" y="5699160"/>
              <a:ext cx="97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Target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410080" y="5775480"/>
              <a:ext cx="16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Test system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software layers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52080" y="1020600"/>
            <a:ext cx="83026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7772400" y="3276720"/>
            <a:ext cx="762120" cy="160020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CO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iew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733920" y="4343400"/>
            <a:ext cx="441936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CMS                   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733920" y="4876920"/>
            <a:ext cx="4800600" cy="76176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indow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, Linux, ...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09480" y="4343400"/>
            <a:ext cx="2667240" cy="129528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ucleus, PSO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, ...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609480" y="3276720"/>
            <a:ext cx="5029200" cy="1066680"/>
            <a:chOff x="609480" y="3276720"/>
            <a:chExt cx="5029200" cy="1066680"/>
          </a:xfrm>
        </p:grpSpPr>
        <p:sp>
          <p:nvSpPr>
            <p:cNvPr id="458" name=""/>
            <p:cNvSpPr/>
            <p:nvPr/>
          </p:nvSpPr>
          <p:spPr>
            <a:xfrm>
              <a:off x="3733560" y="3276720"/>
              <a:ext cx="1905120" cy="106668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FRAME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09480" y="3276720"/>
              <a:ext cx="2666880" cy="106668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FRAME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609480" y="1676520"/>
            <a:ext cx="1600200" cy="16002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iv.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ntitie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PS)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286000" y="2666880"/>
            <a:ext cx="990720" cy="6098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ST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733920" y="2666880"/>
            <a:ext cx="990360" cy="6098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ST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276720" y="2971800"/>
            <a:ext cx="457200" cy="0"/>
          </a:xfrm>
          <a:prstGeom prst="line">
            <a:avLst/>
          </a:prstGeom>
          <a:ln w="38160">
            <a:solidFill>
              <a:srgbClr val="00306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371600" y="5715000"/>
            <a:ext cx="97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Target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410080" y="57913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Test system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848720" y="3124080"/>
            <a:ext cx="761760" cy="106704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CO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iew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6705720" y="1523880"/>
            <a:ext cx="2006640" cy="2514600"/>
            <a:chOff x="6705720" y="1523880"/>
            <a:chExt cx="2006640" cy="2514600"/>
          </a:xfrm>
        </p:grpSpPr>
        <p:sp>
          <p:nvSpPr>
            <p:cNvPr id="468" name=""/>
            <p:cNvSpPr/>
            <p:nvPr/>
          </p:nvSpPr>
          <p:spPr>
            <a:xfrm>
              <a:off x="7950240" y="2971440"/>
              <a:ext cx="762120" cy="106704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PCO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view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705720" y="1523880"/>
              <a:ext cx="1981080" cy="6094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CCD-data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305920" y="2133360"/>
              <a:ext cx="0" cy="838080"/>
            </a:xfrm>
            <a:prstGeom prst="line">
              <a:avLst/>
            </a:prstGeom>
            <a:ln w="936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software layers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52080" y="1020240"/>
            <a:ext cx="8334360" cy="4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4800600" y="1523880"/>
            <a:ext cx="1866960" cy="3353040"/>
            <a:chOff x="4800600" y="1523880"/>
            <a:chExt cx="1866960" cy="3353040"/>
          </a:xfrm>
        </p:grpSpPr>
        <p:grpSp>
          <p:nvGrpSpPr>
            <p:cNvPr id="474" name=""/>
            <p:cNvGrpSpPr/>
            <p:nvPr/>
          </p:nvGrpSpPr>
          <p:grpSpPr>
            <a:xfrm>
              <a:off x="4800600" y="1523880"/>
              <a:ext cx="1866960" cy="2819160"/>
              <a:chOff x="4800600" y="1523880"/>
              <a:chExt cx="1866960" cy="2819160"/>
            </a:xfrm>
          </p:grpSpPr>
          <p:sp>
            <p:nvSpPr>
              <p:cNvPr id="475" name=""/>
              <p:cNvSpPr/>
              <p:nvPr/>
            </p:nvSpPr>
            <p:spPr>
              <a:xfrm>
                <a:off x="4800600" y="1523880"/>
                <a:ext cx="838080" cy="175248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cc00"/>
                    </a:solidFill>
                    <a:latin typeface="Arial"/>
                  </a:rPr>
                  <a:t>X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cc00"/>
                    </a:solidFill>
                    <a:latin typeface="Arial"/>
                  </a:rPr>
                  <a:t>Panel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753160" y="3276360"/>
                <a:ext cx="914400" cy="1066680"/>
              </a:xfrm>
              <a:prstGeom prst="rect">
                <a:avLst/>
              </a:prstGeom>
              <a:solidFill>
                <a:srgbClr val="000080"/>
              </a:solidFill>
              <a:ln w="936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0000"/>
                    </a:solidFill>
                    <a:latin typeface="Arial"/>
                  </a:rPr>
                  <a:t>PCO</a:t>
                </a:r>
                <a:endParaRPr b="0" lang="en-US" sz="22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0000"/>
                    </a:solidFill>
                    <a:latin typeface="Arial"/>
                  </a:rPr>
                  <a:t>server</a:t>
                </a:r>
                <a:endParaRPr b="0" lang="en-US" sz="22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6286680" y="4343400"/>
              <a:ext cx="380880" cy="5335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6743880" y="3276720"/>
            <a:ext cx="952200" cy="1600200"/>
            <a:chOff x="6743880" y="3276720"/>
            <a:chExt cx="952200" cy="1600200"/>
          </a:xfrm>
        </p:grpSpPr>
        <p:sp>
          <p:nvSpPr>
            <p:cNvPr id="479" name=""/>
            <p:cNvSpPr/>
            <p:nvPr/>
          </p:nvSpPr>
          <p:spPr>
            <a:xfrm>
              <a:off x="6743880" y="3276720"/>
              <a:ext cx="952200" cy="106668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PCO</a:t>
              </a:r>
              <a:endParaRPr b="0" lang="en-US" sz="22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control</a:t>
              </a:r>
              <a:endParaRPr b="0" lang="en-US" sz="2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315200" y="4343400"/>
              <a:ext cx="380880" cy="5335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7772400" y="3276720"/>
            <a:ext cx="762120" cy="160020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CO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iew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733920" y="4876920"/>
            <a:ext cx="4800600" cy="76176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indow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, Linux, ...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9480" y="4343400"/>
            <a:ext cx="2667240" cy="129528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ucleus, PSO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, ...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733920" y="4343400"/>
            <a:ext cx="441936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CMS                   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609480" y="3276720"/>
            <a:ext cx="5029200" cy="1066680"/>
            <a:chOff x="609480" y="3276720"/>
            <a:chExt cx="5029200" cy="1066680"/>
          </a:xfrm>
        </p:grpSpPr>
        <p:sp>
          <p:nvSpPr>
            <p:cNvPr id="486" name=""/>
            <p:cNvSpPr/>
            <p:nvPr/>
          </p:nvSpPr>
          <p:spPr>
            <a:xfrm>
              <a:off x="3733560" y="3276720"/>
              <a:ext cx="1905120" cy="106668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FRAME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09480" y="3276720"/>
              <a:ext cx="2666880" cy="106668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FRAME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609480" y="1676520"/>
            <a:ext cx="1600200" cy="16002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iv.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ntitie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PS)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286000" y="2666880"/>
            <a:ext cx="990720" cy="6098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ST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733920" y="2666880"/>
            <a:ext cx="609480" cy="6098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ST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276720" y="2971800"/>
            <a:ext cx="457200" cy="0"/>
          </a:xfrm>
          <a:prstGeom prst="line">
            <a:avLst/>
          </a:prstGeom>
          <a:ln w="38160">
            <a:solidFill>
              <a:srgbClr val="00306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371600" y="5715000"/>
            <a:ext cx="97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Target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410080" y="57913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Test system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105520" y="1523880"/>
            <a:ext cx="533160" cy="1752840"/>
          </a:xfrm>
          <a:prstGeom prst="rect">
            <a:avLst/>
          </a:prstGeom>
          <a:solidFill>
            <a:srgbClr val="008000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cc00"/>
                </a:solidFill>
                <a:latin typeface="Arial"/>
              </a:rPr>
              <a:t>Panel</a:t>
            </a:r>
            <a:endParaRPr b="0" lang="en-US" sz="15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753160" y="3276720"/>
            <a:ext cx="914400" cy="1066680"/>
          </a:xfrm>
          <a:prstGeom prst="rect">
            <a:avLst/>
          </a:prstGeom>
          <a:solidFill>
            <a:srgbClr val="000080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PCO</a:t>
            </a:r>
            <a:endParaRPr b="0" lang="en-US" sz="22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server</a:t>
            </a:r>
            <a:endParaRPr b="0" lang="en-US" sz="22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743880" y="3276720"/>
            <a:ext cx="952200" cy="1066680"/>
          </a:xfrm>
          <a:prstGeom prst="rect">
            <a:avLst/>
          </a:prstGeom>
          <a:solidFill>
            <a:srgbClr val="000080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PCO</a:t>
            </a:r>
            <a:endParaRPr b="0" lang="en-US" sz="22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control</a:t>
            </a:r>
            <a:endParaRPr b="0" lang="en-US" sz="22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848720" y="3124080"/>
            <a:ext cx="761760" cy="106704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CO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iew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381560" y="1523880"/>
            <a:ext cx="685800" cy="1752840"/>
          </a:xfrm>
          <a:prstGeom prst="rect">
            <a:avLst/>
          </a:prstGeom>
          <a:solidFill>
            <a:srgbClr val="008000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TAP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6705720" y="1523880"/>
            <a:ext cx="2006640" cy="2514600"/>
            <a:chOff x="6705720" y="1523880"/>
            <a:chExt cx="2006640" cy="2514600"/>
          </a:xfrm>
        </p:grpSpPr>
        <p:sp>
          <p:nvSpPr>
            <p:cNvPr id="500" name=""/>
            <p:cNvSpPr/>
            <p:nvPr/>
          </p:nvSpPr>
          <p:spPr>
            <a:xfrm>
              <a:off x="7950240" y="2971440"/>
              <a:ext cx="762120" cy="106704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PCO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view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705720" y="1523880"/>
              <a:ext cx="1981080" cy="6094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CCD-data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305920" y="2133360"/>
              <a:ext cx="0" cy="838080"/>
            </a:xfrm>
            <a:prstGeom prst="line">
              <a:avLst/>
            </a:prstGeom>
            <a:ln w="936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software layers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52440" y="1020240"/>
            <a:ext cx="8182080" cy="4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286680" y="4343400"/>
            <a:ext cx="38088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315200" y="4343400"/>
            <a:ext cx="38088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563400" y="5486400"/>
            <a:ext cx="7689960" cy="7621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indows, Linux, ...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63400" y="4876920"/>
            <a:ext cx="7689960" cy="60948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CM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3069"/>
                </a:solidFill>
                <a:latin typeface="Times New Roman"/>
              </a:rPr>
              <a:t>cms.dll 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63400" y="3352680"/>
            <a:ext cx="2884680" cy="15242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069"/>
                </a:solidFill>
                <a:latin typeface="Times New Roman"/>
              </a:rPr>
              <a:t>frame.dll</a:t>
            </a:r>
            <a:br>
              <a:rPr sz="2400"/>
            </a:br>
            <a:r>
              <a:rPr b="1" i="1" lang="en-US" sz="2400" spc="-1" strike="noStrike">
                <a:solidFill>
                  <a:srgbClr val="003069"/>
                </a:solidFill>
                <a:latin typeface="Times New Roman"/>
              </a:rPr>
              <a:t>tif.dll</a:t>
            </a:r>
            <a:br>
              <a:rPr sz="2400"/>
            </a:br>
            <a:r>
              <a:rPr b="1" i="1" lang="en-US" sz="2400" spc="-1" strike="noStrike">
                <a:solidFill>
                  <a:srgbClr val="003069"/>
                </a:solidFill>
                <a:latin typeface="Times New Roman"/>
              </a:rPr>
              <a:t>misc.dll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63400" y="2438280"/>
            <a:ext cx="1125720" cy="9144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ST</a:t>
            </a:r>
            <a:br>
              <a:rPr sz="2400"/>
            </a:br>
            <a:r>
              <a:rPr b="1" i="1" lang="en-US" sz="2400" spc="-1" strike="noStrike">
                <a:solidFill>
                  <a:srgbClr val="003069"/>
                </a:solidFill>
                <a:latin typeface="Times New Roman"/>
              </a:rPr>
              <a:t>tst.exe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900080" y="1600200"/>
            <a:ext cx="1548000" cy="1752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xPanel</a:t>
            </a:r>
            <a:br>
              <a:rPr sz="2400"/>
            </a:br>
            <a:r>
              <a:rPr b="1" i="1" lang="en-US" sz="2400" spc="-1" strike="noStrike">
                <a:solidFill>
                  <a:srgbClr val="003069"/>
                </a:solidFill>
                <a:latin typeface="Times New Roman"/>
              </a:rPr>
              <a:t>xpanel.exe,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069"/>
                </a:solidFill>
                <a:latin typeface="Times New Roman"/>
              </a:rPr>
              <a:t>xpanel.tcl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589200" y="3505320"/>
            <a:ext cx="1758960" cy="1371600"/>
          </a:xfrm>
          <a:prstGeom prst="rect">
            <a:avLst/>
          </a:prstGeom>
          <a:solidFill>
            <a:srgbClr val="000080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PCOserver</a:t>
            </a:r>
            <a:endParaRPr b="0" lang="en-US" sz="22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pco_srv.exe</a:t>
            </a:r>
            <a:endParaRPr b="0" lang="en-US" sz="22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418000" y="3505320"/>
            <a:ext cx="1644840" cy="1371600"/>
          </a:xfrm>
          <a:prstGeom prst="rect">
            <a:avLst/>
          </a:prstGeom>
          <a:solidFill>
            <a:srgbClr val="000080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PCOcontroller</a:t>
            </a:r>
            <a:br>
              <a:rPr sz="2200"/>
            </a:b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pco_ctrl.exe</a:t>
            </a:r>
            <a:endParaRPr b="0" lang="en-US" sz="22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176960" y="3505320"/>
            <a:ext cx="1076400" cy="137160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iew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318440" y="3352680"/>
            <a:ext cx="1011240" cy="144792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iew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58120" y="3200400"/>
            <a:ext cx="1266840" cy="1447920"/>
          </a:xfrm>
          <a:prstGeom prst="rect">
            <a:avLst/>
          </a:prstGeom>
          <a:solidFill>
            <a:srgbClr val="000080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PCOview</a:t>
            </a:r>
            <a:br>
              <a:rPr sz="2200"/>
            </a:b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pco_view</a:t>
            </a:r>
            <a:br>
              <a:rPr sz="2200"/>
            </a:b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.exe</a:t>
            </a:r>
            <a:endParaRPr b="0" lang="en-US" sz="22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715000" y="1523880"/>
            <a:ext cx="2971800" cy="1067040"/>
          </a:xfrm>
          <a:prstGeom prst="rect">
            <a:avLst/>
          </a:prstGeom>
          <a:solidFill>
            <a:srgbClr val="00ff00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CD-database</a:t>
            </a:r>
            <a:br>
              <a:rPr sz="2400"/>
            </a:br>
            <a:r>
              <a:rPr b="1" i="1" lang="en-US" sz="2400" spc="-1" strike="noStrike">
                <a:solidFill>
                  <a:srgbClr val="003069"/>
                </a:solidFill>
                <a:latin typeface="Times New Roman"/>
              </a:rPr>
              <a:t>ccddata_*.dll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8302680" y="2590920"/>
            <a:ext cx="3240" cy="609480"/>
          </a:xfrm>
          <a:prstGeom prst="line">
            <a:avLst/>
          </a:prstGeom>
          <a:ln w="936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software layers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915840" y="990720"/>
            <a:ext cx="73137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Mapping to executables and DLLs: 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general concept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36680" y="1447920"/>
            <a:ext cx="7935840" cy="46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Test interface approach: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data interface between G23 protocol stack and a PC test system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usually a standard serial cable, COM-ports on both ends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92120" y="3870360"/>
            <a:ext cx="2603520" cy="1752480"/>
          </a:xfrm>
          <a:prstGeom prst="rect">
            <a:avLst/>
          </a:prstGeom>
          <a:solidFill>
            <a:srgbClr val="00ff00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Times New Roman"/>
              </a:rPr>
              <a:t>Protocol stack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79960" y="3870360"/>
            <a:ext cx="2603520" cy="1752480"/>
          </a:xfrm>
          <a:prstGeom prst="rect">
            <a:avLst/>
          </a:prstGeom>
          <a:solidFill>
            <a:srgbClr val="6699ff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Times New Roman"/>
              </a:rPr>
              <a:t>PC test system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640" y="4327560"/>
            <a:ext cx="2884320" cy="0"/>
          </a:xfrm>
          <a:prstGeom prst="line">
            <a:avLst/>
          </a:prstGeom>
          <a:ln w="38160">
            <a:solidFill>
              <a:srgbClr val="0063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95640" y="5181480"/>
            <a:ext cx="28843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656160" y="4506840"/>
            <a:ext cx="20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Times New Roman"/>
              </a:rPr>
              <a:t>Test interface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95640" y="5165640"/>
            <a:ext cx="281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Traces,</a:t>
            </a:r>
            <a:br>
              <a:rPr sz="2400"/>
            </a:b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duplicated primitive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65480" y="3505320"/>
            <a:ext cx="281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3ce"/>
                </a:solidFill>
                <a:latin typeface="Times New Roman"/>
              </a:rPr>
              <a:t>System primitives,</a:t>
            </a:r>
            <a:br>
              <a:rPr sz="2400"/>
            </a:br>
            <a:r>
              <a:rPr b="0" lang="en-US" sz="2400" spc="-1" strike="noStrike">
                <a:solidFill>
                  <a:srgbClr val="0063ce"/>
                </a:solidFill>
                <a:latin typeface="Times New Roman"/>
              </a:rPr>
              <a:t>keystroke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configuration files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256680" y="1641240"/>
            <a:ext cx="766764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069"/>
                </a:solidFill>
                <a:latin typeface="Arial"/>
              </a:rPr>
              <a:t>xpan.ini</a:t>
            </a: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(ClearCase: \gpf\cfg\xpan.ini)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contains all settings for xPanel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like communication port and</a:t>
            </a:r>
            <a:br>
              <a:rPr sz="1800"/>
            </a:b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baudrate </a:t>
            </a:r>
            <a:br>
              <a:rPr sz="1800"/>
            </a:b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(if xpanel is used alone)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77720" y="1020600"/>
            <a:ext cx="7936200" cy="50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xPanel configuration files: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93760" y="4876920"/>
            <a:ext cx="793584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069"/>
                </a:solidFill>
                <a:latin typeface="Arial"/>
              </a:rPr>
              <a:t>TARGET_lo.tcl </a:t>
            </a:r>
            <a:br>
              <a:rPr sz="1800"/>
            </a:b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(ClearCase: \gpf\cfg\TARGET_lo.tcl)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default layout for xPanel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here e.g. new keys may be added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4714920" y="1143000"/>
            <a:ext cx="4221000" cy="39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configuration files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191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069"/>
                </a:solidFill>
                <a:latin typeface="Arial"/>
              </a:rPr>
              <a:t>pco.ini</a:t>
            </a: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(ClearCase: \gpf\cfg\pco.ini)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contains all settings for the PCO components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77720" y="1020600"/>
            <a:ext cx="7936200" cy="50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PCO configuration files (1):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57200" y="4114800"/>
            <a:ext cx="4343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2000"/>
          </a:bodyPr>
          <a:p>
            <a:pPr lvl="1" marL="683280" indent="-26280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069"/>
                </a:solidFill>
                <a:latin typeface="Arial"/>
              </a:rPr>
              <a:t>pco_start.lst</a:t>
            </a: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(ClearCase \gpf\cfg\pco_start.lst)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list with applications to be started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like xPanel, PCO-viewers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editable by GUI (PCO-Controller)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4854600" y="4343400"/>
            <a:ext cx="4081320" cy="167652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2"/>
          <a:stretch/>
        </p:blipFill>
        <p:spPr>
          <a:xfrm>
            <a:off x="4830840" y="1359000"/>
            <a:ext cx="401148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configuration files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77720" y="838080"/>
            <a:ext cx="843768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PCO configuration files (2):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69"/>
                </a:solidFill>
                <a:latin typeface="Arial"/>
              </a:rPr>
              <a:t>View.txt</a:t>
            </a: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 (ClearCase: \gpf\cfg\View.txt)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contains predefined FRAME system primitives</a:t>
            </a:r>
            <a:br>
              <a:rPr sz="2000"/>
            </a:b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e.g. </a:t>
            </a: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“DUPLICATE MM PCO” -&gt; RR</a:t>
            </a:r>
            <a:br>
              <a:rPr sz="2000"/>
            </a:b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“CONFIG AT+CFUN=1” -&gt; MMI (to send At-Commands)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these may be selected and sent using the PCO-Controller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571680" y="3352680"/>
          <a:ext cx="7735680" cy="300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3352680"/>
                    <a:ext cx="7735680" cy="30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configuration files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77720" y="838080"/>
            <a:ext cx="843768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PCO configuration files (3):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69"/>
                </a:solidFill>
                <a:latin typeface="Arial"/>
              </a:rPr>
              <a:t>pco_stack.xml</a:t>
            </a: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 (ClearCase: \gpf\cfg\pco_stack.xml)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contains all “Matrix”-entries of the PCO-Controller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may be edited to e.g. change the entry-order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990720" y="2406600"/>
            <a:ext cx="5562360" cy="384192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2"/>
          <a:stretch/>
        </p:blipFill>
        <p:spPr>
          <a:xfrm>
            <a:off x="6456240" y="2514600"/>
            <a:ext cx="1697040" cy="360036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/>
          <p:nvPr/>
        </p:nvSpPr>
        <p:spPr>
          <a:xfrm>
            <a:off x="6095880" y="4038480"/>
            <a:ext cx="304920" cy="0"/>
          </a:xfrm>
          <a:prstGeom prst="line">
            <a:avLst/>
          </a:prstGeom>
          <a:ln w="5724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3069"/>
                </a:solidFill>
                <a:latin typeface="Arial"/>
              </a:rPr>
              <a:t>Thanx for your patience !</a:t>
            </a:r>
            <a:endParaRPr b="0" lang="en-US" sz="4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TI internal issues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Maintenance and versions: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xPanel and PCO are maintained by the GPF-team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delivery is usually done inside the gpf_x.csi file included in the ConfigSpec of each developer 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local setup-packages can be obtained at</a:t>
            </a:r>
            <a:br>
              <a:rPr sz="1800"/>
            </a:b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\\dbgs2\deveng\cc\gpf\projects\pco\delivery\index.html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Build of ccddata_dll.dll: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automatically done while running makcdg-script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Arial"/>
              </a:rPr>
              <a:t>default output dir: \gpf\BIN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Build of str2ind.tab: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automatically done during protocol stack build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Arial"/>
              </a:rPr>
              <a:t>default output dir: \g23m\__out__\...\trace\...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Complaining: 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can be done directly by using the “moan”-button in the system tray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see \gpf\DOC\moanbtn\mbtn_userguide.doc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8153280" y="5257800"/>
            <a:ext cx="412920" cy="4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general concept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36680" y="3153960"/>
            <a:ext cx="7935840" cy="30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On PC test system side: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test interface executable using the GPF-FRAME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connects via standard OS drivers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used by tools like the former PANEL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.. and of course by xPanel &amp; PCO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these tools finally provide GUI-stack-access for testers 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6680" y="1219320"/>
            <a:ext cx="79358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On stack side: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test interface entity included in the GPF-FRAME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uses corresponding hardware driver for communication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general concept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xPanel - eXtended Panel: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capable to display text &amp; graphics output of mobile MMI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mutable layout, easy to change 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PCO2 - Point of Control and Observation: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filtered watching of traces and duplicated primitives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intuitive configuration (traceclasses, routing) of protocol stack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server, controller, extensible set of viewers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778f"/>
                </a:solidFill>
                <a:latin typeface="Arial"/>
              </a:rPr>
              <a:t>General Concept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Usage of the Tools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Overview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Logging and Replay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Filter Setup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Communication Setup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Parameter Observation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Important Files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778f"/>
                </a:solidFill>
                <a:latin typeface="Arial"/>
              </a:rPr>
              <a:t>Background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1778f"/>
                </a:solidFill>
                <a:latin typeface="Arial"/>
              </a:rPr>
              <a:t>Dataflow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1778f"/>
                </a:solidFill>
                <a:latin typeface="Arial"/>
              </a:rPr>
              <a:t>Interpreting/Decoding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1778f"/>
                </a:solidFill>
                <a:latin typeface="Arial"/>
              </a:rPr>
              <a:t>Software Layers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1778f"/>
                </a:solidFill>
                <a:latin typeface="Arial"/>
              </a:rPr>
              <a:t>Configuration Files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usage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62040" y="762120"/>
            <a:ext cx="3757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Take off”: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starting of pco2.bat in the bin-directory </a:t>
            </a:r>
            <a:br>
              <a:rPr sz="1800"/>
            </a:b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(ClearCase: \gpf\BIN) …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will per default result in such a scenario: 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774720" y="990720"/>
            <a:ext cx="8230680" cy="5378400"/>
            <a:chOff x="774720" y="990720"/>
            <a:chExt cx="8230680" cy="537840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6684120" y="5791320"/>
              <a:ext cx="101268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2"/>
            <a:stretch/>
          </p:blipFill>
          <p:spPr>
            <a:xfrm>
              <a:off x="6543360" y="990720"/>
              <a:ext cx="1059480" cy="441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3"/>
            <a:stretch/>
          </p:blipFill>
          <p:spPr>
            <a:xfrm>
              <a:off x="2322360" y="5181480"/>
              <a:ext cx="3869280" cy="118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4"/>
            <a:stretch/>
          </p:blipFill>
          <p:spPr>
            <a:xfrm>
              <a:off x="774720" y="2590920"/>
              <a:ext cx="104220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7598520" y="2149560"/>
              <a:ext cx="1336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PCO-Controller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669080" y="5502240"/>
              <a:ext cx="1336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PCO-Server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4720" y="5791320"/>
              <a:ext cx="984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xPanel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110" name="" descr=""/>
            <p:cNvPicPr/>
            <p:nvPr/>
          </p:nvPicPr>
          <p:blipFill>
            <a:blip r:embed="rId5"/>
            <a:stretch/>
          </p:blipFill>
          <p:spPr>
            <a:xfrm>
              <a:off x="3307320" y="2514600"/>
              <a:ext cx="2881440" cy="253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2181960" y="4343400"/>
              <a:ext cx="1195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PCO-Viewers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usage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1960" y="1143000"/>
            <a:ext cx="3765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The xPanel: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74720" y="2590920"/>
            <a:ext cx="1041480" cy="31240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>
            <a:lum bright="60000"/>
          </a:blip>
          <a:stretch/>
        </p:blipFill>
        <p:spPr>
          <a:xfrm>
            <a:off x="6684840" y="5791320"/>
            <a:ext cx="1013040" cy="4791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>
            <a:lum bright="80000"/>
          </a:blip>
          <a:stretch/>
        </p:blipFill>
        <p:spPr>
          <a:xfrm>
            <a:off x="6543720" y="990720"/>
            <a:ext cx="1060560" cy="4419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>
            <a:lum bright="80000"/>
          </a:blip>
          <a:stretch/>
        </p:blipFill>
        <p:spPr>
          <a:xfrm>
            <a:off x="2322360" y="5105520"/>
            <a:ext cx="3868920" cy="1187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>
            <a:lum bright="80000"/>
          </a:blip>
          <a:stretch/>
        </p:blipFill>
        <p:spPr>
          <a:xfrm>
            <a:off x="3306600" y="2514600"/>
            <a:ext cx="2881440" cy="253044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774720" y="1447920"/>
            <a:ext cx="7583040" cy="4952880"/>
            <a:chOff x="774720" y="1447920"/>
            <a:chExt cx="7583040" cy="4952880"/>
          </a:xfrm>
        </p:grpSpPr>
        <p:pic>
          <p:nvPicPr>
            <p:cNvPr id="120" name="" descr=""/>
            <p:cNvPicPr/>
            <p:nvPr/>
          </p:nvPicPr>
          <p:blipFill>
            <a:blip r:embed="rId6"/>
            <a:stretch/>
          </p:blipFill>
          <p:spPr>
            <a:xfrm>
              <a:off x="774720" y="1523880"/>
              <a:ext cx="1625400" cy="487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2111400" y="1447920"/>
              <a:ext cx="62463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069"/>
                  </a:solidFill>
                  <a:latin typeface="Arial"/>
                </a:rPr>
                <a:t>can be used like a real mobile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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069"/>
                  </a:solidFill>
                  <a:latin typeface="Arial"/>
                </a:rPr>
                <a:t>to press keys (e.g. for switching on)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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069"/>
                  </a:solidFill>
                  <a:latin typeface="Arial"/>
                </a:rPr>
                <a:t>to see display output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2111400" y="3886200"/>
            <a:ext cx="6891480" cy="2554200"/>
            <a:chOff x="2111400" y="3886200"/>
            <a:chExt cx="6891480" cy="2554200"/>
          </a:xfrm>
        </p:grpSpPr>
        <p:grpSp>
          <p:nvGrpSpPr>
            <p:cNvPr id="123" name=""/>
            <p:cNvGrpSpPr/>
            <p:nvPr/>
          </p:nvGrpSpPr>
          <p:grpSpPr>
            <a:xfrm>
              <a:off x="2111400" y="4343400"/>
              <a:ext cx="6891480" cy="2097000"/>
              <a:chOff x="2111400" y="4343400"/>
              <a:chExt cx="6891480" cy="2097000"/>
            </a:xfrm>
          </p:grpSpPr>
          <p:pic>
            <p:nvPicPr>
              <p:cNvPr id="12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080960" y="4800600"/>
                <a:ext cx="1632240" cy="1297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5628600" y="5105520"/>
                <a:ext cx="2251080" cy="133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" name=""/>
              <p:cNvSpPr/>
              <p:nvPr/>
            </p:nvSpPr>
            <p:spPr>
              <a:xfrm>
                <a:off x="2111400" y="4343400"/>
                <a:ext cx="6891480" cy="114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lvl="1" marL="743040" indent="-285840">
                  <a:lnSpc>
                    <a:spcPct val="100000"/>
                  </a:lnSpc>
                  <a:spcBef>
                    <a:spcPts val="451"/>
                  </a:spcBef>
                  <a:buClr>
                    <a:srgbClr val="003069"/>
                  </a:buClr>
                  <a:buFont typeface="Wingdings" charset="2"/>
                  <a:buChar char="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069"/>
                    </a:solidFill>
                    <a:latin typeface="Arial"/>
                  </a:rPr>
                  <a:t>provides interface to send FRAME system primitives and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3069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3069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3069"/>
                    </a:solidFill>
                    <a:latin typeface="Arial"/>
                  </a:rPr>
                  <a:t>    </a:t>
                </a:r>
                <a:r>
                  <a:rPr b="0" lang="en-US" sz="1800" spc="-1" strike="noStrike">
                    <a:solidFill>
                      <a:srgbClr val="003069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3069"/>
                    </a:solidFill>
                    <a:latin typeface="Arial"/>
                  </a:rPr>
                  <a:t> </a:t>
                </a:r>
                <a:r>
                  <a:rPr b="0" lang="en-US" sz="1800" spc="-1" strike="noStrike">
                    <a:solidFill>
                      <a:srgbClr val="003069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3069"/>
                    </a:solidFill>
                    <a:latin typeface="Arial"/>
                  </a:rPr>
                  <a:t>         AT-commands</a:t>
                </a:r>
                <a:endParaRPr b="0" lang="en-US" sz="18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>
              <a:off x="2111400" y="3886200"/>
              <a:ext cx="62463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069"/>
                  </a:solidFill>
                  <a:latin typeface="Arial"/>
                </a:rPr>
                <a:t>provides GUI to select communication type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22280" y="1523880"/>
            <a:ext cx="7935480" cy="4876920"/>
            <a:chOff x="422280" y="1523880"/>
            <a:chExt cx="7935480" cy="4876920"/>
          </a:xfrm>
        </p:grpSpPr>
        <p:grpSp>
          <p:nvGrpSpPr>
            <p:cNvPr id="129" name=""/>
            <p:cNvGrpSpPr/>
            <p:nvPr/>
          </p:nvGrpSpPr>
          <p:grpSpPr>
            <a:xfrm>
              <a:off x="422280" y="1523880"/>
              <a:ext cx="7935480" cy="4876920"/>
              <a:chOff x="422280" y="1523880"/>
              <a:chExt cx="7935480" cy="4876920"/>
            </a:xfrm>
          </p:grpSpPr>
          <p:sp>
            <p:nvSpPr>
              <p:cNvPr id="130" name=""/>
              <p:cNvSpPr/>
              <p:nvPr/>
            </p:nvSpPr>
            <p:spPr>
              <a:xfrm>
                <a:off x="2110680" y="2514600"/>
                <a:ext cx="624708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lvl="1" marL="743040" indent="-285840">
                  <a:lnSpc>
                    <a:spcPct val="100000"/>
                  </a:lnSpc>
                  <a:spcBef>
                    <a:spcPts val="451"/>
                  </a:spcBef>
                  <a:buClr>
                    <a:srgbClr val="003069"/>
                  </a:buClr>
                  <a:buFont typeface="Wingdings" charset="2"/>
                  <a:buChar char="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069"/>
                    </a:solidFill>
                    <a:latin typeface="Arial"/>
                  </a:rPr>
                  <a:t>is easily adaptable to your layout</a:t>
                </a:r>
                <a:endParaRPr b="0" lang="en-US" sz="18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pic>
            <p:nvPicPr>
              <p:cNvPr id="13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22280" y="1523880"/>
                <a:ext cx="2079720" cy="48769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32" name="" descr=""/>
            <p:cNvPicPr/>
            <p:nvPr/>
          </p:nvPicPr>
          <p:blipFill>
            <a:blip r:embed="rId10"/>
            <a:stretch/>
          </p:blipFill>
          <p:spPr>
            <a:xfrm>
              <a:off x="5558400" y="2895480"/>
              <a:ext cx="1688400" cy="944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>
            <a:lum bright="80000"/>
          </a:blip>
          <a:stretch/>
        </p:blipFill>
        <p:spPr>
          <a:xfrm>
            <a:off x="2322360" y="5105520"/>
            <a:ext cx="3868920" cy="11872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usage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765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The PCO-Viewer(s):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>
            <a:lum bright="90000"/>
          </a:blip>
          <a:stretch/>
        </p:blipFill>
        <p:spPr>
          <a:xfrm>
            <a:off x="774720" y="2590920"/>
            <a:ext cx="1041480" cy="31240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>
            <a:lum bright="80000"/>
          </a:blip>
          <a:stretch/>
        </p:blipFill>
        <p:spPr>
          <a:xfrm>
            <a:off x="6684840" y="5791320"/>
            <a:ext cx="1013040" cy="4791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>
            <a:lum bright="80000"/>
          </a:blip>
          <a:stretch/>
        </p:blipFill>
        <p:spPr>
          <a:xfrm>
            <a:off x="6543720" y="990720"/>
            <a:ext cx="1060560" cy="44193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3306600" y="2514600"/>
            <a:ext cx="2881440" cy="25304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6"/>
          <a:stretch/>
        </p:blipFill>
        <p:spPr>
          <a:xfrm>
            <a:off x="2954160" y="990720"/>
            <a:ext cx="5699160" cy="47307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20680" y="5867280"/>
            <a:ext cx="54896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configuration can be stored as a “.svc”-file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09520" y="1600200"/>
            <a:ext cx="29545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watch traces of </a:t>
            </a:r>
            <a:br>
              <a:rPr sz="1600"/>
            </a:b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selected entities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ordered by time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distinguished by</a:t>
            </a:r>
            <a:br>
              <a:rPr sz="1600"/>
            </a:b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colors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209520" y="990720"/>
            <a:ext cx="8453160" cy="4732200"/>
            <a:chOff x="209520" y="990720"/>
            <a:chExt cx="8453160" cy="4732200"/>
          </a:xfrm>
        </p:grpSpPr>
        <p:grpSp>
          <p:nvGrpSpPr>
            <p:cNvPr id="144" name=""/>
            <p:cNvGrpSpPr/>
            <p:nvPr/>
          </p:nvGrpSpPr>
          <p:grpSpPr>
            <a:xfrm>
              <a:off x="209520" y="990720"/>
              <a:ext cx="8453160" cy="4732200"/>
              <a:chOff x="209520" y="990720"/>
              <a:chExt cx="8453160" cy="4732200"/>
            </a:xfrm>
          </p:grpSpPr>
          <p:sp>
            <p:nvSpPr>
              <p:cNvPr id="145" name=""/>
              <p:cNvSpPr/>
              <p:nvPr/>
            </p:nvSpPr>
            <p:spPr>
              <a:xfrm>
                <a:off x="209520" y="3352680"/>
                <a:ext cx="2953440" cy="144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lvl="1" marL="743040" indent="-285840">
                  <a:lnSpc>
                    <a:spcPct val="100000"/>
                  </a:lnSpc>
                  <a:spcBef>
                    <a:spcPts val="400"/>
                  </a:spcBef>
                  <a:buClr>
                    <a:srgbClr val="003069"/>
                  </a:buClr>
                  <a:buFont typeface="Wingdings" charset="2"/>
                  <a:buChar char="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069"/>
                    </a:solidFill>
                    <a:latin typeface="Arial"/>
                  </a:rPr>
                  <a:t>watch redirected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003069"/>
                    </a:solidFill>
                    <a:latin typeface="Arial"/>
                  </a:rPr>
                  <a:t>primitives/messages</a:t>
                </a:r>
                <a:endParaRPr b="0" lang="en-US" sz="16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lvl="2" marL="1143000" indent="-228600">
                  <a:lnSpc>
                    <a:spcPct val="100000"/>
                  </a:lnSpc>
                  <a:spcBef>
                    <a:spcPts val="400"/>
                  </a:spcBef>
                  <a:buClr>
                    <a:srgbClr val="003069"/>
                  </a:buClr>
                  <a:buFont typeface="Wingdings" charset="2"/>
                  <a:buChar char=""/>
                  <a:tabLst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069"/>
                    </a:solidFill>
                    <a:latin typeface="Arial"/>
                  </a:rPr>
                  <a:t>as hexdump</a:t>
                </a:r>
                <a:endParaRPr b="0" lang="en-US" sz="16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lvl="2" marL="1143000" indent="-228600">
                  <a:lnSpc>
                    <a:spcPct val="100000"/>
                  </a:lnSpc>
                  <a:spcBef>
                    <a:spcPts val="400"/>
                  </a:spcBef>
                  <a:buClr>
                    <a:srgbClr val="003069"/>
                  </a:buClr>
                  <a:buFont typeface="Wingdings" charset="2"/>
                  <a:buChar char=""/>
                  <a:tabLst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069"/>
                    </a:solidFill>
                    <a:latin typeface="Arial"/>
                  </a:rPr>
                  <a:t>as structure </a:t>
                </a:r>
                <a:endParaRPr b="0" lang="en-US" sz="16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pic>
            <p:nvPicPr>
              <p:cNvPr id="146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963520" y="990720"/>
                <a:ext cx="5699160" cy="47322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47" name="" descr=""/>
            <p:cNvPicPr/>
            <p:nvPr/>
          </p:nvPicPr>
          <p:blipFill>
            <a:blip r:embed="rId8"/>
            <a:stretch/>
          </p:blipFill>
          <p:spPr>
            <a:xfrm>
              <a:off x="5676840" y="1295280"/>
              <a:ext cx="2400480" cy="976320"/>
            </a:xfrm>
            <a:prstGeom prst="rect">
              <a:avLst/>
            </a:prstGeom>
            <a:ln w="38160">
              <a:solidFill>
                <a:srgbClr val="003069"/>
              </a:solidFill>
              <a:miter/>
            </a:ln>
          </p:spPr>
        </p:pic>
      </p:grpSp>
      <p:grpSp>
        <p:nvGrpSpPr>
          <p:cNvPr id="148" name=""/>
          <p:cNvGrpSpPr/>
          <p:nvPr/>
        </p:nvGrpSpPr>
        <p:grpSpPr>
          <a:xfrm>
            <a:off x="209520" y="1523880"/>
            <a:ext cx="8583480" cy="4191120"/>
            <a:chOff x="209520" y="1523880"/>
            <a:chExt cx="8583480" cy="4191120"/>
          </a:xfrm>
        </p:grpSpPr>
        <p:sp>
          <p:nvSpPr>
            <p:cNvPr id="149" name=""/>
            <p:cNvSpPr/>
            <p:nvPr/>
          </p:nvSpPr>
          <p:spPr>
            <a:xfrm>
              <a:off x="209520" y="4876920"/>
              <a:ext cx="29545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filter by sender or </a:t>
              </a:r>
              <a:br>
                <a:rPr sz="1600"/>
              </a:b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OPC 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150" name="" descr=""/>
            <p:cNvPicPr/>
            <p:nvPr/>
          </p:nvPicPr>
          <p:blipFill>
            <a:blip r:embed="rId9"/>
            <a:stretch/>
          </p:blipFill>
          <p:spPr>
            <a:xfrm>
              <a:off x="3516480" y="2317680"/>
              <a:ext cx="3376440" cy="322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/>
            <p:cNvPicPr/>
            <p:nvPr/>
          </p:nvPicPr>
          <p:blipFill>
            <a:blip r:embed="rId10"/>
            <a:stretch/>
          </p:blipFill>
          <p:spPr>
            <a:xfrm>
              <a:off x="5416560" y="2317680"/>
              <a:ext cx="3376440" cy="322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4800600" y="1523880"/>
              <a:ext cx="193680" cy="762120"/>
            </a:xfrm>
            <a:prstGeom prst="line">
              <a:avLst/>
            </a:prstGeom>
            <a:ln w="572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4T16:11:13Z</dcterms:created>
  <dc:creator>kk</dc:creator>
  <dc:description/>
  <dc:language>en-US</dc:language>
  <cp:lastModifiedBy>Ronny Kiessling</cp:lastModifiedBy>
  <dcterms:modified xsi:type="dcterms:W3CDTF">2004-05-19T20:50:53Z</dcterms:modified>
  <cp:revision>126</cp:revision>
  <dc:subject/>
  <dc:title>PowerPoint-Präsentation</dc:title>
</cp:coreProperties>
</file>