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A549-6238-45FA-918B-4E45E9107925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8480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543676D4-7DFE-4677-B1CE-1D777BC561E6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race/primitive filtering is done in two stage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4648320"/>
            <a:ext cx="914400" cy="761760"/>
          </a:xfrm>
          <a:prstGeom prst="foldedCorner">
            <a:avLst>
              <a:gd name="adj" fmla="val 12500"/>
            </a:avLst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ITC Officina Sans Book"/>
              </a:rPr>
              <a:t>Log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784080" y="2362320"/>
            <a:ext cx="2765160" cy="3581280"/>
            <a:chOff x="-784080" y="2362320"/>
            <a:chExt cx="2765160" cy="3581280"/>
          </a:xfrm>
        </p:grpSpPr>
        <p:sp>
          <p:nvSpPr>
            <p:cNvPr id="83" name=""/>
            <p:cNvSpPr/>
            <p:nvPr/>
          </p:nvSpPr>
          <p:spPr>
            <a:xfrm>
              <a:off x="152280" y="2362320"/>
              <a:ext cx="1295640" cy="3108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47920" y="3200400"/>
              <a:ext cx="533160" cy="14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4600" y="2514600"/>
              <a:ext cx="1219320" cy="27432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78408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rotocol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371600" y="1676520"/>
            <a:ext cx="4267080" cy="4267080"/>
            <a:chOff x="1371600" y="1676520"/>
            <a:chExt cx="4267080" cy="4267080"/>
          </a:xfrm>
        </p:grpSpPr>
        <p:sp>
          <p:nvSpPr>
            <p:cNvPr id="88" name=""/>
            <p:cNvSpPr/>
            <p:nvPr/>
          </p:nvSpPr>
          <p:spPr>
            <a:xfrm>
              <a:off x="13716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24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Hard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003400" y="2444760"/>
              <a:ext cx="1922400" cy="29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951360" y="4648320"/>
              <a:ext cx="533160" cy="761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2590920"/>
              <a:ext cx="1371600" cy="76176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62520" y="3733920"/>
              <a:ext cx="1676160" cy="76176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572000" y="1676520"/>
            <a:ext cx="2971800" cy="4267080"/>
            <a:chOff x="4572000" y="1676520"/>
            <a:chExt cx="2971800" cy="4267080"/>
          </a:xfrm>
        </p:grpSpPr>
        <p:sp>
          <p:nvSpPr>
            <p:cNvPr id="95" name=""/>
            <p:cNvSpPr/>
            <p:nvPr/>
          </p:nvSpPr>
          <p:spPr>
            <a:xfrm>
              <a:off x="49528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oft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53080" y="2666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5410080" y="2189160"/>
              <a:ext cx="114480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5720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715000" y="3809880"/>
              <a:ext cx="10890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781680" y="434340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705720" y="2405160"/>
            <a:ext cx="2361960" cy="3538440"/>
            <a:chOff x="6705720" y="2405160"/>
            <a:chExt cx="2361960" cy="3538440"/>
          </a:xfrm>
        </p:grpSpPr>
        <p:grpSp>
          <p:nvGrpSpPr>
            <p:cNvPr id="102" name=""/>
            <p:cNvGrpSpPr/>
            <p:nvPr/>
          </p:nvGrpSpPr>
          <p:grpSpPr>
            <a:xfrm>
              <a:off x="7238880" y="2405160"/>
              <a:ext cx="1676520" cy="2825640"/>
              <a:chOff x="7238880" y="2405160"/>
              <a:chExt cx="1676520" cy="28256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8880" y="4114800"/>
                <a:ext cx="1676520" cy="111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8880" y="2405160"/>
                <a:ext cx="1676520" cy="107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>
              <a:off x="6705720" y="5486400"/>
              <a:ext cx="2361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02-25T10:14:48Z</dcterms:modified>
  <cp:revision>105</cp:revision>
  <dc:subject/>
  <dc:title>PowerPoint-Präsentation</dc:title>
</cp:coreProperties>
</file>