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402-512A-48E1-8E87-151B2D09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5D9-877C-4FE9-8B04-B31D4251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C2C-FF8A-4E24-8F9B-568C4CDC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F6C-9E9B-4DA4-B5B9-33FEE884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FF7-DDF4-4755-9D6A-7271D702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1F2-5F32-4480-A89F-746BE3CA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112-1BA1-4473-B2E7-985F62C5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BD3-20CC-4D59-9CD1-ED549A55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B30-4F40-4D66-B23D-604299CD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CD4-3A10-449F-9F73-C859E502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B85-C1F8-4FBA-8B92-D7F57F32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81F-8844-4DF4-BC0D-1B0EE5BE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5399-278C-408B-BCCE-05DDC567C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43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09480" y="2057400"/>
            <a:ext cx="4114800" cy="1600200"/>
            <a:chOff x="609480" y="2057400"/>
            <a:chExt cx="4114800" cy="1600200"/>
          </a:xfrm>
        </p:grpSpPr>
        <p:sp>
          <p:nvSpPr>
            <p:cNvPr id="46" name=""/>
            <p:cNvSpPr/>
            <p:nvPr/>
          </p:nvSpPr>
          <p:spPr>
            <a:xfrm>
              <a:off x="609480" y="205740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5640" y="304812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33560" y="304812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76360" y="3352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09480" y="4724280"/>
            <a:ext cx="7925040" cy="1907640"/>
            <a:chOff x="609480" y="4724280"/>
            <a:chExt cx="7925040" cy="1907640"/>
          </a:xfrm>
        </p:grpSpPr>
        <p:sp>
          <p:nvSpPr>
            <p:cNvPr id="51" name=""/>
            <p:cNvSpPr/>
            <p:nvPr/>
          </p:nvSpPr>
          <p:spPr>
            <a:xfrm>
              <a:off x="3733920" y="525780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472428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3920" y="472428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1600" y="60958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0080" y="61722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257800"/>
            <a:ext cx="480060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724280"/>
            <a:ext cx="266724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724280"/>
            <a:ext cx="48006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61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09480" y="205740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3048120"/>
            <a:ext cx="990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048120"/>
            <a:ext cx="9903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6095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800600" y="1905120"/>
            <a:ext cx="1866960" cy="2819160"/>
            <a:chOff x="4800600" y="1905120"/>
            <a:chExt cx="1866960" cy="2819160"/>
          </a:xfrm>
        </p:grpSpPr>
        <p:sp>
          <p:nvSpPr>
            <p:cNvPr id="70" name=""/>
            <p:cNvSpPr/>
            <p:nvPr/>
          </p:nvSpPr>
          <p:spPr>
            <a:xfrm>
              <a:off x="4800600" y="1905120"/>
              <a:ext cx="838080" cy="1752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an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3160" y="3657600"/>
              <a:ext cx="9144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743880" y="365760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657600"/>
            <a:ext cx="7621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3505320"/>
            <a:ext cx="7617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705720" y="1905120"/>
            <a:ext cx="2006640" cy="2514600"/>
            <a:chOff x="6705720" y="1905120"/>
            <a:chExt cx="2006640" cy="2514600"/>
          </a:xfrm>
        </p:grpSpPr>
        <p:sp>
          <p:nvSpPr>
            <p:cNvPr id="76" name=""/>
            <p:cNvSpPr/>
            <p:nvPr/>
          </p:nvSpPr>
          <p:spPr>
            <a:xfrm>
              <a:off x="7950240" y="335268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190512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0592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257800"/>
            <a:ext cx="480060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724280"/>
            <a:ext cx="266724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724280"/>
            <a:ext cx="48006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84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9480" y="205740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048120"/>
            <a:ext cx="990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60948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095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905120"/>
            <a:ext cx="533160" cy="17524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3160" y="365760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65760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3657600"/>
            <a:ext cx="7621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505320"/>
            <a:ext cx="7617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81560" y="1905120"/>
            <a:ext cx="685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705720" y="1905120"/>
            <a:ext cx="2006640" cy="2514600"/>
            <a:chOff x="6705720" y="1905120"/>
            <a:chExt cx="2006640" cy="2514600"/>
          </a:xfrm>
        </p:grpSpPr>
        <p:sp>
          <p:nvSpPr>
            <p:cNvPr id="99" name=""/>
            <p:cNvSpPr/>
            <p:nvPr/>
          </p:nvSpPr>
          <p:spPr>
            <a:xfrm>
              <a:off x="7950240" y="335268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05720" y="190512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0592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0-10-18T14:23:43Z</dcterms:modified>
  <cp:revision>51</cp:revision>
  <dc:subject/>
  <dc:title>xPanel &amp; PCO2</dc:title>
</cp:coreProperties>
</file>