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B5C-56B1-4F68-819D-EFDA4C8552E7}" type="slidenum">
              <a:rPr b="0" lang="en-US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E1F4C5BC-8988-4139-82A2-B5B0FF8AF86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2514600"/>
            <a:ext cx="54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960" y="1828800"/>
            <a:ext cx="6823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ing (HISR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2120" y="114300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Operating System (Nucleus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94280" y="4114800"/>
            <a:ext cx="281304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94280" y="2666880"/>
            <a:ext cx="386856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4280" y="2209680"/>
            <a:ext cx="386856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2120" y="1676160"/>
            <a:ext cx="274320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280" y="914400"/>
            <a:ext cx="47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990720"/>
            <a:ext cx="4360680" cy="7077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8720" y="365760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S Lay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98720" y="510552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167652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3120" y="304812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13120" y="4495680"/>
            <a:ext cx="0" cy="6098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35320" y="120492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0880" y="365760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5480" y="2209680"/>
            <a:ext cx="246204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30880" y="220968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16480" y="167616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2666880"/>
            <a:ext cx="182880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2120" y="1905120"/>
            <a:ext cx="1689120" cy="23619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in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ex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primitiv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signal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timeou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onfig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run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2120" y="1218960"/>
            <a:ext cx="2743200" cy="685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81240" y="1676160"/>
            <a:ext cx="161748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9680" y="4876920"/>
            <a:ext cx="154764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os_...Drv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4280" y="3657600"/>
            <a:ext cx="2813040" cy="1219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59680" y="2590920"/>
            <a:ext cx="260316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c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t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Semaphor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m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d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o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Output/Trac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0880" y="4114800"/>
            <a:ext cx="182880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" y="1295280"/>
            <a:ext cx="788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6440" y="105552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2120" y="1600200"/>
            <a:ext cx="7034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reate() - export entity creation paramet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init() - open communication channels, initialize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exit() - close communication channels, free resour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primitive() - process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timeout() - process timeout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signal() - process signa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onfig() - dynamic entit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run() - main loop for active bod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7160" y="1055520"/>
            <a:ext cx="63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ameters exported by pei_create(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84240" y="1676520"/>
            <a:ext cx="7034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c T_PEI_INFO pei_info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NAM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-table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in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ex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primitiv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timeout,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signal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run,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config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monitor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STACK_SIZ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QUEUE_ENTRIE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IORITY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TIMER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OC_TYP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ACTIVE/PASSIVE body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680" y="90324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1) – Root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4267080"/>
            <a:ext cx="7034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pei_create() functions from 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 with the parameters exported by pei_create()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3240" y="167652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us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Application_Initializ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StartFram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5360" y="3048120"/>
            <a:ext cx="36576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p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global tab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5360" y="5775480"/>
            <a:ext cx="31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8960" y="903240"/>
            <a:ext cx="73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2) – Created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960" y="1523880"/>
            <a:ext cx="743904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kEntry ( TaskHandle ) called by the 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input queu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initialization -&gt; pei_init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ACTIVE_BODY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i_run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1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ASSIVE_BODY */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3240" y="5410080"/>
            <a:ext cx="66121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task entry function for all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ask has its own stack, stack size and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92120" y="8031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9200" y="901800"/>
            <a:ext cx="635292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si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si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mmgm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mm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gm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(int)"MMGMM"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rr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rr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*ComponentTables[]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si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mmgm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rr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6440" y="9032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e/Passive Bod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2057400"/>
            <a:ext cx="6612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120" y="1905120"/>
            <a:ext cx="842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Bod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ssive Bod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Loc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Func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i_run(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_TaskEntry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er defin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iting for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1960" y="2286000"/>
            <a:ext cx="703440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1932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120" y="48769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ection of active or passive is done with flags exported by pei_cre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720" y="90324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reate New Ent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324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ei interface by using the template xxx_pei.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ddress of xxx_pei_create() to task li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ource files for further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2120" y="1447920"/>
            <a:ext cx="796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7520" y="90324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280" y="1658880"/>
            <a:ext cx="849312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tack entities run in their own RTOS task or may be     grouped in one task, e.g. CC, SS, SMS, SM are grouped to the CM task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are created at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orities set during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is done by RTOS (preemptive multitasking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4495680"/>
            <a:ext cx="85806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as shared DLL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pplications are dynamically started and stopp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1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3240" y="1676520"/>
            <a:ext cx="805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sized buffers of different sizes -&gt;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emory 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(siz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191120"/>
            <a:ext cx="4572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76520" y="47242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57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962520"/>
            <a:ext cx="38973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0080" y="35812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191120"/>
            <a:ext cx="54468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4343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ITC Officina Sans Book"/>
              </a:rPr>
              <a:t>cn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2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3240" y="1676520"/>
            <a:ext cx="790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mitives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C(nam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4240" y="3733920"/>
            <a:ext cx="5769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390760" y="42670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9800" y="4724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05320"/>
            <a:ext cx="34290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2240" y="3124080"/>
            <a:ext cx="17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424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3809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55520" y="5410080"/>
            <a:ext cx="66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mitive header is initialized by the VSI func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3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5680" y="3733920"/>
            <a:ext cx="576756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392200" y="426672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81240" y="45720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3505320"/>
            <a:ext cx="18586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3680" y="312408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8568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8600" y="3809880"/>
            <a:ext cx="9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92200" y="3809880"/>
            <a:ext cx="1828800" cy="3812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1000" y="3505320"/>
            <a:ext cx="20275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3440" y="31240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3240" y="1523880"/>
            <a:ext cx="68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imitive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PO_ALLOC(name,gues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drpo_new(size,opc,gues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38760" y="3809880"/>
            <a:ext cx="1547280" cy="1099440"/>
            <a:chOff x="3938760" y="3809880"/>
            <a:chExt cx="1547280" cy="1099440"/>
          </a:xfrm>
        </p:grpSpPr>
        <p:sp>
          <p:nvSpPr>
            <p:cNvPr id="285" name=""/>
            <p:cNvSpPr/>
            <p:nvPr/>
          </p:nvSpPr>
          <p:spPr>
            <a:xfrm>
              <a:off x="4219920" y="3809880"/>
              <a:ext cx="1266120" cy="381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38760" y="3962520"/>
              <a:ext cx="5626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219920" y="4266720"/>
              <a:ext cx="0" cy="38124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08960" y="4572000"/>
              <a:ext cx="5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tr1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3240" y="2362320"/>
            <a:ext cx="6612120" cy="3918600"/>
            <a:chOff x="633240" y="2362320"/>
            <a:chExt cx="6612120" cy="3918600"/>
          </a:xfrm>
        </p:grpSpPr>
        <p:grpSp>
          <p:nvGrpSpPr>
            <p:cNvPr id="290" name=""/>
            <p:cNvGrpSpPr/>
            <p:nvPr/>
          </p:nvGrpSpPr>
          <p:grpSpPr>
            <a:xfrm>
              <a:off x="984600" y="3962520"/>
              <a:ext cx="5064480" cy="2318400"/>
              <a:chOff x="984600" y="3962520"/>
              <a:chExt cx="5064480" cy="2318400"/>
            </a:xfrm>
          </p:grpSpPr>
          <p:sp>
            <p:nvSpPr>
              <p:cNvPr id="291" name=""/>
              <p:cNvSpPr/>
              <p:nvPr/>
            </p:nvSpPr>
            <p:spPr>
              <a:xfrm>
                <a:off x="984600" y="5105520"/>
                <a:ext cx="50644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84600" y="5105520"/>
                <a:ext cx="14068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26800" y="51814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91480" y="5181480"/>
                <a:ext cx="3024360" cy="38124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984600" y="3962520"/>
                <a:ext cx="1195920" cy="114300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91120" y="3962520"/>
                <a:ext cx="703080" cy="12189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391480" y="5638320"/>
                <a:ext cx="0" cy="38124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80520" y="5943600"/>
                <a:ext cx="5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tr2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33240" y="2362320"/>
              <a:ext cx="6612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_ALLOC(ptr,siz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si_dp_new(ptr,siz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3240" y="2743200"/>
            <a:ext cx="612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(pt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free(ptr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2280" y="1143000"/>
            <a:ext cx="6892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put Message Queue for each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low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high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Entities with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a memory partition (PALLOC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primitive data in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partition address to destination queue (PSEND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partition address from input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primitive - Call pei_primitiv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artition (PFREE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600" y="8380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ample Interprocess Communic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1752480"/>
            <a:ext cx="6612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3280" y="1587600"/>
            <a:ext cx="140796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280" y="16635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3280" y="17398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3280" y="2197080"/>
            <a:ext cx="140796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3280" y="3187800"/>
            <a:ext cx="1407960" cy="12952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280" y="4635360"/>
            <a:ext cx="1407960" cy="16765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3280" y="2349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3280" y="25020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3280" y="3492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3280" y="37972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3280" y="52452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3280" y="58546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9680" y="120636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6440" y="189216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76440" y="2273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239220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46640" y="3416400"/>
            <a:ext cx="168732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33960" y="3187800"/>
            <a:ext cx="98568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76440" y="2730600"/>
            <a:ext cx="0" cy="3045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6440" y="3035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4164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0960" y="269712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nd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0960" y="185904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Store Primitive 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53160" y="3035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440" y="1249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 Poo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15120" y="410220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Receive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59680" y="49402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Process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5280" y="547380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e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76440" y="494028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3160" y="379728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76440" y="4178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65480" y="437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76440" y="471168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6440" y="417816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2320" y="185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2240" y="34164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376440" y="143460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81240" y="326376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390760" y="1434960"/>
            <a:ext cx="0" cy="1828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76440" y="5321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81240" y="341640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90760" y="3416400"/>
            <a:ext cx="0" cy="2286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87680" y="1206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90760" y="143496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65480" y="143496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2080" y="5473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0760" y="570240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65480" y="570240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430880" y="204480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71080" y="18525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82960" y="494028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30880" y="509256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77720" y="1020600"/>
            <a:ext cx="79329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struc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numb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input queue per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37200" y="210816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397512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39160" y="2997360"/>
            <a:ext cx="0" cy="9651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39160" y="4902120"/>
            <a:ext cx="0" cy="9651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39160" y="1143000"/>
            <a:ext cx="0" cy="9651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83160" y="2577960"/>
            <a:ext cx="1442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3160" y="2514600"/>
            <a:ext cx="1442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406760"/>
            <a:ext cx="87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2640" y="4470480"/>
            <a:ext cx="87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05240" y="4483080"/>
            <a:ext cx="0" cy="1270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95760" y="259092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95760" y="1257480"/>
            <a:ext cx="0" cy="126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70800" y="302256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92640" y="3340080"/>
            <a:ext cx="0" cy="105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70800" y="364500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181120" y="3340080"/>
            <a:ext cx="1489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606560" y="3645000"/>
            <a:ext cx="205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2040" y="3300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fa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32040" y="1433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44640" y="51800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640" y="45403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5040" y="2511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1480" y="9144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ITC Officina Sans Book"/>
              </a:rPr>
              <a:t>Primitive Process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2280" y="1676520"/>
            <a:ext cx="661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in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code (opc) 16/32 b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/downlin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/system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imer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6800" y="90324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2120" y="1371600"/>
            <a:ext cx="7432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start request by an entit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starts RTOS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TION: timer index has to be in the range between 0 and the number of timers exported by 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OS calls timeout routine in the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calls pei_timeout() in the 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up/slow down/suppres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" y="4876920"/>
            <a:ext cx="8651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, T_TIME 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o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tus ( T_HANDLE caller, USHORT index, T_TIME *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config (T_HANDLE caller, USHORT index, UBYTE mode, ULONG valu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emaphore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8600" y="90324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phore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1371600"/>
            <a:ext cx="661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emapho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f not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handle if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un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2280" y="4419720"/>
            <a:ext cx="7807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HANDLE vsi_s_open ( T_HANDLE caller, char *name, USHORT 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get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release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status (T_HANDLE caller, T_HANDLE handle, USHORT *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2120" y="1371600"/>
            <a:ext cx="804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440" y="9032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" y="1523880"/>
            <a:ext cx="750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rection and duplication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onfiguration via 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s available to select a subset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" y="3276720"/>
            <a:ext cx="85107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uplicated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ALL T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are redirected to T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 DUPLICATE RR 0000011000000001 PCO      duplicate RR_ACTIVATE_REQ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iscard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CL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all redirections of 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7520" y="90324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Observ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of primitive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3240" y="2629080"/>
            <a:ext cx="4149720" cy="3390840"/>
            <a:chOff x="633240" y="2629080"/>
            <a:chExt cx="4149720" cy="3390840"/>
          </a:xfrm>
        </p:grpSpPr>
        <p:sp>
          <p:nvSpPr>
            <p:cNvPr id="401" name=""/>
            <p:cNvSpPr/>
            <p:nvPr/>
          </p:nvSpPr>
          <p:spPr>
            <a:xfrm>
              <a:off x="633240" y="262908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920" y="3344760"/>
              <a:ext cx="1828440" cy="5526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68400" y="3467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7920" y="4746600"/>
              <a:ext cx="1828440" cy="5097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3400" y="484812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3480" y="379728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57080" y="4168800"/>
              <a:ext cx="68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55080" y="4324320"/>
              <a:ext cx="1298160" cy="324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484" y="0"/>
                  </a:moveTo>
                  <a:lnTo>
                    <a:pt x="24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37400" y="423864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50160" y="3897360"/>
              <a:ext cx="363240" cy="849240"/>
            </a:xfrm>
            <a:custGeom>
              <a:avLst/>
              <a:gdLst/>
              <a:ahLst/>
              <a:rect l="l" t="t" r="r" b="b"/>
              <a:pathLst>
                <a:path w="136" h="229">
                  <a:moveTo>
                    <a:pt x="34" y="195"/>
                  </a:moveTo>
                  <a:lnTo>
                    <a:pt x="0" y="195"/>
                  </a:lnTo>
                  <a:lnTo>
                    <a:pt x="68" y="229"/>
                  </a:lnTo>
                  <a:lnTo>
                    <a:pt x="136" y="195"/>
                  </a:lnTo>
                  <a:lnTo>
                    <a:pt x="102" y="195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50160" y="28335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0160" y="5256360"/>
              <a:ext cx="363240" cy="50796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34" y="103"/>
                  </a:moveTo>
                  <a:lnTo>
                    <a:pt x="0" y="103"/>
                  </a:lnTo>
                  <a:lnTo>
                    <a:pt x="68" y="137"/>
                  </a:lnTo>
                  <a:lnTo>
                    <a:pt x="136" y="103"/>
                  </a:lnTo>
                  <a:lnTo>
                    <a:pt x="102" y="103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33960" y="2590920"/>
            <a:ext cx="351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DUPLICATE RR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6440" y="90324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Te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of a single entity in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33960" y="2286000"/>
            <a:ext cx="2884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61960" y="2286000"/>
            <a:ext cx="4151160" cy="4038480"/>
            <a:chOff x="561960" y="2286000"/>
            <a:chExt cx="4151160" cy="4038480"/>
          </a:xfrm>
        </p:grpSpPr>
        <p:sp>
          <p:nvSpPr>
            <p:cNvPr id="419" name=""/>
            <p:cNvSpPr/>
            <p:nvPr/>
          </p:nvSpPr>
          <p:spPr>
            <a:xfrm>
              <a:off x="561960" y="2286000"/>
              <a:ext cx="4151160" cy="4038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40" y="4027320"/>
              <a:ext cx="1830600" cy="562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7480" y="4151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2920" y="518148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93400" y="525780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04720" y="4481640"/>
              <a:ext cx="1201680" cy="1057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88320" y="485604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76360" y="571500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62480" y="4730760"/>
              <a:ext cx="1437840" cy="280800"/>
            </a:xfrm>
            <a:custGeom>
              <a:avLst/>
              <a:gdLst/>
              <a:ahLst/>
              <a:rect l="l" t="t" r="r" b="b"/>
              <a:pathLst>
                <a:path w="536" h="76">
                  <a:moveTo>
                    <a:pt x="0" y="0"/>
                  </a:moveTo>
                  <a:lnTo>
                    <a:pt x="0" y="76"/>
                  </a:lnTo>
                  <a:lnTo>
                    <a:pt x="536" y="7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02360" y="4589640"/>
              <a:ext cx="11844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84120" y="492768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62480" y="3605040"/>
              <a:ext cx="1418760" cy="1151280"/>
            </a:xfrm>
            <a:custGeom>
              <a:avLst/>
              <a:gdLst/>
              <a:ahLst/>
              <a:rect l="l" t="t" r="r" b="b"/>
              <a:pathLst>
                <a:path w="529" h="310">
                  <a:moveTo>
                    <a:pt x="529" y="310"/>
                  </a:moveTo>
                  <a:lnTo>
                    <a:pt x="455" y="310"/>
                  </a:lnTo>
                  <a:lnTo>
                    <a:pt x="455" y="155"/>
                  </a:lnTo>
                  <a:lnTo>
                    <a:pt x="455" y="0"/>
                  </a:lnTo>
                  <a:lnTo>
                    <a:pt x="0" y="0"/>
                  </a:lnTo>
                  <a:lnTo>
                    <a:pt x="0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8280" y="467352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2360" y="386064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44" y="0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2920" y="297180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64320" y="30481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243828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8600" y="90324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Manip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 of primitive content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05240" y="2819520"/>
            <a:ext cx="3252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33240" y="2776680"/>
            <a:ext cx="4149720" cy="3387600"/>
            <a:chOff x="633240" y="2776680"/>
            <a:chExt cx="4149720" cy="3387600"/>
          </a:xfrm>
        </p:grpSpPr>
        <p:sp>
          <p:nvSpPr>
            <p:cNvPr id="441" name=""/>
            <p:cNvSpPr/>
            <p:nvPr/>
          </p:nvSpPr>
          <p:spPr>
            <a:xfrm>
              <a:off x="633240" y="2776680"/>
              <a:ext cx="4149720" cy="3387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7920" y="3505320"/>
              <a:ext cx="1828440" cy="5428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47280" y="3657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7920" y="4897440"/>
              <a:ext cx="1828440" cy="503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17840" y="50292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73480" y="3948120"/>
              <a:ext cx="1201320" cy="10494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04440" y="434340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50160" y="29811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50160" y="540072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31960" y="4556160"/>
              <a:ext cx="1421280" cy="191880"/>
            </a:xfrm>
            <a:custGeom>
              <a:avLst/>
              <a:gdLst/>
              <a:ahLst/>
              <a:rect l="l" t="t" r="r" b="b"/>
              <a:pathLst>
                <a:path w="530" h="52">
                  <a:moveTo>
                    <a:pt x="0" y="52"/>
                  </a:moveTo>
                  <a:lnTo>
                    <a:pt x="0" y="0"/>
                  </a:lnTo>
                  <a:lnTo>
                    <a:pt x="53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0400" y="473076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23" y="4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37400" y="4475160"/>
              <a:ext cx="120240" cy="1620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1960" y="4192560"/>
              <a:ext cx="1421280" cy="196920"/>
            </a:xfrm>
            <a:custGeom>
              <a:avLst/>
              <a:gdLst/>
              <a:ahLst/>
              <a:rect l="l" t="t" r="r" b="b"/>
              <a:pathLst>
                <a:path w="530" h="53">
                  <a:moveTo>
                    <a:pt x="0" y="0"/>
                  </a:moveTo>
                  <a:lnTo>
                    <a:pt x="0" y="53"/>
                  </a:lnTo>
                  <a:lnTo>
                    <a:pt x="530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70400" y="404820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7400" y="430380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6800" y="90324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Sim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2120" y="1523880"/>
            <a:ext cx="77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entities on different platforms (target, PC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33960" y="2590920"/>
            <a:ext cx="3517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33240" y="2590920"/>
            <a:ext cx="4149720" cy="3390840"/>
            <a:chOff x="633240" y="2590920"/>
            <a:chExt cx="4149720" cy="3390840"/>
          </a:xfrm>
        </p:grpSpPr>
        <p:sp>
          <p:nvSpPr>
            <p:cNvPr id="461" name=""/>
            <p:cNvSpPr/>
            <p:nvPr/>
          </p:nvSpPr>
          <p:spPr>
            <a:xfrm>
              <a:off x="633240" y="259092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7920" y="3981600"/>
              <a:ext cx="182988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79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48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2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98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861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30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2040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880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54320" y="4538520"/>
              <a:ext cx="435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1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8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56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3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894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6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44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91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76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250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95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6144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287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6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37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31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969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6428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31960" y="4505400"/>
              <a:ext cx="15840" cy="33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647800" y="440820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647800" y="4316040"/>
              <a:ext cx="288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647800" y="422244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647800" y="4130640"/>
              <a:ext cx="28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47800" y="4036680"/>
              <a:ext cx="28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18640" y="3981600"/>
              <a:ext cx="291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5506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483640" y="3981600"/>
              <a:ext cx="410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4163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3500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2824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154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81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0818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014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4724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8799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122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7463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6765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16088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5429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4752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083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3406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2747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2070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1401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0724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00476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93960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871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7920" y="3981600"/>
              <a:ext cx="273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920" y="4037040"/>
              <a:ext cx="25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7920" y="4130640"/>
              <a:ext cx="252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7920" y="422280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17920" y="4316400"/>
              <a:ext cx="25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7920" y="440856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7920" y="4505400"/>
              <a:ext cx="252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17480" y="415296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7920" y="4960800"/>
              <a:ext cx="1829880" cy="5130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7840" y="506736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5880" y="373392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7560" y="411480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MM(PC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47640" y="5473800"/>
              <a:ext cx="367560" cy="422280"/>
            </a:xfrm>
            <a:custGeom>
              <a:avLst/>
              <a:gdLst/>
              <a:ahLst/>
              <a:rect l="l" t="t" r="r" b="b"/>
              <a:pathLst>
                <a:path w="137" h="114">
                  <a:moveTo>
                    <a:pt x="35" y="86"/>
                  </a:moveTo>
                  <a:lnTo>
                    <a:pt x="0" y="86"/>
                  </a:lnTo>
                  <a:lnTo>
                    <a:pt x="69" y="114"/>
                  </a:lnTo>
                  <a:lnTo>
                    <a:pt x="137" y="86"/>
                  </a:lnTo>
                  <a:lnTo>
                    <a:pt x="103" y="86"/>
                  </a:lnTo>
                  <a:lnTo>
                    <a:pt x="103" y="29"/>
                  </a:lnTo>
                  <a:lnTo>
                    <a:pt x="137" y="29"/>
                  </a:lnTo>
                  <a:lnTo>
                    <a:pt x="69" y="0"/>
                  </a:lnTo>
                  <a:lnTo>
                    <a:pt x="0" y="29"/>
                  </a:lnTo>
                  <a:lnTo>
                    <a:pt x="35" y="29"/>
                  </a:lnTo>
                  <a:lnTo>
                    <a:pt x="35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33760" y="4708440"/>
              <a:ext cx="1418040" cy="112680"/>
            </a:xfrm>
            <a:custGeom>
              <a:avLst/>
              <a:gdLst/>
              <a:ahLst/>
              <a:rect l="l" t="t" r="r" b="b"/>
              <a:pathLst>
                <a:path w="529" h="30">
                  <a:moveTo>
                    <a:pt x="0" y="30"/>
                  </a:moveTo>
                  <a:lnTo>
                    <a:pt x="0" y="0"/>
                  </a:lnTo>
                  <a:lnTo>
                    <a:pt x="5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73640" y="4799160"/>
              <a:ext cx="118440" cy="161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2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38840" y="462456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7920" y="2987640"/>
              <a:ext cx="1829880" cy="557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17840" y="3086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47640" y="2671920"/>
              <a:ext cx="367560" cy="315720"/>
            </a:xfrm>
            <a:custGeom>
              <a:avLst/>
              <a:gdLst/>
              <a:ahLst/>
              <a:rect l="l" t="t" r="r" b="b"/>
              <a:pathLst>
                <a:path w="137" h="85">
                  <a:moveTo>
                    <a:pt x="35" y="64"/>
                  </a:moveTo>
                  <a:lnTo>
                    <a:pt x="0" y="64"/>
                  </a:lnTo>
                  <a:lnTo>
                    <a:pt x="69" y="85"/>
                  </a:lnTo>
                  <a:lnTo>
                    <a:pt x="137" y="64"/>
                  </a:lnTo>
                  <a:lnTo>
                    <a:pt x="103" y="64"/>
                  </a:lnTo>
                  <a:lnTo>
                    <a:pt x="103" y="22"/>
                  </a:lnTo>
                  <a:lnTo>
                    <a:pt x="137" y="22"/>
                  </a:lnTo>
                  <a:lnTo>
                    <a:pt x="69" y="0"/>
                  </a:lnTo>
                  <a:lnTo>
                    <a:pt x="0" y="22"/>
                  </a:lnTo>
                  <a:lnTo>
                    <a:pt x="35" y="22"/>
                  </a:lnTo>
                  <a:lnTo>
                    <a:pt x="35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33760" y="3692520"/>
              <a:ext cx="1418040" cy="166680"/>
            </a:xfrm>
            <a:custGeom>
              <a:avLst/>
              <a:gdLst/>
              <a:ahLst/>
              <a:rect l="l" t="t" r="r" b="b"/>
              <a:pathLst>
                <a:path w="529" h="45">
                  <a:moveTo>
                    <a:pt x="0" y="0"/>
                  </a:moveTo>
                  <a:lnTo>
                    <a:pt x="0" y="45"/>
                  </a:lnTo>
                  <a:lnTo>
                    <a:pt x="529" y="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73640" y="354492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8840" y="377820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48512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2280" y="1066680"/>
            <a:ext cx="826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y to Follow the System State without Debugg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720" y="3646440"/>
            <a:ext cx="1830240" cy="561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98920" y="3770280"/>
            <a:ext cx="102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3280" y="480060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94120" y="4876920"/>
            <a:ext cx="7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4664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67840" y="37339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5334120"/>
            <a:ext cx="368280" cy="50616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3280" y="259092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760" y="266688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205740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6756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71680" y="37339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76360" y="4267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76360" y="3124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02080" y="281952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3886200"/>
            <a:ext cx="8445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2080" y="50292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024360" y="4114800"/>
            <a:ext cx="0" cy="914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024360" y="2819520"/>
            <a:ext cx="0" cy="838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4360" y="36576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4360" y="41148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41840" y="3886200"/>
            <a:ext cx="11257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1120" y="37479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2360" y="3867120"/>
            <a:ext cx="4827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cap="rnd" w="2232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6840" y="5702400"/>
            <a:ext cx="74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49360" y="5761080"/>
            <a:ext cx="84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2280" y="1066680"/>
            <a:ext cx="803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Classe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FUNCTION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RACE_IN(), PTRACE_OU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STATE(), SET_ST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RROR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VEN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CC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race class with trace mask in th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tivation of traces via system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coding of strings to be trac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can define his own trace class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Primitiv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5320" y="9540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d Resource Inform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TASK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Stat: 6 Count: 288 Prio: 205 Stack: 871240 Size: 1736 Untouched: 808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Addr: 879188 Entries: 10 Used: 0 MaxUsed: 4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POOL10 Addr: 85c998 PoolSize: 7128 PartSize: 64 Free: 86 Used: 1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MEMOR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ONDAT Addr: 86e634 Size: 60000 Min: 4 Free: 12548 Suspend: 6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EMAPHOR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CD_COD Count: 1 Suspend: 11 Waiting: 0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240" y="90324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Pool Monitor -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" y="1600200"/>
            <a:ext cx="6612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ing of the partition stat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user (file,lin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" y="3809880"/>
            <a:ext cx="5275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cs on partition u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ze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mp via test interfa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7880" y="903240"/>
            <a:ext cx="53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 Pool Monitor - Outpu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2120" y="1447920"/>
            <a:ext cx="865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d Parti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88, OPC 0x0 STATE ALLOCATED OWNER UART, TIME 670, uart_dtxf.c,245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d8, OPC 0x0 STATE ALLOCATED OWNER MMI, TIME 666, aci_lst.c,147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2120" y="2743200"/>
            <a:ext cx="8370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NAME: PRI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0 (size 60)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ool 0: 1849 by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61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ool 0:  50 part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50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RANGE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,   3,  11,  41,   4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TOTAL  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,  23, 541, 497, 115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638680"/>
            <a:ext cx="60958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648320"/>
            <a:ext cx="24382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viera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P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4648320"/>
            <a:ext cx="259056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F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1337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514600"/>
            <a:ext cx="0" cy="2133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523880"/>
            <a:ext cx="24382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523880"/>
            <a:ext cx="24386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6800" y="90324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ror Handling – System Warning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" y="1523880"/>
            <a:ext cx="804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spac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partition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si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opc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gger partition allocated than requested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Partition Deallocation failed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tored i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Receiver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unkn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Invalid system primitive st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Number of written &gt; requested partition siz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, l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2120" y="4724280"/>
            <a:ext cx="85755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warning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diagnose_write (warning_string, DAR_WARNING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95720" y="903240"/>
            <a:ext cx="54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Error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2120" y="1600200"/>
            <a:ext cx="815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Timers &gt; MAX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entities &gt; MAX_ENTITIE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started timers &gt; MAX_SIMULTANEOUS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created semaphores &gt; MAX_SEMAPH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Partition Guard Pattern destroy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ptr, op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o Partition available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rite attemp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 faile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tack overflow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Error at crea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TimerIndex &gt; NumOfTim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2120" y="4952880"/>
            <a:ext cx="8089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error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generate_emergency (error_string, ...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880" y="9032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State Dump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2120" y="1600200"/>
            <a:ext cx="8159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5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186b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Processed Messag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opc: 0x8, time: 26149 ptr: 0x85f7b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I: task state: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MMI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2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task state: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2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0ded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 opc: 0x1, time: 0 ptr: 0x0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E opc: 0x5600, time: 27916 ptr: 0x863c24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: task stat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SI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C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1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IRQ suspend, Program Counter = 0x1ad54c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Processed Message:    PRIMITIVE opc: 0x8000, time: 26149 ptr: 0x85f8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Messages in queue:      PRIMITIVE opc: 0x4608, time: 26690 ptr: 0x85ff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2120" y="1295280"/>
            <a:ext cx="827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2120" y="1219320"/>
            <a:ext cx="6612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as a Tas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Interf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imitives (configurati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o test system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d 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exchange of driver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000" y="90324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1120" y="1219320"/>
            <a:ext cx="5907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Init(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be notifi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5560" y="3808440"/>
            <a:ext cx="708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 T_DRV_LIST_ENTRY DrvList[] =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IF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F_Init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TST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R"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_Init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SER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_Init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amp;SER_DefaultConfig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2120" y="990720"/>
            <a:ext cx="808992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Converter (PCON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number representation (little vs. big endia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alignment mod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containing poin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alled in TIF driver when primitive is sent or receiv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2120" y="990720"/>
            <a:ext cx="80899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Entity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rings transparently through TST and the frame to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3440" y="2209680"/>
            <a:ext cx="7525800" cy="2656080"/>
            <a:chOff x="703440" y="2209680"/>
            <a:chExt cx="7525800" cy="2656080"/>
          </a:xfrm>
        </p:grpSpPr>
        <p:sp>
          <p:nvSpPr>
            <p:cNvPr id="612" name=""/>
            <p:cNvSpPr/>
            <p:nvPr/>
          </p:nvSpPr>
          <p:spPr>
            <a:xfrm>
              <a:off x="703440" y="3948480"/>
              <a:ext cx="393876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9200" y="4497480"/>
              <a:ext cx="10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3440" y="2209680"/>
              <a:ext cx="16880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798000" y="2209680"/>
              <a:ext cx="914040" cy="785520"/>
              <a:chOff x="3798000" y="2209680"/>
              <a:chExt cx="914040" cy="785520"/>
            </a:xfrm>
          </p:grpSpPr>
          <p:sp>
            <p:nvSpPr>
              <p:cNvPr id="616" name=""/>
              <p:cNvSpPr/>
              <p:nvPr/>
            </p:nvSpPr>
            <p:spPr>
              <a:xfrm>
                <a:off x="3798000" y="2209680"/>
                <a:ext cx="84420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08960" y="248400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265760" y="23929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I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42200" y="2667240"/>
              <a:ext cx="23209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3480" y="2209680"/>
              <a:ext cx="84384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33680" y="248400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3160" y="2301120"/>
              <a:ext cx="210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MI CONFIG 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84240" y="2758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config(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476720" y="312444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720" y="3399480"/>
              <a:ext cx="1336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0280" y="312480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03440" y="4495680"/>
            <a:ext cx="805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ity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MM CONFIG MULTISLOT_CLASS=&lt;8&g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 command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MI CONFIG AT+CFUN=1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2R CONFIG TIMER_SET TUP_SND 1000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306600" y="3962520"/>
            <a:ext cx="2532240" cy="19047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764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620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2040" y="396252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6204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62040" y="327672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62040" y="426708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62040" y="5181480"/>
            <a:ext cx="844560" cy="3070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_TR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4876920"/>
            <a:ext cx="91440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46640" y="3276720"/>
            <a:ext cx="84420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0660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5181480"/>
            <a:ext cx="70452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21000" y="2971800"/>
            <a:ext cx="161784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06600" y="342900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51160" y="541008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68080" y="90324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– Target Driver Configuration 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3240" y="2971800"/>
            <a:ext cx="105444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8960" y="2971800"/>
            <a:ext cx="70308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86200"/>
            <a:ext cx="70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3280" y="4267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3240" y="2133720"/>
            <a:ext cx="267192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81240" y="220968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0840" y="3048120"/>
            <a:ext cx="281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fd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0996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8432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7680" y="4419720"/>
            <a:ext cx="71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19560" y="4343400"/>
            <a:ext cx="2814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tr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2120" y="1447920"/>
            <a:ext cx="827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1760" y="5595840"/>
            <a:ext cx="1828800" cy="874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, WIN32, pSOS, VxWork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41760" y="871560"/>
            <a:ext cx="4221360" cy="1143000"/>
            <a:chOff x="4541760" y="871560"/>
            <a:chExt cx="4221360" cy="1143000"/>
          </a:xfrm>
        </p:grpSpPr>
        <p:sp>
          <p:nvSpPr>
            <p:cNvPr id="119" name=""/>
            <p:cNvSpPr/>
            <p:nvPr/>
          </p:nvSpPr>
          <p:spPr>
            <a:xfrm>
              <a:off x="4541760" y="871560"/>
              <a:ext cx="4221360" cy="6616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tocol Stack Entitie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788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8940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41760" y="2014560"/>
            <a:ext cx="2603520" cy="2514600"/>
            <a:chOff x="4541760" y="2014560"/>
            <a:chExt cx="2603520" cy="2514600"/>
          </a:xfrm>
        </p:grpSpPr>
        <p:sp>
          <p:nvSpPr>
            <p:cNvPr id="123" name=""/>
            <p:cNvSpPr/>
            <p:nvPr/>
          </p:nvSpPr>
          <p:spPr>
            <a:xfrm>
              <a:off x="4541760" y="2014560"/>
              <a:ext cx="1829520" cy="20574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me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s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rtual O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 Extension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assive Mod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ory Supervis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mer Configura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rtu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844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16032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0320" y="4147920"/>
              <a:ext cx="98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41760" y="4529160"/>
            <a:ext cx="2482920" cy="1066680"/>
            <a:chOff x="4541760" y="4529160"/>
            <a:chExt cx="2482920" cy="1066680"/>
          </a:xfrm>
        </p:grpSpPr>
        <p:sp>
          <p:nvSpPr>
            <p:cNvPr id="128" name=""/>
            <p:cNvSpPr/>
            <p:nvPr/>
          </p:nvSpPr>
          <p:spPr>
            <a:xfrm>
              <a:off x="4541760" y="4529160"/>
              <a:ext cx="1829160" cy="615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S Layer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s_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daptation to RTOS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5996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59600" y="52862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370560" y="1557360"/>
            <a:ext cx="2392200" cy="1332000"/>
            <a:chOff x="6370560" y="1557360"/>
            <a:chExt cx="2392200" cy="1332000"/>
          </a:xfrm>
        </p:grpSpPr>
        <p:sp>
          <p:nvSpPr>
            <p:cNvPr id="133" name=""/>
            <p:cNvSpPr/>
            <p:nvPr/>
          </p:nvSpPr>
          <p:spPr>
            <a:xfrm>
              <a:off x="7144560" y="2014560"/>
              <a:ext cx="1618200" cy="874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ardware Abstrac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70560" y="216684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70560" y="247176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246672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36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0400" y="18572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_ini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8600" y="3886200"/>
            <a:ext cx="3586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System Interface (VS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Interface (O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96800" y="90324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1960" y="1523880"/>
            <a:ext cx="6612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mp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drv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init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_Initialize() func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size of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asks, timers, semaphor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3240" y="5486400"/>
            <a:ext cx="79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 frame recompilation when configuration files are chang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720" y="90324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vided Frame Librar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1960" y="1523880"/>
            <a:ext cx="337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manag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phor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terfac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06880" y="1523880"/>
            <a:ext cx="42894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a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arm7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MNT 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pool supervis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internal RA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f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flash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1960" y="5029200"/>
            <a:ext cx="745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a7_db_fl.lib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targe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pc_db_ps.li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" y="903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quired Resour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1960" y="1752480"/>
            <a:ext cx="7896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 [kB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[kB]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fl.lib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x_na7_db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120" y="1295280"/>
            <a:ext cx="796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3240" y="1066680"/>
            <a:ext cx="2109960" cy="9860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2/3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57600" y="29718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0956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3240" y="3429000"/>
            <a:ext cx="4500720" cy="2057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 O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Extension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ive Mode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Supervis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24360" y="1066680"/>
            <a:ext cx="2109600" cy="986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1 asynchronou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4360" y="2590920"/>
            <a:ext cx="126648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7760" y="21337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57200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812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8960" y="3429000"/>
            <a:ext cx="225108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32240" y="350532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812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97360" y="1066680"/>
            <a:ext cx="1828800" cy="1067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98720" y="23623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798720" y="2362320"/>
            <a:ext cx="2813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611760" y="21337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2668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81160" y="914400"/>
            <a:ext cx="8510400" cy="2590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1160" y="3505320"/>
            <a:ext cx="8510400" cy="1371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160" y="4876920"/>
            <a:ext cx="8510400" cy="129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10040" y="1143000"/>
            <a:ext cx="2390400" cy="685800"/>
            <a:chOff x="4010040" y="1143000"/>
            <a:chExt cx="2390400" cy="685800"/>
          </a:xfrm>
        </p:grpSpPr>
        <p:sp>
          <p:nvSpPr>
            <p:cNvPr id="694" name=""/>
            <p:cNvSpPr/>
            <p:nvPr/>
          </p:nvSpPr>
          <p:spPr>
            <a:xfrm>
              <a:off x="4010040" y="1371600"/>
              <a:ext cx="105480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2100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3196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292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5388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64840" y="1143000"/>
              <a:ext cx="133560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24360" y="5257800"/>
            <a:ext cx="2391840" cy="685800"/>
            <a:chOff x="3024360" y="5257800"/>
            <a:chExt cx="2391840" cy="685800"/>
          </a:xfrm>
        </p:grpSpPr>
        <p:sp>
          <p:nvSpPr>
            <p:cNvPr id="703" name=""/>
            <p:cNvSpPr/>
            <p:nvPr/>
          </p:nvSpPr>
          <p:spPr>
            <a:xfrm>
              <a:off x="3024360" y="5486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3532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628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5760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6856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79520" y="5257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1A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3440" y="5257800"/>
            <a:ext cx="13363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024360" y="3886200"/>
            <a:ext cx="2391840" cy="685800"/>
            <a:chOff x="3024360" y="3886200"/>
            <a:chExt cx="2391840" cy="685800"/>
          </a:xfrm>
        </p:grpSpPr>
        <p:sp>
          <p:nvSpPr>
            <p:cNvPr id="711" name=""/>
            <p:cNvSpPr/>
            <p:nvPr/>
          </p:nvSpPr>
          <p:spPr>
            <a:xfrm>
              <a:off x="3024360" y="41148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3532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4628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760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6856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79520" y="38862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C/AL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516480" y="1828800"/>
            <a:ext cx="2391840" cy="685800"/>
            <a:chOff x="3516480" y="1828800"/>
            <a:chExt cx="2391840" cy="685800"/>
          </a:xfrm>
        </p:grpSpPr>
        <p:sp>
          <p:nvSpPr>
            <p:cNvPr id="718" name=""/>
            <p:cNvSpPr/>
            <p:nvPr/>
          </p:nvSpPr>
          <p:spPr>
            <a:xfrm>
              <a:off x="3516480" y="2057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2744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3840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4972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6068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1640" y="1828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024360" y="2514600"/>
            <a:ext cx="2391840" cy="685800"/>
            <a:chOff x="3024360" y="2514600"/>
            <a:chExt cx="2391840" cy="685800"/>
          </a:xfrm>
        </p:grpSpPr>
        <p:sp>
          <p:nvSpPr>
            <p:cNvPr id="725" name=""/>
            <p:cNvSpPr/>
            <p:nvPr/>
          </p:nvSpPr>
          <p:spPr>
            <a:xfrm>
              <a:off x="3024360" y="27432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532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4628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5760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6856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79520" y="25146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6861960" y="19810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 Layer 2/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862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Adapt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61240" y="5334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 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" y="5105520"/>
            <a:ext cx="28080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2240" y="5254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39760" y="5638680"/>
            <a:ext cx="9846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62040" y="55627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82960" y="45720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462040" y="51055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461680" y="47242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82960" y="49528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62040" y="47242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62040" y="42670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62040" y="42670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3440" y="510552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21920" y="4952520"/>
            <a:ext cx="2811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82960" y="3200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461680" y="33526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782960" y="35812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62040" y="33526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62040" y="28954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62040" y="28954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62040" y="41911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462040" y="37339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62040" y="28195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54160" y="22096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46640" y="1523880"/>
            <a:ext cx="5634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06520" y="2666880"/>
            <a:ext cx="9144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2440" y="3886200"/>
            <a:ext cx="91440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50880" y="27892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476360" y="3276360"/>
            <a:ext cx="352440" cy="1981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844200" y="4495320"/>
            <a:ext cx="35100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290840" y="3048120"/>
            <a:ext cx="4361040" cy="1143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90840" y="1905120"/>
            <a:ext cx="4361040" cy="1143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62040" y="1905120"/>
            <a:ext cx="1828800" cy="2286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62040" y="4191120"/>
            <a:ext cx="618984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92120" y="1905120"/>
            <a:ext cx="1969920" cy="342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73280" y="3276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3280" y="2133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C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733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p_Initialize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73360" y="3276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skEntry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7336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1A_task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0216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alloc_prim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4192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send_sig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192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send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21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new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49440" y="33465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49440" y="22795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27160" y="46418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4840" y="10587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Startup and L1 Frame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476360" y="441936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476360" y="38862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67560" y="41083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476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51080" y="2438280"/>
            <a:ext cx="422280" cy="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764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76440" y="3886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S_HISR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868560" y="3809520"/>
            <a:ext cx="98460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079880" y="3809880"/>
            <a:ext cx="2673360" cy="990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753240" y="3885840"/>
            <a:ext cx="42084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5486040" y="3885840"/>
            <a:ext cx="28116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052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7245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62040" y="1905120"/>
            <a:ext cx="618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8651880" y="1904760"/>
            <a:ext cx="0" cy="1143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231760" y="49467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10560" y="380376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98240" y="26607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53240" y="50227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64560" y="280368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Document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2120" y="1219320"/>
            <a:ext cx="73152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Users Guid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34.100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I/PEI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3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6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657600" y="2666880"/>
            <a:ext cx="386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2120" y="1828800"/>
            <a:ext cx="2391840" cy="3111480"/>
            <a:chOff x="492120" y="1828800"/>
            <a:chExt cx="2391840" cy="3111480"/>
          </a:xfrm>
        </p:grpSpPr>
        <p:sp>
          <p:nvSpPr>
            <p:cNvPr id="142" name=""/>
            <p:cNvSpPr/>
            <p:nvPr/>
          </p:nvSpPr>
          <p:spPr>
            <a:xfrm>
              <a:off x="492120" y="3733560"/>
              <a:ext cx="232164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TOS (Nucleu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2971800"/>
              <a:ext cx="232164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3352680"/>
              <a:ext cx="232164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3640" y="182880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60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9560" y="2133360"/>
              <a:ext cx="84420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520" y="198108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2120" y="213336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052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S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308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13040" y="2133720"/>
            <a:ext cx="5838480" cy="2806560"/>
            <a:chOff x="2813040" y="2133720"/>
            <a:chExt cx="5838480" cy="2806560"/>
          </a:xfrm>
        </p:grpSpPr>
        <p:sp>
          <p:nvSpPr>
            <p:cNvPr id="153" name=""/>
            <p:cNvSpPr/>
            <p:nvPr/>
          </p:nvSpPr>
          <p:spPr>
            <a:xfrm>
              <a:off x="5063760" y="3733920"/>
              <a:ext cx="358776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M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OS (Window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63760" y="2971800"/>
              <a:ext cx="267300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3760" y="3352680"/>
              <a:ext cx="267300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024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29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785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63760" y="2133720"/>
              <a:ext cx="914040" cy="785520"/>
              <a:chOff x="5063760" y="2133720"/>
              <a:chExt cx="914040" cy="78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5063760" y="2133720"/>
                <a:ext cx="84384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74720" y="236196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048720" y="236232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3760" y="4114800"/>
              <a:ext cx="3587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3680" y="236232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07680" y="2133720"/>
              <a:ext cx="843840" cy="16002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8080" y="23623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3040" y="2514600"/>
              <a:ext cx="225072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055520" y="5334120"/>
            <a:ext cx="68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same frame is used for target and tools !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280" y="99072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ame in Target and 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3040" y="2133720"/>
            <a:ext cx="2250720" cy="785520"/>
            <a:chOff x="2813040" y="2133720"/>
            <a:chExt cx="2250720" cy="785520"/>
          </a:xfrm>
        </p:grpSpPr>
        <p:sp>
          <p:nvSpPr>
            <p:cNvPr id="171" name=""/>
            <p:cNvSpPr/>
            <p:nvPr/>
          </p:nvSpPr>
          <p:spPr>
            <a:xfrm>
              <a:off x="281304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2880" y="2362320"/>
              <a:ext cx="5626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V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9012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60320" y="2362320"/>
              <a:ext cx="703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6680" y="2514600"/>
              <a:ext cx="70344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720" y="90324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1752480"/>
            <a:ext cx="7034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implement the protocol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achin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of the GSM/GPRS/UMTS specification (e.g. GSM 04.08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access to RTOS resourc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 of process (act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6800" y="90324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1960" y="1523880"/>
            <a:ext cx="721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s of processes (pass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6440" y="90324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S Layer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960" y="160020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e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dependent diagno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dependencies – Nucleus MNT &amp; ARM7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is independent of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8:39:10Z</dcterms:created>
  <dc:creator>kk</dc:creator>
  <dc:description/>
  <dc:language>en-US</dc:language>
  <cp:lastModifiedBy>mp</cp:lastModifiedBy>
  <dcterms:modified xsi:type="dcterms:W3CDTF">2003-06-23T09:56:57Z</dcterms:modified>
  <cp:revision>38</cp:revision>
  <dc:subject/>
  <dc:title>PowerPoint-Präsentation</dc:title>
</cp:coreProperties>
</file>