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6E5E-6B2A-4929-B4C5-ED8A1796A5EC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4A0B951A-80A9-4D80-91F7-DE07FD14F94C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457200"/>
            <a:ext cx="76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069"/>
                </a:solidFill>
                <a:latin typeface="Arial"/>
              </a:rPr>
              <a:t>PCO</a:t>
            </a:r>
            <a:endParaRPr b="0" lang="en-US" sz="8800" spc="-1" strike="noStrike">
              <a:solidFill>
                <a:srgbClr val="003069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3069"/>
                </a:solidFill>
                <a:latin typeface="Arial"/>
              </a:rPr>
              <a:t>Features Overview</a:t>
            </a:r>
            <a:endParaRPr b="0" lang="en-US" sz="5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Integration with other Tool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069"/>
                </a:solidFill>
                <a:latin typeface="Arial"/>
              </a:rPr>
              <a:t>Thanx for your patience </a:t>
            </a:r>
            <a:r>
              <a:rPr b="1" lang="de-DE" sz="4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9068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PCO – Point of Control and Observ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control of the PS behaviour and produced traces via system command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observation of all kinds of states and the data flow inside the P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nline and offline mode availab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Freely combinable set of GUI applications and scriptable command line too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pen interface to derive customized viewe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a dedicated Engineering Mode Window is under develop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3581280"/>
            <a:ext cx="8388360" cy="2821680"/>
            <a:chOff x="380880" y="3581280"/>
            <a:chExt cx="8388360" cy="2821680"/>
          </a:xfrm>
        </p:grpSpPr>
        <p:sp>
          <p:nvSpPr>
            <p:cNvPr id="87" name=""/>
            <p:cNvSpPr/>
            <p:nvPr/>
          </p:nvSpPr>
          <p:spPr>
            <a:xfrm>
              <a:off x="380880" y="3886200"/>
              <a:ext cx="1641600" cy="1752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(real target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PC simulation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87760" y="3889440"/>
              <a:ext cx="1497240" cy="17366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(combin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with other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test tool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022120" y="4267080"/>
              <a:ext cx="2467440" cy="735120"/>
              <a:chOff x="2022120" y="4267080"/>
              <a:chExt cx="2467440" cy="73512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022120" y="4267080"/>
                <a:ext cx="2467080" cy="0"/>
              </a:xfrm>
              <a:prstGeom prst="line">
                <a:avLst/>
              </a:prstGeom>
              <a:ln w="38160">
                <a:solidFill>
                  <a:srgbClr val="0063c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22480" y="5002200"/>
                <a:ext cx="2467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33720" y="4302000"/>
                <a:ext cx="22860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069"/>
                    </a:solidFill>
                    <a:latin typeface="Times New Roman"/>
                  </a:rPr>
                  <a:t>Test interface </a:t>
                </a:r>
                <a:br>
                  <a:rPr sz="2000"/>
                </a:br>
                <a:r>
                  <a:rPr b="0" i="1" lang="en-US" sz="1600" spc="-1" strike="noStrike">
                    <a:solidFill>
                      <a:srgbClr val="003069"/>
                    </a:solidFill>
                    <a:latin typeface="Times New Roman"/>
                  </a:rPr>
                  <a:t>(UART, Socket, SHM,…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857240" y="4952880"/>
              <a:ext cx="2814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,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duplicated primitives 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and air messag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3581280"/>
              <a:ext cx="281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commands,</a:t>
              </a:r>
              <a:br>
                <a:rPr sz="2000"/>
              </a:b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keystrok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5200" y="3886200"/>
              <a:ext cx="1184040" cy="1752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Log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85000" y="4495680"/>
              <a:ext cx="160020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85000" y="4800600"/>
              <a:ext cx="16002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60960" y="4114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60960" y="4800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Replay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2670120" y="3543120"/>
              <a:ext cx="304560" cy="48006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6823080" y="4190760"/>
              <a:ext cx="304560" cy="3505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988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n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36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ff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393920"/>
            <a:ext cx="8753400" cy="3197160"/>
            <a:chOff x="228600" y="1393920"/>
            <a:chExt cx="8753400" cy="3197160"/>
          </a:xfrm>
        </p:grpSpPr>
        <p:sp>
          <p:nvSpPr>
            <p:cNvPr id="107" name=""/>
            <p:cNvSpPr/>
            <p:nvPr/>
          </p:nvSpPr>
          <p:spPr>
            <a:xfrm>
              <a:off x="228600" y="1393920"/>
              <a:ext cx="3352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Traces, primitives and air messages can be watched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in one or more customized window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synchronized among all layers (L1 and L2/3)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distinguishable by color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657600" y="1622520"/>
              <a:ext cx="4648320" cy="29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562720" y="1393920"/>
              <a:ext cx="3419280" cy="11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304920" y="35053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pression of traces at the test interfac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bservation of dedicated parame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neighbor cell cou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4648320"/>
            <a:ext cx="8610480" cy="1828800"/>
            <a:chOff x="304920" y="4648320"/>
            <a:chExt cx="8610480" cy="1828800"/>
          </a:xfrm>
        </p:grpSpPr>
        <p:sp>
          <p:nvSpPr>
            <p:cNvPr id="112" name=""/>
            <p:cNvSpPr/>
            <p:nvPr/>
          </p:nvSpPr>
          <p:spPr>
            <a:xfrm>
              <a:off x="304920" y="4952880"/>
              <a:ext cx="33526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Various kinds of filters may be appli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SA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entity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primitive/air messag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5334120" y="4670280"/>
              <a:ext cx="1204920" cy="160020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3429000" y="4702320"/>
              <a:ext cx="1828800" cy="1549080"/>
            </a:xfrm>
            <a:prstGeom prst="rect">
              <a:avLst/>
            </a:prstGeom>
            <a:ln w="9360">
              <a:solidFill>
                <a:srgbClr val="003069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6629400" y="4648320"/>
              <a:ext cx="2286000" cy="162396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1600" y="990360"/>
            <a:ext cx="7667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66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Hexdumps of duplicated primitives are interpret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the individual values of elements are sh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... together with cleartext explanation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r messages are decod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nd interpreted as well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0769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447920"/>
            <a:ext cx="76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ll data received via the test interface can b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corded into logfil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played, e.g., with different filter setting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d to automatically generate new (regression) test cas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2819520"/>
            <a:ext cx="8658000" cy="3352320"/>
            <a:chOff x="304920" y="2819520"/>
            <a:chExt cx="8658000" cy="3352320"/>
          </a:xfrm>
        </p:grpSpPr>
        <p:sp>
          <p:nvSpPr>
            <p:cNvPr id="124" name=""/>
            <p:cNvSpPr/>
            <p:nvPr/>
          </p:nvSpPr>
          <p:spPr>
            <a:xfrm>
              <a:off x="6588000" y="404640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04920" y="2819520"/>
              <a:ext cx="8191440" cy="3352320"/>
              <a:chOff x="304920" y="2819520"/>
              <a:chExt cx="8191440" cy="3352320"/>
            </a:xfrm>
          </p:grpSpPr>
          <p:sp>
            <p:nvSpPr>
              <p:cNvPr id="126" name=""/>
              <p:cNvSpPr/>
              <p:nvPr/>
            </p:nvSpPr>
            <p:spPr>
              <a:xfrm>
                <a:off x="2867040" y="3733920"/>
                <a:ext cx="68580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4907520" y="3659040"/>
                <a:ext cx="1233720" cy="1446120"/>
                <a:chOff x="4907520" y="3659040"/>
                <a:chExt cx="1233720" cy="144612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5165280" y="3659040"/>
                  <a:ext cx="725400" cy="680400"/>
                  <a:chOff x="5165280" y="3659040"/>
                  <a:chExt cx="725400" cy="6804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5470920" y="3680280"/>
                    <a:ext cx="1504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802840" y="394524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195880" y="3945240"/>
                    <a:ext cx="85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253120" y="3754800"/>
                    <a:ext cx="148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680800" y="3757680"/>
                    <a:ext cx="15048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253120" y="4129920"/>
                    <a:ext cx="148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684760" y="4127760"/>
                    <a:ext cx="14652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469120" y="4259880"/>
                    <a:ext cx="14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274360" y="3757680"/>
                    <a:ext cx="528480" cy="5022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439960" y="3659040"/>
                    <a:ext cx="1468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772600" y="3920760"/>
                    <a:ext cx="8928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165280" y="391860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224320" y="3730680"/>
                    <a:ext cx="1468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652360" y="3730680"/>
                    <a:ext cx="1465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224320" y="4106160"/>
                    <a:ext cx="1508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655960" y="4101120"/>
                    <a:ext cx="1465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36720" y="4231080"/>
                    <a:ext cx="14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243400" y="3735720"/>
                    <a:ext cx="530640" cy="502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443920" y="392076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424840" y="390168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424840" y="3901680"/>
                    <a:ext cx="205920" cy="1944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411520" y="3887280"/>
                    <a:ext cx="190800" cy="1825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907520" y="4386600"/>
                  <a:ext cx="123372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5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Test-Case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Generator</a:t>
                  </a:r>
                  <a:endParaRPr b="0" lang="en-US" sz="18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440" y="2946240"/>
                <a:ext cx="136872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552840" y="3124080"/>
                <a:ext cx="1000080" cy="110340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5200" y="404964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19520" y="3809880"/>
                <a:ext cx="381240" cy="15264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067440" y="3885840"/>
                <a:ext cx="609480" cy="15228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800000">
                <a:off x="304920" y="5145840"/>
                <a:ext cx="8191440" cy="1025640"/>
              </a:xfrm>
              <a:custGeom>
                <a:avLst/>
                <a:gdLst>
                  <a:gd name="textAreaLeft" fmla="*/ 1433520 w 8191440"/>
                  <a:gd name="textAreaRight" fmla="*/ 5938920 w 8191440"/>
                  <a:gd name="textAreaTop" fmla="*/ 137160 h 1025640"/>
                  <a:gd name="textAreaBottom" fmla="*/ 888480 h 10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74960" y="494496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069"/>
                    </a:solidFill>
                    <a:latin typeface="Arial"/>
                  </a:rPr>
                  <a:t>Development &amp; Bug-Fixing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0360" y="3429000"/>
                <a:ext cx="1030320" cy="7462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069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57360" y="2819520"/>
                <a:ext cx="1523520" cy="1600200"/>
                <a:chOff x="657360" y="2819520"/>
                <a:chExt cx="1523520" cy="1600200"/>
              </a:xfrm>
            </p:grpSpPr>
            <p:pic>
              <p:nvPicPr>
                <p:cNvPr id="1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06640" y="2819520"/>
                  <a:ext cx="1074240" cy="122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7360" y="3643920"/>
                  <a:ext cx="1141560" cy="77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"/>
              <p:cNvSpPr/>
              <p:nvPr/>
            </p:nvSpPr>
            <p:spPr>
              <a:xfrm>
                <a:off x="4619520" y="3352680"/>
                <a:ext cx="213372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8320" y="2949480"/>
                <a:ext cx="1828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Replay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1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Export functions for various file formats (e.g., ASCII) exi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Already a lot of tools can be directly used on the current viewer entries 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2209680"/>
            <a:ext cx="8534520" cy="3986280"/>
            <a:chOff x="228600" y="2209680"/>
            <a:chExt cx="8534520" cy="39862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2209680"/>
              <a:ext cx="8534520" cy="3986280"/>
              <a:chOff x="228600" y="2209680"/>
              <a:chExt cx="8534520" cy="39862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28600" y="2209680"/>
                <a:ext cx="8458200" cy="3283200"/>
                <a:chOff x="228600" y="2209680"/>
                <a:chExt cx="8458200" cy="328320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362320"/>
                  <a:ext cx="4900680" cy="313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4800600" y="2209680"/>
                  <a:ext cx="38862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5000"/>
                </a:bodyPr>
                <a:p>
                  <a:pPr lvl="1" marL="705600" indent="-271440">
                    <a:lnSpc>
                      <a:spcPct val="100000"/>
                    </a:lnSpc>
                    <a:spcBef>
                      <a:spcPts val="400"/>
                    </a:spcBef>
                    <a:buClr>
                      <a:srgbClr val="003069"/>
                    </a:buClr>
                    <a:buFont typeface="Wingdings" charset="2"/>
                    <a:buChar char="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3069"/>
                      </a:solidFill>
                      <a:latin typeface="Arial"/>
                    </a:rPr>
                    <a:t>for example MSCView to watch the corresponding message flow</a:t>
                  </a:r>
                  <a:endParaRPr b="0" lang="en-US" sz="16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24080"/>
                <a:ext cx="6858000" cy="307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"/>
            <p:cNvSpPr/>
            <p:nvPr/>
          </p:nvSpPr>
          <p:spPr>
            <a:xfrm>
              <a:off x="1219320" y="2590920"/>
              <a:ext cx="990360" cy="99036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2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Many tools exist which use the same framework as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and can, therefore, run in parallel as neede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0880" y="1676520"/>
            <a:ext cx="8589960" cy="4419360"/>
            <a:chOff x="380880" y="1676520"/>
            <a:chExt cx="8589960" cy="4419360"/>
          </a:xfrm>
        </p:grpSpPr>
        <p:grpSp>
          <p:nvGrpSpPr>
            <p:cNvPr id="179" name=""/>
            <p:cNvGrpSpPr/>
            <p:nvPr/>
          </p:nvGrpSpPr>
          <p:grpSpPr>
            <a:xfrm>
              <a:off x="380880" y="1676520"/>
              <a:ext cx="8589960" cy="4419360"/>
              <a:chOff x="380880" y="1676520"/>
              <a:chExt cx="8589960" cy="4419360"/>
            </a:xfrm>
          </p:grpSpPr>
          <p:sp>
            <p:nvSpPr>
              <p:cNvPr id="180" name=""/>
              <p:cNvSpPr/>
              <p:nvPr/>
            </p:nvSpPr>
            <p:spPr>
              <a:xfrm>
                <a:off x="380880" y="2362320"/>
                <a:ext cx="85345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Some of them are usually started automatically by PCO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... for example the virtual mobile „xPanel“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6600" y="1676520"/>
                <a:ext cx="1884240" cy="441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019920" y="2895480"/>
              <a:ext cx="838080" cy="763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33200" y="3124080"/>
            <a:ext cx="6801120" cy="3168720"/>
            <a:chOff x="133200" y="3124080"/>
            <a:chExt cx="6801120" cy="3168720"/>
          </a:xfrm>
        </p:grpSpPr>
        <p:sp>
          <p:nvSpPr>
            <p:cNvPr id="184" name=""/>
            <p:cNvSpPr/>
            <p:nvPr/>
          </p:nvSpPr>
          <p:spPr>
            <a:xfrm>
              <a:off x="380880" y="3124080"/>
              <a:ext cx="6553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In further cases parts of PCO are started by other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.. like the Test Application Process: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133200" y="4219560"/>
              <a:ext cx="398160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3657600" y="4124160"/>
              <a:ext cx="304812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057400" y="5486400"/>
              <a:ext cx="1828800" cy="15228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60020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PCO also comes with various command line tools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control the logging/replay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do converting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send system commands to the protocol stack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809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CO Reaction Viewer compone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monitors incoming 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 and starts actions triggered by rules defined in a deticated XML file, e.g.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ending of system command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tarting of applica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1600" y="281916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10-07T14:23:25Z</dcterms:modified>
  <cp:revision>198</cp:revision>
  <dc:subject/>
  <dc:title>PowerPoint-Präsentation</dc:title>
</cp:coreProperties>
</file>