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BB596-33CB-4D94-A62B-3B22D44B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45704-849C-400F-9105-7AE143DF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454D8-9635-4B63-83E9-34885A95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78C49-6901-4480-834F-807858BC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17E06-96FA-462B-ABF4-0A03387A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3DB87-4B8D-4D26-9B05-68600474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32F95-19FE-4C21-B345-6D69A990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77E44-A7A8-4954-89FA-22F31AB3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F8F3A-675F-41EA-9EE8-0D4A2125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B8CE9-914E-46AD-A491-C14CF679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5D89D-BDBB-4BB4-B2F0-BF025977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A5A4A-37E1-4947-936F-5E9F067A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8572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D3AD92D2-2A86-4F92-A726-B749FDE8641F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1320" y="659916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7ED7-E05F-4A02-B7F4-D528DB077827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48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60240" y="2057400"/>
            <a:ext cx="4456080" cy="1600200"/>
            <a:chOff x="660240" y="2057400"/>
            <a:chExt cx="4456080" cy="1600200"/>
          </a:xfrm>
        </p:grpSpPr>
        <p:sp>
          <p:nvSpPr>
            <p:cNvPr id="51" name=""/>
            <p:cNvSpPr/>
            <p:nvPr/>
          </p:nvSpPr>
          <p:spPr>
            <a:xfrm>
              <a:off x="660240" y="2057400"/>
              <a:ext cx="173304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i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t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P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75360" y="3048120"/>
              <a:ext cx="107280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43520" y="3048120"/>
              <a:ext cx="107280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48520" y="3352680"/>
              <a:ext cx="49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60240" y="4724280"/>
            <a:ext cx="8581680" cy="1907640"/>
            <a:chOff x="660240" y="4724280"/>
            <a:chExt cx="8581680" cy="1907640"/>
          </a:xfrm>
        </p:grpSpPr>
        <p:sp>
          <p:nvSpPr>
            <p:cNvPr id="56" name=""/>
            <p:cNvSpPr/>
            <p:nvPr/>
          </p:nvSpPr>
          <p:spPr>
            <a:xfrm>
              <a:off x="4043520" y="5257800"/>
              <a:ext cx="51984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, Linux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0240" y="4724280"/>
              <a:ext cx="288828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ucleus, PSO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43520" y="4724280"/>
              <a:ext cx="519840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C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85360" y="6095880"/>
              <a:ext cx="105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58640" y="6172200"/>
              <a:ext cx="181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st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66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60240" y="2057400"/>
            <a:ext cx="173376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76440" y="3048120"/>
            <a:ext cx="1071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43520" y="3048120"/>
            <a:ext cx="107316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48160" y="335268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199120" y="1905120"/>
            <a:ext cx="2022120" cy="2819160"/>
            <a:chOff x="5199120" y="1905120"/>
            <a:chExt cx="2022120" cy="2819160"/>
          </a:xfrm>
        </p:grpSpPr>
        <p:sp>
          <p:nvSpPr>
            <p:cNvPr id="75" name=""/>
            <p:cNvSpPr/>
            <p:nvPr/>
          </p:nvSpPr>
          <p:spPr>
            <a:xfrm>
              <a:off x="5199120" y="1905120"/>
              <a:ext cx="907560" cy="1752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an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30880" y="3657600"/>
              <a:ext cx="990360" cy="10666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81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89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60240" y="2057400"/>
            <a:ext cx="173376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76440" y="3048120"/>
            <a:ext cx="1071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43520" y="3048120"/>
            <a:ext cx="66024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48160" y="335268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29240" y="1905120"/>
            <a:ext cx="577800" cy="1752480"/>
          </a:xfrm>
          <a:prstGeom prst="rect">
            <a:avLst/>
          </a:prstGeom>
          <a:solidFill>
            <a:srgbClr val="0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30880" y="3657600"/>
            <a:ext cx="9907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45160" y="1905120"/>
            <a:ext cx="74268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104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0-10-17T07:41:10Z</cp:lastPrinted>
  <dcterms:modified xsi:type="dcterms:W3CDTF">2001-02-19T13:16:56Z</dcterms:modified>
  <cp:revision>52</cp:revision>
  <dc:subject/>
  <dc:title>xPanel &amp; PCO2</dc:title>
</cp:coreProperties>
</file>