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D810-5F99-451C-94A1-604538EF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351C-89B0-4439-938A-0AEC1228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1A46-8061-4051-A55A-A7E03DD2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F4344-5E23-4EBB-BC05-3618D25C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4BC1-7443-4AB0-8EAE-000A4590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1BCD-9F56-4D93-B686-5B77F0F7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C87A-844A-494B-B572-849D44F3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3015-1047-460D-BE0F-32F9272F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36CB-8F82-445B-9AEC-3F7B50DB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31E9-90B0-4706-A793-F6F2187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427F-013B-443A-996A-A487EE2F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6F08-6ED1-4BD8-888A-B0A7B4D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7C5D131-E46F-4D0B-BCDD-925CC60E7D9B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3e8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3032280" indent="-74304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3541680" indent="-22860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FDA-99B1-4680-9202-8C4B38D2D293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216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89920" y="55728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F5C6538B-82A9-4443-A3A4-B9521EF585A6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53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14400" algn="ctr">
              <a:spcBef>
                <a:spcPts val="499"/>
              </a:spcBef>
              <a:buClr>
                <a:srgbClr val="003e8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371600" indent="91764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1828800" indent="148428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hancing Windows Shared Memory for VCMS </a:t>
            </a:r>
            <a:br>
              <a:rPr sz="4800"/>
            </a:b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(The SHM-NT Gadget)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“… ‘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ause windows </a:t>
            </a: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memory-mapped file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solution is a lame duck!”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re is more implementation-specific shared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critical global scalar data types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 pointers referencing unshared dat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can be grouped and shared in a DLL by use of a link comman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critical: pointers referencing a shared objec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.g. fr’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stituting a shared memory li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 DLL’s also suffers the windows map view location weakn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gain: Why not use the new shared memory implementa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the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nd local knowledge reflecting parts of global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client needs to know which sections are already mapp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formation stored in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: How to use the new shared memory gadge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o implement itself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sn’t that a hen/egg proble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o, it’s just a matter of proper initializing and embedding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oth special section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 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) are known to the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hose internal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sections receive a special treatment whilst system start-u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i="1" lang="en-GB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s just an array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taining section names, addresses and siz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 is a double linked lis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its anchor is located outside of it’s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ed by a DLL global vari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914400"/>
            <a:ext cx="8915400" cy="274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he Big Pi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143000"/>
            <a:ext cx="1371600" cy="457200"/>
            <a:chOff x="838080" y="1143000"/>
            <a:chExt cx="1371600" cy="457200"/>
          </a:xfrm>
        </p:grpSpPr>
        <p:sp>
          <p:nvSpPr>
            <p:cNvPr id="169" name=""/>
            <p:cNvSpPr/>
            <p:nvPr/>
          </p:nvSpPr>
          <p:spPr>
            <a:xfrm>
              <a:off x="83808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1600200"/>
            <a:ext cx="1371600" cy="228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2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1828800"/>
            <a:ext cx="1371600" cy="2286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3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600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14800" y="1143000"/>
            <a:ext cx="1371600" cy="2057400"/>
            <a:chOff x="4114800" y="1143000"/>
            <a:chExt cx="1371600" cy="2057400"/>
          </a:xfrm>
        </p:grpSpPr>
        <p:sp>
          <p:nvSpPr>
            <p:cNvPr id="181" name=""/>
            <p:cNvSpPr/>
            <p:nvPr/>
          </p:nvSpPr>
          <p:spPr>
            <a:xfrm>
              <a:off x="4114800" y="1600200"/>
              <a:ext cx="1371600" cy="2286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2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20574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1828800"/>
              <a:ext cx="13716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3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860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25146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27432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4800" y="29718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1143000"/>
              <a:ext cx="1371600" cy="457200"/>
              <a:chOff x="4114800" y="1143000"/>
              <a:chExt cx="137160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1143000"/>
                <a:ext cx="1371600" cy="2286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Pool List (0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1371600"/>
                <a:ext cx="1371600" cy="228600"/>
              </a:xfrm>
              <a:prstGeom prst="rect">
                <a:avLst/>
              </a:prstGeom>
              <a:solidFill>
                <a:srgbClr val="f2ac78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Region List (1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7315200" y="1143000"/>
            <a:ext cx="1371600" cy="457200"/>
            <a:chOff x="7315200" y="1143000"/>
            <a:chExt cx="1371600" cy="457200"/>
          </a:xfrm>
        </p:grpSpPr>
        <p:sp>
          <p:nvSpPr>
            <p:cNvPr id="192" name=""/>
            <p:cNvSpPr/>
            <p:nvPr/>
          </p:nvSpPr>
          <p:spPr>
            <a:xfrm>
              <a:off x="731520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1520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914400"/>
            <a:ext cx="0" cy="5105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944640"/>
            <a:ext cx="0" cy="510516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809880"/>
            <a:ext cx="228600" cy="2057400"/>
            <a:chOff x="838080" y="3809880"/>
            <a:chExt cx="228600" cy="2057400"/>
          </a:xfrm>
        </p:grpSpPr>
        <p:sp>
          <p:nvSpPr>
            <p:cNvPr id="202" name=""/>
            <p:cNvSpPr/>
            <p:nvPr/>
          </p:nvSpPr>
          <p:spPr>
            <a:xfrm>
              <a:off x="83808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14800" y="3809880"/>
            <a:ext cx="228600" cy="2057400"/>
            <a:chOff x="4114800" y="3809880"/>
            <a:chExt cx="228600" cy="2057400"/>
          </a:xfrm>
        </p:grpSpPr>
        <p:sp>
          <p:nvSpPr>
            <p:cNvPr id="212" name=""/>
            <p:cNvSpPr/>
            <p:nvPr/>
          </p:nvSpPr>
          <p:spPr>
            <a:xfrm>
              <a:off x="41148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48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48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315200" y="3809880"/>
            <a:ext cx="228600" cy="2057400"/>
            <a:chOff x="7315200" y="3809880"/>
            <a:chExt cx="228600" cy="2057400"/>
          </a:xfrm>
        </p:grpSpPr>
        <p:sp>
          <p:nvSpPr>
            <p:cNvPr id="222" name=""/>
            <p:cNvSpPr/>
            <p:nvPr/>
          </p:nvSpPr>
          <p:spPr>
            <a:xfrm>
              <a:off x="73152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2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0412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05200" y="1204920"/>
            <a:ext cx="260280" cy="738360"/>
            <a:chOff x="3805200" y="1204920"/>
            <a:chExt cx="260280" cy="738360"/>
          </a:xfrm>
        </p:grpSpPr>
        <p:sp>
          <p:nvSpPr>
            <p:cNvPr id="233" name=""/>
            <p:cNvSpPr/>
            <p:nvPr/>
          </p:nvSpPr>
          <p:spPr>
            <a:xfrm>
              <a:off x="3989520" y="1285920"/>
              <a:ext cx="75960" cy="228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9360 h 228600"/>
                <a:gd name="textAreaBottom" fmla="*/ 2192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87640" y="1252440"/>
              <a:ext cx="162000" cy="441360"/>
            </a:xfrm>
            <a:custGeom>
              <a:avLst/>
              <a:gdLst>
                <a:gd name="textAreaLeft" fmla="*/ 47520 w 162000"/>
                <a:gd name="textAreaRight" fmla="*/ 162360 w 162000"/>
                <a:gd name="textAreaTop" fmla="*/ 18360 h 441360"/>
                <a:gd name="textAreaBottom" fmla="*/ 42300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5200" y="1204920"/>
              <a:ext cx="241200" cy="73836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30600 h 738360"/>
                <a:gd name="textAreaBottom" fmla="*/ 707760 h 7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538960" y="1461960"/>
            <a:ext cx="191880" cy="466920"/>
            <a:chOff x="5538960" y="1461960"/>
            <a:chExt cx="191880" cy="466920"/>
          </a:xfrm>
        </p:grpSpPr>
        <p:sp>
          <p:nvSpPr>
            <p:cNvPr id="237" name=""/>
            <p:cNvSpPr/>
            <p:nvPr/>
          </p:nvSpPr>
          <p:spPr>
            <a:xfrm>
              <a:off x="5538960" y="1511280"/>
              <a:ext cx="91800" cy="212760"/>
            </a:xfrm>
            <a:custGeom>
              <a:avLst/>
              <a:gdLst>
                <a:gd name="textAreaLeft" fmla="*/ 0 w 91800"/>
                <a:gd name="textAreaRight" fmla="*/ 64440 w 91800"/>
                <a:gd name="textAreaTop" fmla="*/ 8640 h 212760"/>
                <a:gd name="textAreaBottom" fmla="*/ 20412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43640" y="1461960"/>
              <a:ext cx="187200" cy="466920"/>
            </a:xfrm>
            <a:custGeom>
              <a:avLst/>
              <a:gdLst>
                <a:gd name="textAreaLeft" fmla="*/ 0 w 187200"/>
                <a:gd name="textAreaRight" fmla="*/ 131400 w 187200"/>
                <a:gd name="textAreaTop" fmla="*/ 19440 h 466920"/>
                <a:gd name="textAreaBottom" fmla="*/ 4474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2560" y="1298520"/>
            <a:ext cx="76320" cy="228600"/>
          </a:xfrm>
          <a:custGeom>
            <a:avLst/>
            <a:gdLst>
              <a:gd name="textAreaLeft" fmla="*/ 22320 w 76320"/>
              <a:gd name="textAreaRight" fmla="*/ 76320 w 7632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1040" y="126540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121752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74080" y="1290600"/>
            <a:ext cx="75960" cy="228600"/>
          </a:xfrm>
          <a:custGeom>
            <a:avLst/>
            <a:gdLst>
              <a:gd name="textAreaLeft" fmla="*/ 22320 w 75960"/>
              <a:gd name="textAreaRight" fmla="*/ 76320 w 7596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2200" y="125748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89760" y="120960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732880" y="1514520"/>
            <a:ext cx="92160" cy="212760"/>
          </a:xfrm>
          <a:custGeom>
            <a:avLst/>
            <a:gdLst>
              <a:gd name="textAreaLeft" fmla="*/ 0 w 92160"/>
              <a:gd name="textAreaRight" fmla="*/ 64800 w 9216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737560" y="146520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5480" y="1506600"/>
            <a:ext cx="91800" cy="212760"/>
          </a:xfrm>
          <a:custGeom>
            <a:avLst/>
            <a:gdLst>
              <a:gd name="textAreaLeft" fmla="*/ 0 w 91800"/>
              <a:gd name="textAreaRight" fmla="*/ 64440 w 9180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0160" y="145728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264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168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0480" y="46810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5384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3840" y="87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pool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45080" y="8816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region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1049400"/>
            <a:ext cx="297000" cy="87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13040" y="1154160"/>
            <a:ext cx="453960" cy="2174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e &amp; map a Sectio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create_attrib_object(name, &amp;obj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CreateSection( &amp;hdl, ..., &amp;obj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OpenSection( &amp;hdl, ..., &amp;obj 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FALS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osvi.dwMajorVersion == WIN200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m_offset()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        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already stored sect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 else if (osvi.dwMajorVersion == WINNT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0L; /* use the first free area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c != STATUS_SUCCESS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mappedAddr == 0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AREDEND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incremental, aligned placement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for( ; mappedAddr != SHAREDBEGIN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-= SHAREDSTEP 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mappedAddr, ...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rc == STATUS_SUCCESS 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break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name, mappedAddr, rsize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TRU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(char*) tmp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Both cases:</a:t>
            </a:r>
            <a:endParaRPr b="1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notice_mapping_in_context(mapped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ion of a Shared Heap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poolAddr == 0) {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it_shared_address_pool(); /* give access to the 2 internal reg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_all(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 reg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r = reg-&gt;pregion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strcmp(pr-&gt;name, name) == 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*phdl = (unsigned long)p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urn SHM_EXISTS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-&gt;nex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section( name, size, &amp;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... init internal heap managment data ...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init of internal section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=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0 = shm_section((char*)REGIONPOOLNAME, poolSize0, &amp;poolAddr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local var poolAdr is != NULL from now on, will trigger action of the other pool funcs ..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0 == SHM_OK) || (ret0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0 = pool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1 = shm_heap((char*)REGIONLISTNAME, poolSize1, &amp;poolListAddr, TRUE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1 == SHM_OK) || (ret1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et0 == SHM_OK)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1 = 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REGIONPOOLNAME, poolAddr, poolSize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(spe++) &lt;= lastSpe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name[0]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addr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size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      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(REGIONGLOBALS*)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!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POOLNAME, poolSize0, &amp;region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Addr = region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LISTNAME, poolSize1, &amp;region1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ListAddr = region1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section(char * name, unsigned long int rsize, unsigned long int * p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“raw” (to be managed by user)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malloc/free avail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heap(char * name, unsigned long int rsize, unsigned   long int * phdl, BOOL forceInit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oviding classic m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d on shm_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delete_section(unsigned long int 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letes a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r a shared hea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* shm_alloc(unsigned long int hdl, unsigned long int size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llocat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free(void * addr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eleas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exit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maps all sections from a cli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oes not delete an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rrespective the internal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21000" indent="-18756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are deleted, if they are the solely remainder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map( char * name, unsigned long int rsize, unsigned long int * paddr);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 single, specific shared memory section/heap.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map_all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to current address spa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long int shm_map_by_exeption(EXCEPTION_POINTERS* EP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 by “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rap on use”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t q_read(              </a:t>
            </a: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try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[...main q_read code...]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except (shm_map_by_exeption(GetExceptionInformation()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pools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int information about all shared memory address pool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ize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n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heap( FILE * outf, char * name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ervice/debug. List internal management data of a shared memory heap. 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sed in Program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mList.exe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 not really necessary for implementation.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roduc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Problems in VCMS with using Memory-Mapped Fil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ew problems to resolv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urce glimps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Why dynamic-link-libraries for sharing?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’ve handled shared dynamic data. What’s about linking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n we get  rid of that clumsy </a:t>
            </a:r>
            <a:r>
              <a:rPr b="0" lang="en-GB" sz="2000" spc="-1" strike="noStrike">
                <a:solidFill>
                  <a:srgbClr val="f1230d"/>
                </a:solidFill>
                <a:latin typeface="ITC Officina Sans Book"/>
              </a:rPr>
              <a:t>/base:0x60100000 /fixed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linkage now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YES!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hasn’t 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have to handle the shared static data, too? By moving it all into shared memory sections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!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We can safely ignore this type of FRAME data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located and referenced in the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tack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only (single proces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n-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in32 code, like all partition-memory related data </a:t>
            </a:r>
            <a:r>
              <a:rPr b="0" i="1" lang="en-GB" sz="2000" spc="-1" strike="noStrike">
                <a:solidFill>
                  <a:srgbClr val="901508"/>
                </a:solidFill>
                <a:latin typeface="Comic Sans MS"/>
              </a:rPr>
              <a:t>(by now! Partitions may come to win32 later on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the data (or any sub-data, if structured) isn’t remembered by it’s location (&amp; address operator and resulting pointer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providing a DLL-solution only (no shm_nt.lib)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uses VCMS semaphores, based on shared data. Easily achieved by constituting a dll. </a:t>
            </a:r>
            <a:r>
              <a:rPr b="0" lang="en-GB" sz="2000" spc="-1" strike="noStrike">
                <a:solidFill>
                  <a:srgbClr val="901508"/>
                </a:solidFill>
                <a:latin typeface="Comic Sans MS"/>
              </a:rPr>
              <a:t>Suggestion for a coming VCMS-Release:  dynamic semaphore creation, based on a SHM_NT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Result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 earn a better performance now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is at least, say, 30 % faster than the best of previou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ther independent from queue buffer element siz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isn’t performance gain higher on larger queues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good question!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why should it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-coupling is properly d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99840" indent="-27972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y eliminating the Windows 2nd abstraction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further scheduling/dispatching problem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e have only one Processo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, anybod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How to access and use the SHM-NT Gadge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ourc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vcms-nt\…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example of usage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Includ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\gpf\shm_nt\inc\shm_nt.h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LL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lib\shm_nt.dl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ables (preliminary)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HM_NT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VCMS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Further reading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Jeffrey Richter, MS-Windows für Experte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An introduction into Windows System Programm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Gary Nebbett, WINDOWS NT/2000 Native API Referen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Win NT/2K undocumented system call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Virtual Memory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virtmm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Memory-Mapped Files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manamemo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d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(Enough for today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1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inking on fixed Address required for some DLL’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ointer issues on different address-ranges requires static link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ms.dll:  /base:0x200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rame.dll: /base:0x601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2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erformance Issu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ome G23Net test cases failed with time ou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unning result after foolish fiddling with parameters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bigger the queu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67440" indent="-2739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slower the transfer?!?</a:t>
            </a:r>
            <a:r>
              <a:rPr b="1" i="1" lang="en-US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8354880" y="969480"/>
            <a:ext cx="1143000" cy="141444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65600" y="2373120"/>
            <a:ext cx="4587840" cy="2533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24080" y="4933440"/>
            <a:ext cx="1515960" cy="473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8400" y="5417640"/>
            <a:ext cx="15033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2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VCMS: Increasing the queue siz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127920"/>
            <a:ext cx="8077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280" y="57229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34348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1120" y="496260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458460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2280" y="419256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120" y="34243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812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382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732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19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0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8588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62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4476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727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5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6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6396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40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78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642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008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7376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292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2468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05920" y="605304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040" y="2278080"/>
            <a:ext cx="0" cy="3867120"/>
          </a:xfrm>
          <a:prstGeom prst="line">
            <a:avLst/>
          </a:prstGeom>
          <a:ln w="12600">
            <a:solidFill>
              <a:srgbClr val="003069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852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0" y="54601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2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0" y="47613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6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2056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40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20" y="50997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4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920" y="617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9760" y="616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3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46720" y="6176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5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8588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2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9600" y="6165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4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03960" y="5247360"/>
            <a:ext cx="233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Queue Elements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865880"/>
            <a:ext cx="29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Time in seconds 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including silent (10s?)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5680" y="535788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3160" y="4879800"/>
            <a:ext cx="10764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32092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" y="567540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448920" y="912960"/>
            <a:ext cx="108000" cy="10764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80640" y="1370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7000/48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3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ssumption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he bigger size of the queue seems to provoke a higher system utiliza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Quick guesses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d by an additional abstraction layer of file mapped shared memor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“covers”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the shared memory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bad scheduling provokes dispatching of idle process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arget solu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limination of the additional abstraction laye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4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Additional Abstraction-Layer of Memory-Mapped Files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Mapping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6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apViewOf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2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uses undocumented shared memory internal function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4004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rank Reglin’s sample application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ocuses the internal management of shared memory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d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linked list of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naging section contents via 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 usage of Zw*() fun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me undocumented Windows NT/2000 Zw*() function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Open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), ZwUn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issing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Dele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los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ZwMapViewOfSection() doesn’t guarantee a unique mapped location for all views of the same memory sec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main goal of our implementation, enhancing the Windows shared m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 how to achieve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hdl, …, &amp;addr, ...) with addr == 0 means automatic view map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 returns the resulting location of this premier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mustn’t change for all further ZwMapViewOfSection() calls with the same hand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as to be propagated to all clients, hen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in 2000 rejects automatic view map placemen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 incremental, aligned placement has to be applied instea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ill mapping of a premier view placement succeed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OK, an initial map view placement of a given section may succeed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How to propagate the location to all clients of interes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essage Passing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emporary File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ther IPC mechanis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not use the new shared memory gadge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a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taining section addresses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B</dc:creator>
  <dc:description/>
  <dc:language>en-US</dc:language>
  <cp:lastModifiedBy>Reinhard Meyer</cp:lastModifiedBy>
  <cp:lastPrinted>1999-03-09T09:45:08Z</cp:lastPrinted>
  <dcterms:modified xsi:type="dcterms:W3CDTF">2002-06-07T13:27:20Z</dcterms:modified>
  <cp:revision>368</cp:revision>
  <dc:subject>G23 Training</dc:subject>
  <dc:title>Agenda</dc:title>
</cp:coreProperties>
</file>