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8D67-7E1C-4017-BEB7-24A3E7ABCD4D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1334F87D-4819-429C-AAEC-671F80D5ED2B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co_intro.pp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co.sprk.org/" TargetMode="External"/><Relationship Id="rId2" Type="http://schemas.openxmlformats.org/officeDocument/2006/relationships/hyperlink" Target="file://dbgs2/deveng/cc/gpf/projects/pco/delivery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PCO-Training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background and practical usage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Introductional Slideshow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600" y="91440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Where can I get PCO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browse to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pco.sprk.org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which will redirect you to the PCO delivery area at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\\dbgs2\deveng\cc\gpf\projects\pco\delivery\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new versions are always announced in the PCO mailing list: </a:t>
            </a: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pco@list.ti.co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How do I start it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after a local installation you will find dedicated entries in the windows start menu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and also icons on the desktop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5105520"/>
            <a:ext cx="3505320" cy="990360"/>
            <a:chOff x="609480" y="5105520"/>
            <a:chExt cx="3505320" cy="990360"/>
          </a:xfrm>
        </p:grpSpPr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09480" y="5105520"/>
              <a:ext cx="8892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23880" y="5181480"/>
              <a:ext cx="2590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pco test environmen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5680" y="5029200"/>
            <a:ext cx="4496040" cy="1143000"/>
            <a:chOff x="4495680" y="5029200"/>
            <a:chExt cx="4496040" cy="11430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495680" y="5105160"/>
              <a:ext cx="91440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562720" y="5029200"/>
              <a:ext cx="3429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GenTLE from within, e.g., PCO may be start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roblem can not be solved easily ?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create a dedicated conquest issu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066680"/>
            <a:ext cx="8001000" cy="2286000"/>
            <a:chOff x="457200" y="1066680"/>
            <a:chExt cx="8001000" cy="2286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477120" y="1981080"/>
              <a:ext cx="12776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7200" y="1066680"/>
              <a:ext cx="800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When you think you found a problem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or example an air message can not be decod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irst look up the documention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search the GPF-FAQ:</a:t>
              </a:r>
              <a:br>
                <a:rPr sz="2400"/>
              </a:br>
              <a:r>
                <a:rPr b="1" lang="de-DE" sz="2000" spc="-1" strike="noStrike">
                  <a:solidFill>
                    <a:srgbClr val="003069"/>
                  </a:solidFill>
                  <a:latin typeface="Arial"/>
                </a:rPr>
                <a:t>http://bg-board.itg.ti.com:8080/GPF-WhiteBoard/10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" y="3276720"/>
            <a:ext cx="7924680" cy="1752480"/>
            <a:chOff x="457200" y="3276720"/>
            <a:chExt cx="7924680" cy="1752480"/>
          </a:xfrm>
        </p:grpSpPr>
        <p:sp>
          <p:nvSpPr>
            <p:cNvPr id="99" name=""/>
            <p:cNvSpPr/>
            <p:nvPr/>
          </p:nvSpPr>
          <p:spPr>
            <a:xfrm>
              <a:off x="457200" y="3276720"/>
              <a:ext cx="7924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No solution found ?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use the „moan button“ to send me a dedicated mai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just call 133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410080" y="4267080"/>
              <a:ext cx="609840" cy="52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What does PCO need to decod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Direction            Entity-Nr (Catalogue)           Msg-ID</a:t>
            </a:r>
            <a:br>
              <a:rPr sz="1400"/>
            </a:b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                                          </a:t>
            </a:r>
            <a:endParaRPr b="0" lang="en-US" sz="1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 the sdu-len/-offset is changed in primitive handler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 macro PPASS() to ensure that PCO gets the original on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828800"/>
          <a:ext cx="8077320" cy="380880"/>
        </p:xfrm>
        <a:graphic>
          <a:graphicData uri="http://schemas.openxmlformats.org/drawingml/2006/table">
            <a:tbl>
              <a:tblPr/>
              <a:tblGrid>
                <a:gridCol w="700200"/>
                <a:gridCol w="442800"/>
                <a:gridCol w="990720"/>
                <a:gridCol w="1295280"/>
                <a:gridCol w="381240"/>
                <a:gridCol w="838080"/>
                <a:gridCol w="76212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OPC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len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offset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TI/P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Encoded AIM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1368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990720" y="1447920"/>
            <a:ext cx="4572000" cy="380880"/>
            <a:chOff x="990720" y="1447920"/>
            <a:chExt cx="4572000" cy="380880"/>
          </a:xfrm>
        </p:grpSpPr>
        <p:sp>
          <p:nvSpPr>
            <p:cNvPr id="106" name=""/>
            <p:cNvSpPr/>
            <p:nvPr/>
          </p:nvSpPr>
          <p:spPr>
            <a:xfrm flipV="1">
              <a:off x="990720" y="1523520"/>
              <a:ext cx="761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190760" y="1523520"/>
              <a:ext cx="6094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447920"/>
              <a:ext cx="152640" cy="3808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48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, e.g., no PD is transmitted with sdu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pecial rules can be defined in ccddata-DLL to, e.g., assume entity RR for all sdu in primitives named like RR_xxx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currently not automated (no info in aim documents) </a:t>
            </a:r>
            <a:r>
              <a:rPr b="1" lang="de-DE" sz="1800" spc="-1" strike="noStrike">
                <a:solidFill>
                  <a:srgbClr val="00306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4114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Ms can be inserted manually into a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4114800" cy="816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explicitely trace a pure air message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macro TRACE_SDU(...) could be used, but currently no dedicted OPC is defined which could be handled in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lready used TRACE_BINDUMP() provides hexdump only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24T08:20:11Z</dcterms:modified>
  <cp:revision>128</cp:revision>
  <dc:subject/>
  <dc:title>PowerPoint-Präsentation</dc:title>
</cp:coreProperties>
</file>