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E29-C4EC-43E4-9B4A-7737FA4F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2D9-F0B0-48CD-99DC-965CC72C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D5A-FFB0-497F-98A7-499A2B32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FA0-E6AA-488C-8A7B-DA395CCB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275-BB3E-4995-B1DC-97D13719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315-4A9B-4DFA-9928-8B91B51F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FE9-35B3-46BA-8212-3423087C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A5F-E659-4169-AE67-ED098A72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90F-896B-43E2-B2B1-419D3808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489-6A7A-4DE0-A60F-005F676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EB0-CE3F-4682-BEAF-B744D2D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A43-4BDD-44C6-80FB-7ACAFCB3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79600" y="638136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6200" y="6381360"/>
            <a:ext cx="42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200" y="637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855EE552-58C6-45F0-AB4A-E6D182FABFEC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 Test-Case Generat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sing logg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ield-Test Trac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.Kießl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January 22, 2004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concep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2050560"/>
            <a:ext cx="79768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he test-case generator TCGen is implemented as a so-called PCO-View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o request logfile data from PC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Primitive interpretation is done using the databa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which has to match the PS monitored during field-te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DC is a proprietary test script langu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in which test cases will be gener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09960" y="4613400"/>
            <a:ext cx="1357200" cy="101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178600" y="4354560"/>
            <a:ext cx="1573200" cy="2145960"/>
            <a:chOff x="5178600" y="4354560"/>
            <a:chExt cx="1573200" cy="2145960"/>
          </a:xfrm>
        </p:grpSpPr>
        <p:grpSp>
          <p:nvGrpSpPr>
            <p:cNvPr id="191" name=""/>
            <p:cNvGrpSpPr/>
            <p:nvPr/>
          </p:nvGrpSpPr>
          <p:grpSpPr>
            <a:xfrm>
              <a:off x="5178600" y="4354560"/>
              <a:ext cx="1573200" cy="1435680"/>
              <a:chOff x="5178600" y="4354560"/>
              <a:chExt cx="1573200" cy="1435680"/>
            </a:xfrm>
          </p:grpSpPr>
          <p:sp>
            <p:nvSpPr>
              <p:cNvPr id="192" name=""/>
              <p:cNvSpPr/>
              <p:nvPr/>
            </p:nvSpPr>
            <p:spPr>
              <a:xfrm>
                <a:off x="5841000" y="4399200"/>
                <a:ext cx="326520" cy="18288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61360" y="4958280"/>
                <a:ext cx="190440" cy="2991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45200" y="4958280"/>
                <a:ext cx="185760" cy="2887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9040" y="4556880"/>
                <a:ext cx="322920" cy="2898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96400" y="4562640"/>
                <a:ext cx="326520" cy="2934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69040" y="5348520"/>
                <a:ext cx="322920" cy="28872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5040" y="5343840"/>
                <a:ext cx="317880" cy="29340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37400" y="5622480"/>
                <a:ext cx="317880" cy="1677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5120" y="4562640"/>
                <a:ext cx="1145880" cy="10594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74400" y="4354560"/>
                <a:ext cx="318960" cy="16668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95480" y="4906800"/>
                <a:ext cx="194040" cy="2944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78600" y="4902120"/>
                <a:ext cx="190440" cy="2991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07120" y="4506120"/>
                <a:ext cx="318960" cy="28872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34480" y="4506120"/>
                <a:ext cx="317880" cy="2944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07120" y="5297760"/>
                <a:ext cx="327600" cy="28872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43120" y="5287680"/>
                <a:ext cx="317880" cy="2991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6840" y="5561280"/>
                <a:ext cx="317880" cy="1782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48160" y="4516560"/>
                <a:ext cx="1150560" cy="106056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83040" y="4906800"/>
                <a:ext cx="425880" cy="3956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1640" y="4866480"/>
                <a:ext cx="425880" cy="3956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41640" y="4866480"/>
                <a:ext cx="446760" cy="41076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12480" y="4836600"/>
                <a:ext cx="413640" cy="38520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295960" y="5858280"/>
              <a:ext cx="13251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TC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11120" y="4749840"/>
            <a:ext cx="1193760" cy="10414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000"/>
            </a:br>
            <a:r>
              <a:rPr b="0" lang="de-DE" sz="10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50846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75080" y="5065560"/>
            <a:ext cx="1681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080" y="5087880"/>
            <a:ext cx="11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92760" y="5346720"/>
            <a:ext cx="675000" cy="32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4400" y="5064120"/>
            <a:ext cx="1417680" cy="1197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-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00800" y="3027240"/>
            <a:ext cx="1527120" cy="13384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5920" y="3892680"/>
            <a:ext cx="67176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ADB-2F41-4E36-8945-D368803BE0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algorith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2760" y="1898640"/>
            <a:ext cx="82389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The user specifies one or more entities to TCGe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... which will be considered as the entity block under test (EU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11880" y="3159000"/>
            <a:ext cx="3362400" cy="897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095480" y="3960720"/>
            <a:ext cx="2977920" cy="23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8" name=""/>
          <p:cNvSpPr/>
          <p:nvPr/>
        </p:nvSpPr>
        <p:spPr>
          <a:xfrm>
            <a:off x="203040" y="2714760"/>
            <a:ext cx="83790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Recorded primitives are examined in an initial pass to genera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SEND-commands for all data received by the E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AWAIT-commands for all data emitted by the E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5800" y="4444920"/>
            <a:ext cx="44496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By further passes definitions of the primitive content ar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... according to the values actually used during the field-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BEA-E4C5-4514-97BB-744DD18F40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rule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0040" y="1974960"/>
            <a:ext cx="812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CGen supports rule files in XML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to automatically apply needed modifications of the data recor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5286240"/>
            <a:ext cx="76564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 cases can also be adapted manu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because they are generated in a human readabl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60920" y="3432240"/>
            <a:ext cx="4838400" cy="170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592200" y="3436920"/>
            <a:ext cx="2712960" cy="1638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_primitive_ele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y_rul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rite_ele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240" y="3121200"/>
            <a:ext cx="19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eration fra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01720" y="4272120"/>
            <a:ext cx="115884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40760" y="311292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le file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1EE-1420-4933-AA3F-FE6D74E641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Execu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TAP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72520" y="1955880"/>
            <a:ext cx="86518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he tool TAP can be used to execute generated test-cas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together with a real target or a simulation of the protocol sta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Such test runs can be regression tes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if, e.g., a succesful phone call has been recor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... or reproductions of erroneous behaviou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78240" y="4506840"/>
            <a:ext cx="3630600" cy="1824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51000" y="4835520"/>
            <a:ext cx="1487160" cy="1287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-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59040" y="5506920"/>
            <a:ext cx="65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18320" y="4613400"/>
            <a:ext cx="1214640" cy="1657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 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41960" y="5540400"/>
            <a:ext cx="1467000" cy="9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53280" y="5549760"/>
            <a:ext cx="10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CE0-E718-4435-8DF5-8AA6A921B1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Execu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… entity iso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8200" y="1869840"/>
            <a:ext cx="82994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o avoid disturbances from other entities the EUT have to be isolated inside the tested P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his is supported by the routing mechanisms of the generic GPF-FRA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87692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his way no real air-network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o, e.g., retrace an error in a specific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114720"/>
            <a:ext cx="2178000" cy="28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3265560"/>
            <a:ext cx="993960" cy="2412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5549760"/>
            <a:ext cx="993600" cy="2415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60600" y="4267080"/>
            <a:ext cx="993600" cy="241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71760" y="4648320"/>
            <a:ext cx="993600" cy="241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3200" y="5943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68280" y="4114800"/>
            <a:ext cx="111240" cy="903240"/>
          </a:xfrm>
          <a:custGeom>
            <a:avLst/>
            <a:gdLst>
              <a:gd name="textAreaLeft" fmla="*/ 71280 w 111240"/>
              <a:gd name="textAreaRight" fmla="*/ 111600 w 11124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4164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5029200"/>
            <a:ext cx="0" cy="5335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708400">
            <a:off x="2017440" y="534816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3200400"/>
            <a:ext cx="3886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Adequate routing commands are contained in the test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also generated by TC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581280"/>
            <a:ext cx="121932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876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4876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50292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5181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181480"/>
            <a:ext cx="0" cy="381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2708400">
            <a:off x="1638360" y="524808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3505320"/>
            <a:ext cx="0" cy="5331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708400">
            <a:off x="2018880" y="3571560"/>
            <a:ext cx="381240" cy="228600"/>
          </a:xfrm>
          <a:custGeom>
            <a:avLst/>
            <a:gdLst>
              <a:gd name="textAreaLeft" fmla="*/ 156960 w 381240"/>
              <a:gd name="textAreaRight" fmla="*/ 224280 w 3812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28800" y="3538440"/>
            <a:ext cx="1440" cy="3477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708400">
            <a:off x="1639800" y="350496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4038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0384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886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3886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7BF-B045-460D-A53A-8BFDB3C0A0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urrent Limita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2800" y="2031480"/>
            <a:ext cx="694224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Only selected parts of the protocol stack can be logg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due to insufficient data rates currently available on the test interf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ot all communications between entities can be duplica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because at some points functional interfaces are used for performance reas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ut solutions are on the way 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7016760" y="284796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F20-2675-4A49-B0B6-1FE495F0B9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uture Planning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91000" y="2020680"/>
            <a:ext cx="505296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Support of other test scrip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TTCN-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66840" y="1774800"/>
            <a:ext cx="3327120" cy="2951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446200" y="3378240"/>
            <a:ext cx="613908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Enhanced possibilities in rule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regula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Consideration of further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message sequenc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2D7-F502-40CA-A181-5490ED8104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0920" y="2090880"/>
            <a:ext cx="57355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General Ide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ield-Test Logg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Protocol Stack Structur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-Case Gener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-Case Execution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Current Limita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uture Planning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EFD-33CB-422B-86BC-50770084F6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backgroun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sting is still the main possibility to find errors in today’s softwar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pecially if we have to deal with complex architectures as can be found inside protocol stacks of mobile devic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riting test-cases (TC) is a crit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cedure often neglect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due to a lack of autom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7043760" y="427032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F9E-29A1-4961-B246-540EFB917C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inten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4800" y="1868400"/>
            <a:ext cx="800748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Test-Case generators which use, e.g., specifications ..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need detailed behaviour descriptions in a certain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are quite complex to impl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752400" y="420048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66ff33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63840" y="3935520"/>
            <a:ext cx="602784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Why not use actual data collected anyway during field-te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o easily create regressio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o conveniently reproduce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318-EB48-4DAB-A151-5D0C0A2255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76480" y="1908000"/>
            <a:ext cx="1722240" cy="1812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data flow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79760" y="352908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65800" y="2855880"/>
            <a:ext cx="33526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80440" y="3014640"/>
            <a:ext cx="1233720" cy="1820880"/>
            <a:chOff x="4780440" y="3014640"/>
            <a:chExt cx="1233720" cy="1820880"/>
          </a:xfrm>
        </p:grpSpPr>
        <p:grpSp>
          <p:nvGrpSpPr>
            <p:cNvPr id="61" name=""/>
            <p:cNvGrpSpPr/>
            <p:nvPr/>
          </p:nvGrpSpPr>
          <p:grpSpPr>
            <a:xfrm>
              <a:off x="4827960" y="3014640"/>
              <a:ext cx="1150560" cy="1030680"/>
              <a:chOff x="4827960" y="3014640"/>
              <a:chExt cx="1150560" cy="1030680"/>
            </a:xfrm>
          </p:grpSpPr>
          <p:sp>
            <p:nvSpPr>
              <p:cNvPr id="62" name=""/>
              <p:cNvSpPr/>
              <p:nvPr/>
            </p:nvSpPr>
            <p:spPr>
              <a:xfrm>
                <a:off x="5312520" y="3046680"/>
                <a:ext cx="238680" cy="13104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39200" y="3448080"/>
                <a:ext cx="139320" cy="2145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76560" y="3448080"/>
                <a:ext cx="135720" cy="20700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7280" y="3159720"/>
                <a:ext cx="236160" cy="2080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45520" y="3164040"/>
                <a:ext cx="238680" cy="2106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67280" y="3728160"/>
                <a:ext cx="236160" cy="207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652000" y="3724920"/>
                <a:ext cx="232560" cy="21060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10000" y="3924720"/>
                <a:ext cx="232560" cy="120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00760" y="3164040"/>
                <a:ext cx="838440" cy="7606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63920" y="3014640"/>
                <a:ext cx="233280" cy="1195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91320" y="3411000"/>
                <a:ext cx="141840" cy="21132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27960" y="3407760"/>
                <a:ext cx="139320" cy="2145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21920" y="3123360"/>
                <a:ext cx="233280" cy="20700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00520" y="3123360"/>
                <a:ext cx="232560" cy="21132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21920" y="3691800"/>
                <a:ext cx="239400" cy="207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06640" y="3684240"/>
                <a:ext cx="232560" cy="2145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58520" y="3881160"/>
                <a:ext cx="232560" cy="1278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2160" y="3130920"/>
                <a:ext cx="841680" cy="76140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270040" y="3411000"/>
                <a:ext cx="311760" cy="2840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39800" y="3382200"/>
                <a:ext cx="311760" cy="2840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39800" y="3382200"/>
                <a:ext cx="326880" cy="2948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18560" y="3360600"/>
                <a:ext cx="302760" cy="2764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4780440" y="4116960"/>
              <a:ext cx="12337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st-Cas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73760" y="238284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5760" y="3129120"/>
            <a:ext cx="183024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14720" y="2968560"/>
            <a:ext cx="1162080" cy="1182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404964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404640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-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51320" y="352584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40520" y="351144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181080" y="5145840"/>
            <a:ext cx="8191440" cy="1149480"/>
          </a:xfrm>
          <a:custGeom>
            <a:avLst/>
            <a:gdLst>
              <a:gd name="textAreaLeft" fmla="*/ 1433520 w 8191440"/>
              <a:gd name="textAreaRight" fmla="*/ 5938920 w 8191440"/>
              <a:gd name="textAreaTop" fmla="*/ 153720 h 1149480"/>
              <a:gd name="textAreaBottom" fmla="*/ 995760 h 114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1120" y="494496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velopment &amp; Bug-Fi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66D-334F-4BFC-B3FE-6363B05787A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21440" y="506088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5102280"/>
            <a:ext cx="1486080" cy="124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 Logging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PC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7240" y="1967040"/>
            <a:ext cx="77853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tool PCO is used to supervise field-tes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record all communications inside the protocol stack (PS) of, e.g., a cellular pho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flipH="1" rot="1013400">
            <a:off x="307800" y="3471840"/>
            <a:ext cx="1722600" cy="181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624040" y="3538440"/>
            <a:ext cx="4418280" cy="272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357800"/>
            <a:ext cx="1162080" cy="1384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FCE-1614-4738-9D40-0E6B3F62C7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20089800">
            <a:off x="3649680" y="5084640"/>
            <a:ext cx="2273400" cy="993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 Logging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GPF-FRAM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967040"/>
            <a:ext cx="77853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 generic framework is used on target and tool sid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pporting duplication of the communication fl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flipH="1" rot="1014000">
            <a:off x="984960" y="3681000"/>
            <a:ext cx="1398600" cy="147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81880" y="396720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7120" y="5127480"/>
            <a:ext cx="2571840" cy="8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F-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5960" y="5110200"/>
            <a:ext cx="2571480" cy="8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F-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44348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plici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a th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D42-EFAF-41B9-B41E-3DD6FA24CD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66672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S Structur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primitiv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2080" y="1868400"/>
            <a:ext cx="859932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A protocol stack consists of several enti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communicating via primitives exchanged between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Primitives contain internal data and air-messag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86120" y="4084560"/>
          <a:ext cx="3736800" cy="2016000"/>
        </p:xfrm>
        <a:graphic>
          <a:graphicData uri="http://schemas.openxmlformats.org/drawingml/2006/table">
            <a:tbl>
              <a:tblPr/>
              <a:tblGrid>
                <a:gridCol w="373680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ng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ir_message_SDU (encod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981080" y="3684600"/>
            <a:ext cx="15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370560" y="4116240"/>
          <a:ext cx="2351160" cy="1505160"/>
        </p:xfrm>
        <a:graphic>
          <a:graphicData uri="http://schemas.openxmlformats.org/drawingml/2006/table">
            <a:tbl>
              <a:tblPr/>
              <a:tblGrid>
                <a:gridCol w="2351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ng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6313320" y="37274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-message (deco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18240" y="4125960"/>
            <a:ext cx="633240" cy="14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16440" y="5622480"/>
            <a:ext cx="644760" cy="4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1920" y="3795840"/>
            <a:ext cx="1174680" cy="461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5726160"/>
            <a:ext cx="1174680" cy="51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4800" y="4270320"/>
            <a:ext cx="9360" cy="1425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05040" y="4070520"/>
            <a:ext cx="1074600" cy="89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3880" y="5084640"/>
            <a:ext cx="1065240" cy="10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038-B1F2-467F-8B71-ADAC593DCE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S Structur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databas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4800" y="1934640"/>
            <a:ext cx="8007480" cy="17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The altering structure definitions are collected in a database 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to keep test tools independent from the actual 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10440" y="3651120"/>
            <a:ext cx="1527120" cy="21924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in32-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120" y="3772080"/>
            <a:ext cx="1952640" cy="2157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fication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itive a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ir-messa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TSI con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3360" y="3890880"/>
            <a:ext cx="1427040" cy="16700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hea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638080" y="4203720"/>
            <a:ext cx="1155960" cy="1666080"/>
            <a:chOff x="2638080" y="4203720"/>
            <a:chExt cx="1155960" cy="1666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4203720"/>
              <a:ext cx="954720" cy="883800"/>
              <a:chOff x="2743200" y="4203720"/>
              <a:chExt cx="954720" cy="883800"/>
            </a:xfrm>
          </p:grpSpPr>
          <p:sp>
            <p:nvSpPr>
              <p:cNvPr id="134" name=""/>
              <p:cNvSpPr/>
              <p:nvPr/>
            </p:nvSpPr>
            <p:spPr>
              <a:xfrm>
                <a:off x="3145320" y="4231080"/>
                <a:ext cx="198000" cy="11232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82360" y="4575600"/>
                <a:ext cx="115560" cy="1839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83520" y="4575600"/>
                <a:ext cx="112680" cy="17748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58760" y="4328280"/>
                <a:ext cx="195840" cy="178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21440" y="4331880"/>
                <a:ext cx="198000" cy="1803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58760" y="4815720"/>
                <a:ext cx="19584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26840" y="4812840"/>
                <a:ext cx="192960" cy="1803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42800" y="4984200"/>
                <a:ext cx="192960" cy="1033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86480" y="4331880"/>
                <a:ext cx="695520" cy="65232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04640" y="4203720"/>
                <a:ext cx="193680" cy="102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42400" y="4543560"/>
                <a:ext cx="117720" cy="1810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43200" y="4540680"/>
                <a:ext cx="115560" cy="1839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20960" y="4296960"/>
                <a:ext cx="193680" cy="17748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84000" y="4296960"/>
                <a:ext cx="192960" cy="1810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0960" y="4784400"/>
                <a:ext cx="19872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89040" y="4778280"/>
                <a:ext cx="192960" cy="1839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00320" y="4946760"/>
                <a:ext cx="192960" cy="1098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46160" y="4303440"/>
                <a:ext cx="698400" cy="65304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10040" y="4543560"/>
                <a:ext cx="25848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84840" y="4518720"/>
                <a:ext cx="25848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84840" y="4518720"/>
                <a:ext cx="271080" cy="2527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67200" y="4500360"/>
                <a:ext cx="250920" cy="23724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638080" y="5151240"/>
              <a:ext cx="11559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b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28840" y="465948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0040" y="4660920"/>
            <a:ext cx="373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4160" y="466884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785560" y="4257720"/>
            <a:ext cx="1105920" cy="1941120"/>
            <a:chOff x="5785560" y="4257720"/>
            <a:chExt cx="1105920" cy="1941120"/>
          </a:xfrm>
        </p:grpSpPr>
        <p:grpSp>
          <p:nvGrpSpPr>
            <p:cNvPr id="161" name=""/>
            <p:cNvGrpSpPr/>
            <p:nvPr/>
          </p:nvGrpSpPr>
          <p:grpSpPr>
            <a:xfrm>
              <a:off x="5866560" y="4257720"/>
              <a:ext cx="951840" cy="882720"/>
              <a:chOff x="5866560" y="4257720"/>
              <a:chExt cx="951840" cy="882720"/>
            </a:xfrm>
          </p:grpSpPr>
          <p:sp>
            <p:nvSpPr>
              <p:cNvPr id="162" name=""/>
              <p:cNvSpPr/>
              <p:nvPr/>
            </p:nvSpPr>
            <p:spPr>
              <a:xfrm>
                <a:off x="6267240" y="4285080"/>
                <a:ext cx="197640" cy="11232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03200" y="4628880"/>
                <a:ext cx="115200" cy="1839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06880" y="4628880"/>
                <a:ext cx="112320" cy="17748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81760" y="4381920"/>
                <a:ext cx="195120" cy="178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43000" y="4385520"/>
                <a:ext cx="197640" cy="1803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81760" y="4869000"/>
                <a:ext cx="19512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48040" y="4866120"/>
                <a:ext cx="192240" cy="1803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5080" y="5037480"/>
                <a:ext cx="192240" cy="1029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09480" y="4385520"/>
                <a:ext cx="693360" cy="65160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26920" y="4257720"/>
                <a:ext cx="192960" cy="102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63240" y="4597200"/>
                <a:ext cx="117360" cy="1810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6560" y="4594320"/>
                <a:ext cx="115200" cy="1839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44320" y="4350960"/>
                <a:ext cx="192960" cy="17748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05560" y="4350960"/>
                <a:ext cx="192240" cy="1810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44320" y="4837680"/>
                <a:ext cx="19800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10600" y="4831560"/>
                <a:ext cx="192240" cy="1839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22600" y="4999680"/>
                <a:ext cx="192240" cy="10944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69160" y="4357440"/>
                <a:ext cx="696240" cy="65232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32320" y="4597200"/>
                <a:ext cx="25776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07120" y="4572360"/>
                <a:ext cx="25776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07120" y="4572360"/>
                <a:ext cx="270360" cy="252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89480" y="4554000"/>
                <a:ext cx="250200" cy="23688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785560" y="5205960"/>
              <a:ext cx="110592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in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853320" y="4670280"/>
            <a:ext cx="33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BBE-1DFC-4BE4-A330-60E4A5F43A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21:56:40Z</dcterms:created>
  <dc:creator>Ted Moody</dc:creator>
  <dc:description/>
  <dc:language>en-US</dc:language>
  <cp:lastModifiedBy>Ronny Kiessling</cp:lastModifiedBy>
  <dcterms:modified xsi:type="dcterms:W3CDTF">2004-01-07T18:58:54Z</dcterms:modified>
  <cp:revision>110</cp:revision>
  <dc:subject/>
  <dc:title>Preparing PPT for Presentation</dc:title>
</cp:coreProperties>
</file>