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902825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43AC47-A880-40A8-BD44-50229C886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17320" y="241920"/>
            <a:ext cx="83818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17680" y="1020600"/>
            <a:ext cx="859464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7680" y="3671640"/>
            <a:ext cx="859464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BBAA8F-7FC0-453B-8B53-0EE11A312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7320" y="241920"/>
            <a:ext cx="83818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17680" y="1020600"/>
            <a:ext cx="419400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21920" y="1020600"/>
            <a:ext cx="419400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17680" y="3671640"/>
            <a:ext cx="419400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921920" y="3671640"/>
            <a:ext cx="419400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CA5253-77B9-480A-AD0B-EF9071510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17320" y="241920"/>
            <a:ext cx="83818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517680" y="1020600"/>
            <a:ext cx="276732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423600" y="1020600"/>
            <a:ext cx="276732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9880" y="1020600"/>
            <a:ext cx="276732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17680" y="3671640"/>
            <a:ext cx="276732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423600" y="3671640"/>
            <a:ext cx="276732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9880" y="3671640"/>
            <a:ext cx="276732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492309-F858-4837-A535-B3B1A4FF9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17320" y="241920"/>
            <a:ext cx="83818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517680" y="1020600"/>
            <a:ext cx="8594640" cy="50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7BE7B5-9FD3-4380-8108-6FA1EEBFA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17320" y="241920"/>
            <a:ext cx="83818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17680" y="1020600"/>
            <a:ext cx="8594640" cy="50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3E6A52-7751-42A8-9068-8AB08A740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17320" y="241920"/>
            <a:ext cx="83818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17680" y="1020600"/>
            <a:ext cx="4194000" cy="50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21920" y="1020600"/>
            <a:ext cx="4194000" cy="50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308B58-4491-48A8-A1B4-F5646E1D4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7320" y="241920"/>
            <a:ext cx="83818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9CAE99-2661-429F-8F18-9D7CD54BC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517320" y="272880"/>
            <a:ext cx="838188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13324F-2073-4F2A-BF24-7E9D43FD6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7320" y="241920"/>
            <a:ext cx="83818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17680" y="1020600"/>
            <a:ext cx="419400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21920" y="1020600"/>
            <a:ext cx="4194000" cy="50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7680" y="3671640"/>
            <a:ext cx="419400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CEBE7A-099B-4592-B340-E3FCEC61F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17320" y="241920"/>
            <a:ext cx="83818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17680" y="1020600"/>
            <a:ext cx="4194000" cy="50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21920" y="1020600"/>
            <a:ext cx="419400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921920" y="3671640"/>
            <a:ext cx="419400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7995A1-C731-462B-A26D-BBAF4FB65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17320" y="241920"/>
            <a:ext cx="83818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17680" y="1020600"/>
            <a:ext cx="419400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21920" y="1020600"/>
            <a:ext cx="419400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17680" y="3671640"/>
            <a:ext cx="859464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BF218D-9E15-4D60-950C-F5F25AFED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38280" y="6616800"/>
            <a:ext cx="1805040" cy="1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520" rIns="47520" tIns="19080" bIns="19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3069"/>
                </a:solidFill>
                <a:latin typeface="ITC Officina Sans Book"/>
              </a:rPr>
              <a:t>Condat AG, Berlin 20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641800" y="6616800"/>
            <a:ext cx="1304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7520" rIns="47520" tIns="19080" bIns="19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3069"/>
                </a:solidFill>
                <a:latin typeface="ITC Officina Sans Book"/>
              </a:rPr>
              <a:t>Slide No.  </a:t>
            </a:r>
            <a:fld id="{6524D3BD-2FED-4A78-8146-90B0956FBAE8}" type="slidenum">
              <a:rPr b="0" lang="en-US" sz="1000" spc="-1" strike="noStrike">
                <a:solidFill>
                  <a:srgbClr val="003069"/>
                </a:solidFill>
                <a:latin typeface="ITC Officina Sans Book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441320" y="6599160"/>
            <a:ext cx="902880" cy="2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3069"/>
                </a:solidFill>
                <a:latin typeface="ITC Officina Sans Book"/>
              </a:rPr>
              <a:t>Confidenti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565200" y="743040"/>
            <a:ext cx="8273880" cy="0"/>
          </a:xfrm>
          <a:prstGeom prst="line">
            <a:avLst/>
          </a:prstGeom>
          <a:ln w="12600">
            <a:solidFill>
              <a:srgbClr val="0063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80960" y="6553080"/>
            <a:ext cx="28404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900" spc="-1" strike="noStrike">
                <a:solidFill>
                  <a:srgbClr val="003069"/>
                </a:solidFill>
                <a:latin typeface="Symbol"/>
                <a:ea typeface="Symbol"/>
              </a:rPr>
              <a:t>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7320" y="272880"/>
            <a:ext cx="8381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ITC Officina Sans Book"/>
              </a:rPr>
              <a:t>Click to edit the title text format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517680" y="1020600"/>
            <a:ext cx="8594640" cy="50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Click to edit the outline text format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743040" indent="-285840">
              <a:spcBef>
                <a:spcPts val="499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Second Outline Level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2" marL="1143000" indent="-228600">
              <a:spcBef>
                <a:spcPts val="499"/>
              </a:spcBef>
              <a:buClr>
                <a:srgbClr val="0063ce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Third Outline Level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Fourth Outline Level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Fifth Outline Level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Sixth Outline Level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Seventh Outline Level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8989920" y="71280"/>
            <a:ext cx="806400" cy="72072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761760" y="6229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069"/>
                </a:solidFill>
                <a:latin typeface="ITC Officina Sans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069"/>
                </a:solidFill>
                <a:latin typeface="ITC Officina Sans Boo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2"/>
          </p:nvPr>
        </p:nvSpPr>
        <p:spPr>
          <a:xfrm>
            <a:off x="708624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069"/>
                </a:solidFill>
                <a:latin typeface="ITC Officina Sans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41BE3-7904-4CB9-8485-FD1577D8FEC6}" type="slidenum">
              <a:rPr b="0" lang="en-US" sz="1400" spc="-1" strike="noStrike">
                <a:solidFill>
                  <a:srgbClr val="003069"/>
                </a:solidFill>
                <a:latin typeface="ITC Officina Sans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ftr" idx="3"/>
          </p:nvPr>
        </p:nvSpPr>
        <p:spPr>
          <a:xfrm>
            <a:off x="342864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069"/>
                </a:solidFill>
                <a:latin typeface="ITC Officina Sans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069"/>
                </a:solidFill>
                <a:latin typeface="ITC Officina Sans Boo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043520" y="5257800"/>
            <a:ext cx="5198760" cy="762120"/>
          </a:xfrm>
          <a:prstGeom prst="rect">
            <a:avLst/>
          </a:prstGeom>
          <a:solidFill>
            <a:srgbClr val="ff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Windows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, Linux,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60240" y="4724280"/>
            <a:ext cx="2887920" cy="1295640"/>
          </a:xfrm>
          <a:prstGeom prst="rect">
            <a:avLst/>
          </a:prstGeom>
          <a:solidFill>
            <a:srgbClr val="ff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Nucleus, PSOS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,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043520" y="4724280"/>
            <a:ext cx="5198760" cy="533520"/>
          </a:xfrm>
          <a:prstGeom prst="rect">
            <a:avLst/>
          </a:prstGeom>
          <a:solidFill>
            <a:srgbClr val="ff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VC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660240" y="3657600"/>
            <a:ext cx="5446440" cy="1066680"/>
            <a:chOff x="660240" y="3657600"/>
            <a:chExt cx="5446440" cy="1066680"/>
          </a:xfrm>
        </p:grpSpPr>
        <p:sp>
          <p:nvSpPr>
            <p:cNvPr id="51" name=""/>
            <p:cNvSpPr/>
            <p:nvPr/>
          </p:nvSpPr>
          <p:spPr>
            <a:xfrm>
              <a:off x="4043520" y="3657600"/>
              <a:ext cx="2063160" cy="1066680"/>
            </a:xfrm>
            <a:prstGeom prst="rect">
              <a:avLst/>
            </a:prstGeom>
            <a:solidFill>
              <a:srgbClr val="00ff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FRA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60240" y="3657600"/>
              <a:ext cx="2888280" cy="1066680"/>
            </a:xfrm>
            <a:prstGeom prst="rect">
              <a:avLst/>
            </a:prstGeom>
            <a:solidFill>
              <a:srgbClr val="00ff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FRA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660240" y="2057400"/>
            <a:ext cx="1733760" cy="160020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Div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Ent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P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76440" y="3048120"/>
            <a:ext cx="1071720" cy="60948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043520" y="3048120"/>
            <a:ext cx="660240" cy="60948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548160" y="3352680"/>
            <a:ext cx="49536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486080" y="6095880"/>
            <a:ext cx="105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r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859360" y="6172200"/>
            <a:ext cx="181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st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800600" y="1905120"/>
            <a:ext cx="1306440" cy="1752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Pan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230880" y="3657600"/>
            <a:ext cx="990720" cy="106668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304040" y="3657600"/>
            <a:ext cx="1030320" cy="106668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8416800" y="3657600"/>
            <a:ext cx="825480" cy="1066680"/>
          </a:xfrm>
          <a:prstGeom prst="rect">
            <a:avLst/>
          </a:prstGeom>
          <a:solidFill>
            <a:srgbClr val="000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8499600" y="3505320"/>
            <a:ext cx="825480" cy="1066680"/>
          </a:xfrm>
          <a:prstGeom prst="rect">
            <a:avLst/>
          </a:prstGeom>
          <a:solidFill>
            <a:srgbClr val="000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7262640" y="1905120"/>
            <a:ext cx="2171520" cy="2514600"/>
            <a:chOff x="7262640" y="1905120"/>
            <a:chExt cx="2171520" cy="2514600"/>
          </a:xfrm>
        </p:grpSpPr>
        <p:sp>
          <p:nvSpPr>
            <p:cNvPr id="65" name=""/>
            <p:cNvSpPr/>
            <p:nvPr/>
          </p:nvSpPr>
          <p:spPr>
            <a:xfrm>
              <a:off x="8609400" y="3352680"/>
              <a:ext cx="824760" cy="1067040"/>
            </a:xfrm>
            <a:prstGeom prst="rect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PC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vie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7262640" y="1905120"/>
              <a:ext cx="2144160" cy="6094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CCDedit </a:t>
              </a:r>
              <a:br>
                <a:rPr sz="2400"/>
              </a:b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(ccddata_dll.dll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994240" y="251460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17320" y="272880"/>
            <a:ext cx="8381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ITC Officina Sans Book"/>
              </a:rPr>
              <a:t>xPanel &amp; PCO2 - usage with TI-Multiplexer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69" name=""/>
          <p:cNvSpPr/>
          <p:nvPr/>
        </p:nvSpPr>
        <p:spPr>
          <a:xfrm>
            <a:off x="609480" y="1066680"/>
            <a:ext cx="838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iginal concept without TI-Multiplex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403440" y="2666880"/>
            <a:ext cx="838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rial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4043520" y="5257800"/>
            <a:ext cx="5198760" cy="762120"/>
          </a:xfrm>
          <a:prstGeom prst="rect">
            <a:avLst/>
          </a:prstGeom>
          <a:solidFill>
            <a:srgbClr val="ff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Windows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, Linux,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60240" y="4724280"/>
            <a:ext cx="2887920" cy="1295640"/>
          </a:xfrm>
          <a:prstGeom prst="rect">
            <a:avLst/>
          </a:prstGeom>
          <a:solidFill>
            <a:srgbClr val="ff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Nucleus, PSOS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,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43520" y="4724280"/>
            <a:ext cx="5198760" cy="533520"/>
          </a:xfrm>
          <a:prstGeom prst="rect">
            <a:avLst/>
          </a:prstGeom>
          <a:solidFill>
            <a:srgbClr val="ff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VC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660240" y="3657600"/>
            <a:ext cx="5446440" cy="1066680"/>
            <a:chOff x="660240" y="3657600"/>
            <a:chExt cx="5446440" cy="1066680"/>
          </a:xfrm>
        </p:grpSpPr>
        <p:sp>
          <p:nvSpPr>
            <p:cNvPr id="75" name=""/>
            <p:cNvSpPr/>
            <p:nvPr/>
          </p:nvSpPr>
          <p:spPr>
            <a:xfrm>
              <a:off x="4043520" y="3657600"/>
              <a:ext cx="2063160" cy="1066680"/>
            </a:xfrm>
            <a:prstGeom prst="rect">
              <a:avLst/>
            </a:prstGeom>
            <a:solidFill>
              <a:srgbClr val="00ff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FRA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60240" y="3657600"/>
              <a:ext cx="2888280" cy="1066680"/>
            </a:xfrm>
            <a:prstGeom prst="rect">
              <a:avLst/>
            </a:prstGeom>
            <a:solidFill>
              <a:srgbClr val="00ff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FRA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660240" y="2057400"/>
            <a:ext cx="1930680" cy="160020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Div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Ent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P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781360" y="3048120"/>
            <a:ext cx="774720" cy="60948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051440" y="3200400"/>
            <a:ext cx="1358640" cy="45720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548160" y="2362320"/>
            <a:ext cx="49536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486080" y="6095880"/>
            <a:ext cx="105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r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859360" y="6172200"/>
            <a:ext cx="181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st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529240" y="1905120"/>
            <a:ext cx="577800" cy="1752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Pan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230880" y="3657600"/>
            <a:ext cx="990720" cy="106668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304040" y="3657600"/>
            <a:ext cx="1030320" cy="106668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8416800" y="3657600"/>
            <a:ext cx="825480" cy="1066680"/>
          </a:xfrm>
          <a:prstGeom prst="rect">
            <a:avLst/>
          </a:prstGeom>
          <a:solidFill>
            <a:srgbClr val="000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499600" y="3505320"/>
            <a:ext cx="825480" cy="1066680"/>
          </a:xfrm>
          <a:prstGeom prst="rect">
            <a:avLst/>
          </a:prstGeom>
          <a:solidFill>
            <a:srgbClr val="000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7262640" y="1905120"/>
            <a:ext cx="2171520" cy="2514600"/>
            <a:chOff x="7262640" y="1905120"/>
            <a:chExt cx="2171520" cy="2514600"/>
          </a:xfrm>
        </p:grpSpPr>
        <p:sp>
          <p:nvSpPr>
            <p:cNvPr id="89" name=""/>
            <p:cNvSpPr/>
            <p:nvPr/>
          </p:nvSpPr>
          <p:spPr>
            <a:xfrm>
              <a:off x="8609400" y="3352680"/>
              <a:ext cx="824760" cy="1067040"/>
            </a:xfrm>
            <a:prstGeom prst="rect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PC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vie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262640" y="1905120"/>
              <a:ext cx="2144160" cy="6094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CCDedit</a:t>
              </a:r>
              <a:br>
                <a:rPr sz="2400"/>
              </a:b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(ccddata_dll.dll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994240" y="251460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7320" y="272880"/>
            <a:ext cx="8381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ITC Officina Sans Book"/>
              </a:rPr>
              <a:t>xPanel &amp; PCO2 - usage with TI-Multiplexer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93" name=""/>
          <p:cNvSpPr/>
          <p:nvPr/>
        </p:nvSpPr>
        <p:spPr>
          <a:xfrm>
            <a:off x="609480" y="1066680"/>
            <a:ext cx="838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cept with TI-Multiplex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403440" y="1676520"/>
            <a:ext cx="838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rial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06560" y="1905120"/>
            <a:ext cx="749520" cy="1143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I</a:t>
            </a:r>
            <a:br>
              <a:rPr sz="2400"/>
            </a:b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M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051440" y="1905120"/>
            <a:ext cx="1434960" cy="7617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I-MUX</a:t>
            </a:r>
            <a:br>
              <a:rPr sz="2400"/>
            </a:b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(TraceMultiplexer.ex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572000" y="2666880"/>
            <a:ext cx="0" cy="5335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495680" y="2743200"/>
            <a:ext cx="838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7320" y="272880"/>
            <a:ext cx="8381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ITC Officina Sans Book"/>
              </a:rPr>
              <a:t>xPanel &amp; PCO2 - usage with TI-Multiplexer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28240" y="990360"/>
            <a:ext cx="944892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ITC Officina Sans Book"/>
              </a:rPr>
              <a:t>Configuration on target side</a:t>
            </a:r>
            <a:endParaRPr b="0" lang="en-US" sz="24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-343080">
              <a:spcBef>
                <a:spcPts val="499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enable L1-tracing over one of the Com-Ports of the B/C-Sample </a:t>
            </a:r>
            <a:br>
              <a:rPr sz="2000"/>
            </a:b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(via monitor-program)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101" name=""/>
          <p:cNvSpPr/>
          <p:nvPr/>
        </p:nvSpPr>
        <p:spPr>
          <a:xfrm>
            <a:off x="1650960" y="1228680"/>
            <a:ext cx="6600960" cy="44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609480" y="2666880"/>
            <a:ext cx="4722840" cy="16002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2286000" y="3733920"/>
            <a:ext cx="2781360" cy="23810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5943600" y="3429000"/>
            <a:ext cx="3102120" cy="268272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2438280" y="3276720"/>
            <a:ext cx="53352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952880" y="4952880"/>
            <a:ext cx="1371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17320" y="272880"/>
            <a:ext cx="8381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ITC Officina Sans Book"/>
              </a:rPr>
              <a:t>xPanel &amp; PCO2 - usage with TI-Multiplexer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240" y="1066680"/>
            <a:ext cx="94489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ITC Officina Sans Book"/>
              </a:rPr>
              <a:t>Configuration on </a:t>
            </a:r>
            <a:r>
              <a:rPr b="0" lang="en-US" sz="2800" spc="-1" strike="noStrike">
                <a:solidFill>
                  <a:srgbClr val="003069"/>
                </a:solidFill>
                <a:latin typeface="ITC Officina Sans Book"/>
              </a:rPr>
              <a:t>t</a:t>
            </a:r>
            <a:r>
              <a:rPr b="0" lang="en-US" sz="2400" spc="-1" strike="noStrike">
                <a:solidFill>
                  <a:srgbClr val="003069"/>
                </a:solidFill>
                <a:latin typeface="ITC Officina Sans Book"/>
              </a:rPr>
              <a:t>estsystem/tool side (1)</a:t>
            </a:r>
            <a:endParaRPr b="0" lang="en-US" sz="24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-343080">
              <a:spcBef>
                <a:spcPts val="499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ClearCase: 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743040" indent="-285840">
              <a:spcBef>
                <a:spcPts val="499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insert “include \\hokus\csi\gpf_testtools.csi” right after “mkbranch xxx_view” in your ConfigSpec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-343080">
              <a:spcBef>
                <a:spcPts val="499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general: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743040" indent="-285840">
              <a:spcBef>
                <a:spcPts val="499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build ccddata_dll.dll (in /GPF/BIN):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2" marL="1143000" indent="-228600">
              <a:spcBef>
                <a:spcPts val="499"/>
              </a:spcBef>
              <a:buClr>
                <a:srgbClr val="0063ce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initvars.bat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2" marL="1143000" indent="-228600">
              <a:spcBef>
                <a:spcPts val="499"/>
              </a:spcBef>
              <a:buClr>
                <a:srgbClr val="0063ce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m ccddata gprs win32 tr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17320" y="272880"/>
            <a:ext cx="8381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ITC Officina Sans Book"/>
              </a:rPr>
              <a:t>xPanel &amp; PCO2 - usage with TI-Multiplexer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3160" y="914400"/>
            <a:ext cx="891540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ITC Officina Sans Book"/>
              </a:rPr>
              <a:t>Configuration on </a:t>
            </a:r>
            <a:r>
              <a:rPr b="0" lang="en-US" sz="2800" spc="-1" strike="noStrike">
                <a:solidFill>
                  <a:srgbClr val="003069"/>
                </a:solidFill>
                <a:latin typeface="ITC Officina Sans Book"/>
              </a:rPr>
              <a:t>t</a:t>
            </a:r>
            <a:r>
              <a:rPr b="0" lang="en-US" sz="2400" spc="-1" strike="noStrike">
                <a:solidFill>
                  <a:srgbClr val="003069"/>
                </a:solidFill>
                <a:latin typeface="ITC Officina Sans Book"/>
              </a:rPr>
              <a:t>estsystem/tool side (2)</a:t>
            </a:r>
            <a:endParaRPr b="0" lang="en-US" sz="24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-343080">
              <a:spcBef>
                <a:spcPts val="499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general: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743040" indent="-285840">
              <a:spcBef>
                <a:spcPts val="499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copy …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2" marL="1143000" indent="-228600">
              <a:spcBef>
                <a:spcPts val="499"/>
              </a:spcBef>
              <a:buClr>
                <a:srgbClr val="0063ce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\\rk\ti_mux\bin\TraceMultiplexer.exe -&gt; /GPF/BIN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743040" indent="-285840">
              <a:spcBef>
                <a:spcPts val="499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set baudrate of comport inside TI-TraceMultiplexer to 115200: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533520" y="3809880"/>
            <a:ext cx="2985840" cy="15908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886200" y="4029120"/>
            <a:ext cx="5591160" cy="136692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1371600" y="4267080"/>
            <a:ext cx="25909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17320" y="272880"/>
            <a:ext cx="8381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ITC Officina Sans Book"/>
              </a:rPr>
              <a:t>xPanel &amp; PCO2 - usage with TI-Multiplexer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Usage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-343080">
              <a:spcBef>
                <a:spcPts val="499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Testsystem/tool side: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743040" indent="-285840">
              <a:spcBef>
                <a:spcPts val="499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start pco2.bat in /GPF/BIN</a:t>
            </a:r>
            <a:br>
              <a:rPr sz="2000"/>
            </a:b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(CAVE! For Win2000-SP2 use pco2000.bat)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743040" indent="-285840">
              <a:spcBef>
                <a:spcPts val="499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see /GPF/DOC/pco/pco_userguide.doc and /GPF/DOC/xpanel/xpan_userguide.doc </a:t>
            </a:r>
            <a:br>
              <a:rPr sz="2000"/>
            </a:b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for detailed informations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743040" indent="-285840">
              <a:spcBef>
                <a:spcPts val="499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Exit 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7848720" y="1143000"/>
            <a:ext cx="1766880" cy="52578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828800" y="5181480"/>
            <a:ext cx="617220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13T12:19:08Z</dcterms:created>
  <dc:creator>rk</dc:creator>
  <dc:description/>
  <dc:language>en-US</dc:language>
  <cp:lastModifiedBy>rk</cp:lastModifiedBy>
  <cp:lastPrinted>2000-10-17T07:41:10Z</cp:lastPrinted>
  <dcterms:modified xsi:type="dcterms:W3CDTF">2001-08-20T15:36:50Z</dcterms:modified>
  <cp:revision>80</cp:revision>
  <dc:subject/>
  <dc:title>xPanel &amp; PCO2</dc:title>
</cp:coreProperties>
</file>