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F2A3-B1E0-42FD-B866-E21B064A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2B64-E028-444D-B5B2-169962CA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52FF-9198-44DC-9B4A-B33B8DF0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22EA-670B-4FC5-9FB7-8B0CC982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B271-41F0-46C6-9515-A3226E36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0C17-99EE-4B2B-8A10-A9F202B5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818B-FC14-450B-8B18-9C2056BE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D112-59D9-4759-AAAB-1A18AB4B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7EBE-A572-4113-AC9D-A8023105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5B2E-0EEF-4D6A-8D5B-5F40CA3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071D-1D06-4BF6-AE98-CB48A8F8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8092-4161-48B6-A071-60CE829C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572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69326BAB-75C3-433D-A3E7-C49108325790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4FB0-05E9-4651-8F9F-4B90B5FE6BDB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5720" y="6616800"/>
            <a:ext cx="1280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r.  </a:t>
            </a:r>
            <a:fld id="{B43A7BB9-6530-4093-9A76-492B0CF9A49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0080" y="661680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28680" y="2016000"/>
            <a:ext cx="6129360" cy="25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at 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G23) Coder Decoder 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CD</a:t>
            </a:r>
            <a:r>
              <a:rPr b="1" lang="en-US" sz="2400" spc="-1" strike="noStrike">
                <a:solidFill>
                  <a:srgbClr val="0063c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Test System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7680" y="15588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AP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20920" y="2066760"/>
            <a:ext cx="63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est Application Pro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Uses the CCD and CCDEDIT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454560"/>
            <a:ext cx="914400" cy="571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TA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27880" y="3429000"/>
            <a:ext cx="914400" cy="6224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Test Cas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8760" y="4533840"/>
            <a:ext cx="914400" cy="469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Edi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6160" y="5410080"/>
            <a:ext cx="914400" cy="673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5410080"/>
            <a:ext cx="1168560" cy="685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 data bas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60720" y="3441600"/>
            <a:ext cx="914400" cy="5716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PCO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3708360"/>
            <a:ext cx="800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7600" y="3720960"/>
            <a:ext cx="7876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5200" y="4025880"/>
            <a:ext cx="0" cy="5079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5016600"/>
            <a:ext cx="0" cy="3934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40560" y="5778360"/>
            <a:ext cx="825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Test System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440" y="158436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EDIT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23960" y="1558800"/>
            <a:ext cx="639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C function library providing Iterator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unctionality for the CCD data base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Iterate thru the IEs of an Air Interface Messag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Iterate thru the components of a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Especially used for test case definition and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execu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74920" y="4165560"/>
            <a:ext cx="5969160" cy="233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RR_ESTABLISH_REQ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estcs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ESTCS_MOB_ORIG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sdu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{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component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M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direction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UPLINK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pd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U_IMSI_DETACH_IND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ti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TI_0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class_1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CLASS_1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ident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IDENT_IMSI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Usage Rel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8" name=""/>
          <p:cNvSpPr/>
          <p:nvPr/>
        </p:nvSpPr>
        <p:spPr>
          <a:xfrm>
            <a:off x="4002120" y="3143160"/>
            <a:ext cx="1128600" cy="6922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27120" y="429912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3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03800" y="4383000"/>
            <a:ext cx="804960" cy="6922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M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7880" y="479592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9120" y="223848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R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21280" y="1366920"/>
            <a:ext cx="80460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22440" y="222264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9800" y="2563920"/>
            <a:ext cx="465120" cy="550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67440" y="3865680"/>
            <a:ext cx="679320" cy="388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317920" y="2782800"/>
            <a:ext cx="679320" cy="38916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54360" y="3935520"/>
            <a:ext cx="12960" cy="6444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3280" y="3854520"/>
            <a:ext cx="679320" cy="388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3440" y="2259000"/>
            <a:ext cx="12960" cy="6444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02" name=""/>
          <p:cNvSpPr/>
          <p:nvPr/>
        </p:nvSpPr>
        <p:spPr>
          <a:xfrm>
            <a:off x="939960" y="2887560"/>
            <a:ext cx="2388960" cy="4716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4160" y="307980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87520" y="3228840"/>
            <a:ext cx="0" cy="1177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67040" y="3114720"/>
            <a:ext cx="0" cy="2350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13000" y="3187800"/>
            <a:ext cx="0" cy="168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87760" y="307512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24360" y="307512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06440" y="3232080"/>
            <a:ext cx="0" cy="1285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47800" y="3206880"/>
            <a:ext cx="0" cy="141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3440" y="3191040"/>
            <a:ext cx="0" cy="168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99160" y="3554280"/>
            <a:ext cx="183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essage PDU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37080" y="2611440"/>
            <a:ext cx="1557360" cy="14526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21480" y="2009880"/>
            <a:ext cx="1524240" cy="30700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63520" y="4259160"/>
            <a:ext cx="291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ndat Coder Deco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4960" y="5319720"/>
            <a:ext cx="152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 Structur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29400" y="232740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26160" y="2612880"/>
            <a:ext cx="1068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26160" y="3054240"/>
            <a:ext cx="771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29400" y="337968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29400" y="3645000"/>
            <a:ext cx="909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32640" y="3946680"/>
            <a:ext cx="10400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24656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35880" y="456408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26160" y="4832280"/>
            <a:ext cx="12272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0000" y="314316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53280" y="317988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9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5120" y="158436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23960" y="1558800"/>
            <a:ext cx="639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C funtions provided to convert Air Interface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Messages into C structures and vice versa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Avoid bit operations in client cod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arget independ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63840" y="3301920"/>
            <a:ext cx="5994360" cy="316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GLOBAL void for_setup (T_CC_DATA * cc_data, T_U_SETUP * setup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PALLOC_MSG (data, MMCC_DATA_REQ, U_SETUP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TRACE_FUNCTION ("for_setup()"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cd_codeMsg (CCDENT_CC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PLINK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(T_MSGBUF *) &amp;data-&gt;sdu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(UBYTE    *) setup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NOT_PRESENT_8BIT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or_pd (data, cc_data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4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800" y="1241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error handl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3840" y="1905120"/>
            <a:ext cx="599436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#include ccdapi.h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SHORT parlist[6]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BYTE  first_err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memset (parlist,0, sizeof (parlist)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irst_err = ccd_getFirstError (CCDENT_CC, parlist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Error Handling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switch (first_er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ase ERR_COMPREH_REQUIRED: /* comprehension required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or_set_mandatory_error (cc_data, (UBYTE)parlist[0]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ase ERR_MAND_ELEM_MISS:   /* Mandatory elements missing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Error handling is carried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out by checking the content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97240" y="2168640"/>
            <a:ext cx="682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23800" y="752400"/>
          <a:ext cx="10029960" cy="605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752400"/>
                    <a:ext cx="10029960" cy="60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97240" y="2168640"/>
            <a:ext cx="682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17640" y="996840"/>
          <a:ext cx="96264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996840"/>
                    <a:ext cx="96264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" y="1241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Message Describing in Intermediate Format MDF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0040" y="1933560"/>
            <a:ext cx="67975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VAR   cmd_prms           "Parameters"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1952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COMP  pas_cmd            "Proactive SIM Command"   0xD0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   cmd_details                 ;  Command detail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   dev_ids                        ;  Device identitie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V                  cmd_prms                   ;  Command parameter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MSG   stk_cmd            downlink       0b01000000   ;  SAT Command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3_V               msg_type                    ;  Message Type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pas_cmd                     ;  Proactive SIM Command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V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6800" y="124128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-Structure types to contain decoded stk_cmd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0040" y="1933560"/>
            <a:ext cx="6797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ypedef struc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msg_type;       /*&lt;  0:  1&gt; Message type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v_pas_cmd;    /*&lt;  1:  1&gt; valid-flag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pas_cmd     pas_cmd;   /*&lt;  2:257&gt; Proactive SIM Command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 T_STK_CM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Times New Roman"/>
              </a:rPr>
              <a:t>And for Target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ypedef struc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msg_type;  /*&lt;  0:  1&gt; Message type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_align0;     /*&lt;  1:  1&gt; alignment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_align1;     /*&lt;  2:  1&gt; alignment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v_pas_cmd; /*&lt;  3:  1&gt; valid-flag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pas_cmd       pas_cmd;  /*&lt;  4:272&gt; Proactive SIM Command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 T_STK_CM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Structure of Protocol Stack Entity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49320" y="1706400"/>
          <a:ext cx="620568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1706400"/>
                    <a:ext cx="62056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V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7960" y="1241280"/>
            <a:ext cx="70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est function to decode an stk_cmd messag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har msgstr[] = “00 D0 3d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1 03 01 10 01 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2 02 81 83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5 1f 43 6f 6e 66 69 72 6d 65 7a 20 6c 27 61 70 70 65 6c 0b 91 00 00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00 00 00 21 69 16 69 00 01 01 86 0b 90 00 00 00 00 00 21 69 16 69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71 88 04 80 50 00 00“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MSGBUF   msgbuf; UBYTE      target[4096]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while (strlen (msgstr)) 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sscanf (msgstr, "%x", &amp;byte);  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buf[i++] = (UBYTE) byte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str +=3; 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l_buf = i*8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o_buf = 0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cd_decodeMsg(..., &amp;msg_buf, target, 0xff);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V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2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3280" y="124128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ebugger Output for C Structure after Deco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1160" y="1704960"/>
            <a:ext cx="7318440" cy="483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OUTPUT=(T_STK_CMD*) target;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msg_type                0x0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v_pas_cmd       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pas_cmd                  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cmd_datails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cmd_detail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nr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typ     0x1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qlf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dev_ids 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dev_id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src_dev     0x8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des_dev     0x83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cmd_prms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cmd_prm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l_cmd_prms  0x01a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o_cmd_prms  0x000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b_cmd_prms  0x0012c686“Confirmez l‘appel“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ndat AG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velopment and Test Process - Files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6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8120" y="1241280"/>
            <a:ext cx="49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Set environment: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\gpf\initvars.bat</a:t>
            </a: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0720" y="18003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Generate CCD data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54440" y="2270160"/>
            <a:ext cx="675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or PC call \g23m\condat\int\bin\makcdg.bat and build the PS using MSDev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or target call „perl \g23m\g23.pl“ which uses \gpf\ccd\ccddata.m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Both procedures use \gpf\bin\xgen100.exe and \gpf\bin\ccdgen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s: ...\cdginc\, ...\cdginc_fd_gp\, ccddata.lib and ccddata_dll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velopment and Test Process - Files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60400" y="134316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Build Test Application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63200" y="2003400"/>
            <a:ext cx="54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go to \gpf\tap\ and call gnumak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r call gnumake TAP_VERSION=OL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 will be e.g. tap2_gprs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under \gpf\bin\ or \gpf\tap\obj\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85960" y="3654360"/>
            <a:ext cx="43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Build Test-DLL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67040" y="4327560"/>
            <a:ext cx="630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all \gpf\bin\mktc.bat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it reads \g23m\condat\ms\doc\test\x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 is \g23m\condat\ms\tds\x\xy.td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nd \g23m\condat\ms\test\test_x\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ccd-lib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7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2080" y="1200240"/>
            <a:ext cx="63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ifferent variations :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e.g.</a:t>
            </a: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cd_npc_tr_db.lib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54440" y="1711440"/>
            <a:ext cx="630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_tr, _db, _npc, _na7, _ar, _po, _v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Trace, Debug, Nucleus emulation on Win32, Nucleus on ARM7, GTI on ARM, pSOS, vxwor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7640" y="3041640"/>
            <a:ext cx="57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Library is an object of ClearCase control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27520" y="3613320"/>
            <a:ext cx="630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See also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gpf_memo_cclabels.doc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CD objects independent from ccd data tables in CCD_2.2.0 and onwards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Read about versions: readme_ccd.tx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Documentation: ccd_api.doc, faq_ccd.html and ccd_userguide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56080" y="1457280"/>
            <a:ext cx="402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29920" y="2602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ccddata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4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85960" y="13809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ifferent cdginc fil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32000" y="2104920"/>
            <a:ext cx="682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&gt; High potential for functioning problem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lignment bytes depend on processor type (check ccdgen call for -a0, -a1 or -a2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No CCD_SYMBOLS for target (no name column in mcomp.cdg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PS, TAP, PCO must use the same ccd data tables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Instructions in ctrl column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238400" y="914400"/>
          <a:ext cx="7534080" cy="60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914400"/>
                    <a:ext cx="7534080" cy="60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memory issues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35160" y="942840"/>
            <a:ext cx="7223040" cy="538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0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Dose CCD do memset() to 0?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Yes, using</a:t>
            </a: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l_buf. So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be careful with filling l_buf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buClr>
                <a:srgbClr val="0030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What are SHARED_CCD_BUF, CCD_START,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CCD_END and _decodedMsg?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They help to use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CD internal allocated but shared memory. </a:t>
            </a: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_STAR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ccdRe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CAST( com, COMPONENT 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emset( com, 0, sizeof( T_COMPONENT )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Ret = ccd_decodeMsg (CCDENT_FAC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PLINK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(T_MSGBUF *) &amp;mnss_facility_ind -&gt; fac_inf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(UBYTE    *) _decodedMsg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OMPONENT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_EN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Mobile-Station Protocol Architectur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33560" y="1487520"/>
          <a:ext cx="6039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487520"/>
                    <a:ext cx="6039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Protocol Stack Development Metho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88840" y="1081080"/>
          <a:ext cx="789624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081080"/>
                    <a:ext cx="789624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GSM/GPRS/UMTS Coder Decoder System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8680" y="2016000"/>
            <a:ext cx="18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Subsystem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2625840"/>
            <a:ext cx="485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ED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data bas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AP (Test Application Proces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793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GSM/GPRS/UMTS Coder Decoder System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8160" y="15462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data bas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5400" y="2117880"/>
            <a:ext cx="639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Data tables describe the structure of Air Interface Messages and Primitves, e.g. IE types, bit field sizes, offset valu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est system : debug information an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Statically linked as object or library file to the application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Dynamically linked on win32 systems (ccd.dll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ables reside in ...\CDGIN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6960" y="2330280"/>
            <a:ext cx="1063440" cy="580680"/>
            <a:chOff x="426960" y="2330280"/>
            <a:chExt cx="1063440" cy="580680"/>
          </a:xfrm>
        </p:grpSpPr>
        <p:grpSp>
          <p:nvGrpSpPr>
            <p:cNvPr id="110" name=""/>
            <p:cNvGrpSpPr/>
            <p:nvPr/>
          </p:nvGrpSpPr>
          <p:grpSpPr>
            <a:xfrm>
              <a:off x="426960" y="2330280"/>
              <a:ext cx="1063440" cy="580680"/>
              <a:chOff x="426960" y="2330280"/>
              <a:chExt cx="1063440" cy="580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3720" y="2333520"/>
                <a:ext cx="0" cy="5763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2280" y="2330280"/>
                <a:ext cx="536400" cy="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28680" y="2332080"/>
                <a:ext cx="0" cy="2667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6960" y="2575440"/>
                <a:ext cx="54252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30" y="9571"/>
                    </a:moveTo>
                    <a:arcTo wR="10800" hR="10800" stAng="-392076" swAng="57920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30" y="9571"/>
                    </a:moveTo>
                    <a:arcTo wR="10800" hR="10800" stAng="-392076" swAng="5792076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63720" y="2598840"/>
                <a:ext cx="52668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3"/>
                    </a:moveTo>
                    <a:arcTo wR="10800" hR="10800" stAng="-10762635" swAng="53419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3"/>
                    </a:moveTo>
                    <a:arcTo wR="10800" hR="10800" stAng="-10762635" swAng="5341925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43040" y="240192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800" y="2465280"/>
              <a:ext cx="276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9800" y="253224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800" y="2606760"/>
              <a:ext cx="222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800" y="2685960"/>
              <a:ext cx="1810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800" y="2762280"/>
              <a:ext cx="16524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46000" y="2149560"/>
            <a:ext cx="682200" cy="340560"/>
            <a:chOff x="846000" y="2149560"/>
            <a:chExt cx="682200" cy="340560"/>
          </a:xfrm>
        </p:grpSpPr>
        <p:sp>
          <p:nvSpPr>
            <p:cNvPr id="123" name=""/>
            <p:cNvSpPr/>
            <p:nvPr/>
          </p:nvSpPr>
          <p:spPr>
            <a:xfrm>
              <a:off x="847800" y="2152800"/>
              <a:ext cx="0" cy="164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6000" y="2149560"/>
              <a:ext cx="5367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82760" y="2151000"/>
              <a:ext cx="0" cy="26676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33360" y="2417760"/>
              <a:ext cx="29484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" y="10331"/>
                  </a:moveTo>
                  <a:arcTo wR="10800" hR="10800" stAng="-10650627" swAng="5213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" y="10331"/>
                  </a:moveTo>
                  <a:arcTo wR="10800" hR="10800" stAng="-10650627" swAng="5213664"/>
                </a:path>
              </a:pathLst>
            </a:custGeom>
            <a:noFill/>
            <a:ln cap="rnd"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96760" y="2220840"/>
              <a:ext cx="3225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03240" y="2300400"/>
              <a:ext cx="276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998640" y="1968480"/>
            <a:ext cx="682200" cy="341280"/>
            <a:chOff x="998640" y="1968480"/>
            <a:chExt cx="682200" cy="341280"/>
          </a:xfrm>
        </p:grpSpPr>
        <p:sp>
          <p:nvSpPr>
            <p:cNvPr id="130" name=""/>
            <p:cNvSpPr/>
            <p:nvPr/>
          </p:nvSpPr>
          <p:spPr>
            <a:xfrm>
              <a:off x="1000080" y="1971720"/>
              <a:ext cx="0" cy="164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8640" y="1968480"/>
              <a:ext cx="5364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35040" y="1969920"/>
              <a:ext cx="0" cy="26676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6000" y="2236680"/>
              <a:ext cx="294840" cy="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" y="10331"/>
                  </a:moveTo>
                  <a:arcTo wR="10800" hR="10800" stAng="-10650627" swAng="5213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" y="10331"/>
                  </a:moveTo>
                  <a:arcTo wR="10800" hR="10800" stAng="-10650627" swAng="5213664"/>
                </a:path>
              </a:pathLst>
            </a:custGeom>
            <a:noFill/>
            <a:ln cap="rnd"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49400" y="203976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5520" y="2119320"/>
              <a:ext cx="2764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26240" y="3060720"/>
            <a:ext cx="2384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Formal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Description of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Messages and Primitiv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WORD File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32040" y="227664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27160"/>
            <a:ext cx="1360800" cy="4842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3040" y="2749680"/>
            <a:ext cx="150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 Generator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2680" y="1028880"/>
            <a:ext cx="166500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 Kerne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CD Interface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General Coding Rul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49720" y="2158920"/>
            <a:ext cx="167796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oding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Tables for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essages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49720" y="3322800"/>
            <a:ext cx="167796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essage and 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rimitive Element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Descript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49720" y="5003640"/>
            <a:ext cx="1535400" cy="14655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Include Files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_xxx.h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_xxx.va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_xxx.h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_xxx.va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(xxx=SAP/Entity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1840" y="5713560"/>
            <a:ext cx="58572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13480" y="5535720"/>
            <a:ext cx="111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PS Entiti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86240" y="2305080"/>
            <a:ext cx="60660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289240"/>
            <a:ext cx="0" cy="3425760"/>
          </a:xfrm>
          <a:prstGeom prst="line">
            <a:avLst/>
          </a:prstGeom>
          <a:ln w="255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87760" y="5727600"/>
            <a:ext cx="52884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08640" y="3486240"/>
            <a:ext cx="52848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2080" y="1025640"/>
            <a:ext cx="261288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5600" y="4260960"/>
            <a:ext cx="279720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0920" y="3100320"/>
            <a:ext cx="139068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5240" y="2475000"/>
            <a:ext cx="0" cy="6444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35880" y="1015920"/>
            <a:ext cx="0" cy="868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10720" y="1911240"/>
            <a:ext cx="895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br>
              <a:rPr sz="1400"/>
            </a:b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Target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161640" y="1065240"/>
            <a:ext cx="0" cy="11844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61640" y="2963880"/>
            <a:ext cx="0" cy="12747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815680" y="2389320"/>
            <a:ext cx="681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br>
              <a:rPr sz="1400"/>
            </a:b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Test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24160" y="914400"/>
          <a:ext cx="49910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914400"/>
                    <a:ext cx="49910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1400" y="1584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GEN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8080" y="1901880"/>
            <a:ext cx="652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reation of C include files and SDL files fro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Primitive Description Files (PDF) an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Message Description Files (MDF)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9040" y="3492360"/>
            <a:ext cx="5727960" cy="246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DGINC)\mconst.cdg: $(MDFFILES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TESTDRIVE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d $(MSGDI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-md $(CDGINC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CDGEN) -l -t -h -m64 -a2 -o$(CDGINC) $(**B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DGINC)\pconst.cdg: $(PDFFILES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TESTDRIVE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d $(PRIMDI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-md $(CDGINC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CDGEN) -l -t -h -m64 -p -a0 -o$(CDGINC) $(**B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olker Klann</dc:creator>
  <dc:description/>
  <dc:language>en-US</dc:language>
  <cp:lastModifiedBy>Simin Javadieh</cp:lastModifiedBy>
  <cp:lastPrinted>2001-02-18T20:19:43Z</cp:lastPrinted>
  <dcterms:modified xsi:type="dcterms:W3CDTF">2002-04-11T16:52:27Z</dcterms:modified>
  <cp:revision>329</cp:revision>
  <dc:subject/>
  <dc:title>Kein Folientitel</dc:title>
</cp:coreProperties>
</file>