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B100-ABD7-497C-A8E4-AF1474F9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CFFA-9246-4B3F-9871-1EB90BC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D944-68CE-44BD-9D2B-66AE30D0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5C4E-9355-49BF-BE11-B6DA07FB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2724-B421-4783-844F-54247085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10F2-E276-43DD-A44B-32B65022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F15B-4690-4C4E-A391-5F4C15F4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A64D-66A2-49AC-A0A1-23F8C00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7A8-1E60-43C0-875D-CF941AE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733A-42E4-40BA-B2F7-F89125C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BF62-71E0-4F8E-8DC1-0886934F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5C5F-87EA-4E42-885D-10F48DE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51B09E99-27D6-428D-9A80-092B6AE191E0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8CC2-495B-4315-A3FD-0CEC4C5083B6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48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51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0240" y="4724280"/>
            <a:ext cx="8581680" cy="1907640"/>
            <a:chOff x="660240" y="4724280"/>
            <a:chExt cx="8581680" cy="1907640"/>
          </a:xfrm>
        </p:grpSpPr>
        <p:sp>
          <p:nvSpPr>
            <p:cNvPr id="56" name=""/>
            <p:cNvSpPr/>
            <p:nvPr/>
          </p:nvSpPr>
          <p:spPr>
            <a:xfrm>
              <a:off x="4043520" y="5257800"/>
              <a:ext cx="5198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240" y="4724280"/>
              <a:ext cx="288828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3520" y="4724280"/>
              <a:ext cx="51984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360" y="609588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58640" y="6172200"/>
              <a:ext cx="18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6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99120" y="1905120"/>
            <a:ext cx="2022120" cy="2819160"/>
            <a:chOff x="5199120" y="1905120"/>
            <a:chExt cx="2022120" cy="2819160"/>
          </a:xfrm>
        </p:grpSpPr>
        <p:sp>
          <p:nvSpPr>
            <p:cNvPr id="75" name=""/>
            <p:cNvSpPr/>
            <p:nvPr/>
          </p:nvSpPr>
          <p:spPr>
            <a:xfrm>
              <a:off x="5199120" y="1905120"/>
              <a:ext cx="90756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3657600"/>
              <a:ext cx="99036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1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9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5160" y="1905120"/>
            <a:ext cx="74268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104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2-19T13:16:56Z</dcterms:modified>
  <cp:revision>52</cp:revision>
  <dc:subject/>
  <dc:title>xPanel &amp; PCO2</dc:title>
</cp:coreProperties>
</file>