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D6B3-8633-49FB-A9A4-7F77C3E54393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48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54F6C958-A539-456C-A260-380617708EB1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83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88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95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102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2-25T10:14:48Z</dcterms:modified>
  <cp:revision>105</cp:revision>
  <dc:subject/>
  <dc:title>PowerPoint-Präsentation</dc:title>
</cp:coreProperties>
</file>