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4F9-F2AF-4070-B1FE-4C9EFF18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988-4122-493D-938F-197B4F2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55C-281D-40DD-B4E6-C685C058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FDE-651B-4984-86E2-8C21D979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FAF-8DAE-4383-90CC-BAF7F7C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785-FDAE-4940-901F-A4C03275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1E5-2522-41D3-A09B-522E6C8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D8F-F827-4246-9351-53C3F7C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B17-590A-49EE-9162-9C538E91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26B-E735-442B-91E5-D29BD83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9DF-DE35-413A-AF5C-3D8E402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CBC-E9A8-48DF-9C1C-CA4297B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173C-DE66-4F6C-91D4-ACA9EFE9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4479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16765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676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1905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905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819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971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3276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3434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34340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43434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1911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520" y="99072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990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"makefile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makefil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makefile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on’t panic ;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56000"/>
            <a:ext cx="53316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505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429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0" y="3276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08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-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448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816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1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36572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8080" y="32004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9840" y="5448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5308560"/>
            <a:ext cx="457200" cy="254160"/>
          </a:xfrm>
          <a:custGeom>
            <a:avLst/>
            <a:gdLst/>
            <a:ahLst/>
            <a:rect l="l" t="t" r="r" b="b"/>
            <a:pathLst>
              <a:path w="288" h="160">
                <a:moveTo>
                  <a:pt x="288" y="160"/>
                </a:moveTo>
                <a:cubicBezTo>
                  <a:pt x="264" y="96"/>
                  <a:pt x="240" y="32"/>
                  <a:pt x="192" y="16"/>
                </a:cubicBezTo>
                <a:cubicBezTo>
                  <a:pt x="144" y="0"/>
                  <a:pt x="72" y="32"/>
                  <a:pt x="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601992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1067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5:03Z</dcterms:modified>
  <cp:revision>51</cp:revision>
  <dc:subject/>
  <dc:title>xPanel &amp; PCO2</dc:title>
</cp:coreProperties>
</file>