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9AD-18CA-4E99-A478-3C6F7EBA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7C6-637D-4BD4-B698-E8B3308C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AA0-9229-4BF2-96C3-95FBD281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512-A850-4556-9434-4CA4847A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CC8-0A1C-4F16-890B-E6284A5C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DCF9-D1E8-4F3F-AF23-4A535D6B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6ED-1CAF-42A0-9672-4F822F54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4E5-ECC9-46D4-BBCB-0C7DC03A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518-A1CA-4170-8B1B-8352530F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37D-0CEF-491A-9A25-8669AB25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259-2870-47EE-A18A-C1BD7EB2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2AA-0833-43D3-AD45-A4DACB22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9B56-A822-408B-81B4-76C790B8F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nel &amp; P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09480" y="3657600"/>
            <a:ext cx="5029200" cy="1066680"/>
            <a:chOff x="609480" y="3657600"/>
            <a:chExt cx="5029200" cy="1066680"/>
          </a:xfrm>
        </p:grpSpPr>
        <p:sp>
          <p:nvSpPr>
            <p:cNvPr id="43" name=""/>
            <p:cNvSpPr/>
            <p:nvPr/>
          </p:nvSpPr>
          <p:spPr>
            <a:xfrm>
              <a:off x="3733560" y="365760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657600"/>
              <a:ext cx="26668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09480" y="2057400"/>
            <a:ext cx="4114800" cy="1600200"/>
            <a:chOff x="609480" y="2057400"/>
            <a:chExt cx="4114800" cy="1600200"/>
          </a:xfrm>
        </p:grpSpPr>
        <p:sp>
          <p:nvSpPr>
            <p:cNvPr id="46" name=""/>
            <p:cNvSpPr/>
            <p:nvPr/>
          </p:nvSpPr>
          <p:spPr>
            <a:xfrm>
              <a:off x="609480" y="2057400"/>
              <a:ext cx="160020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i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t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P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5640" y="304812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33560" y="304812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76360" y="3352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09480" y="4724280"/>
            <a:ext cx="7925040" cy="1907640"/>
            <a:chOff x="609480" y="4724280"/>
            <a:chExt cx="7925040" cy="1907640"/>
          </a:xfrm>
        </p:grpSpPr>
        <p:sp>
          <p:nvSpPr>
            <p:cNvPr id="51" name=""/>
            <p:cNvSpPr/>
            <p:nvPr/>
          </p:nvSpPr>
          <p:spPr>
            <a:xfrm>
              <a:off x="3733920" y="5257800"/>
              <a:ext cx="48006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Linux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4724280"/>
              <a:ext cx="266724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33920" y="4724280"/>
              <a:ext cx="48006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C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71600" y="60958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10080" y="61722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nel &amp; P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5257800"/>
            <a:ext cx="480060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724280"/>
            <a:ext cx="266724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724280"/>
            <a:ext cx="480060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657600"/>
            <a:ext cx="5029200" cy="1066680"/>
            <a:chOff x="609480" y="3657600"/>
            <a:chExt cx="5029200" cy="1066680"/>
          </a:xfrm>
        </p:grpSpPr>
        <p:sp>
          <p:nvSpPr>
            <p:cNvPr id="61" name=""/>
            <p:cNvSpPr/>
            <p:nvPr/>
          </p:nvSpPr>
          <p:spPr>
            <a:xfrm>
              <a:off x="3733560" y="365760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9480" y="365760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09480" y="205740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3048120"/>
            <a:ext cx="990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048120"/>
            <a:ext cx="99036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352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60958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800600" y="1905120"/>
            <a:ext cx="1866960" cy="2819160"/>
            <a:chOff x="4800600" y="1905120"/>
            <a:chExt cx="1866960" cy="2819160"/>
          </a:xfrm>
        </p:grpSpPr>
        <p:sp>
          <p:nvSpPr>
            <p:cNvPr id="70" name=""/>
            <p:cNvSpPr/>
            <p:nvPr/>
          </p:nvSpPr>
          <p:spPr>
            <a:xfrm>
              <a:off x="4800600" y="1905120"/>
              <a:ext cx="838080" cy="1752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an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53160" y="3657600"/>
              <a:ext cx="914400" cy="1066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743880" y="3657600"/>
            <a:ext cx="952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657600"/>
            <a:ext cx="76212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3505320"/>
            <a:ext cx="76176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705720" y="1905120"/>
            <a:ext cx="2006640" cy="2514600"/>
            <a:chOff x="6705720" y="1905120"/>
            <a:chExt cx="2006640" cy="2514600"/>
          </a:xfrm>
        </p:grpSpPr>
        <p:sp>
          <p:nvSpPr>
            <p:cNvPr id="76" name=""/>
            <p:cNvSpPr/>
            <p:nvPr/>
          </p:nvSpPr>
          <p:spPr>
            <a:xfrm>
              <a:off x="7950240" y="335268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190512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0592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nel &amp; P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5257800"/>
            <a:ext cx="480060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724280"/>
            <a:ext cx="266724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4724280"/>
            <a:ext cx="480060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09480" y="3657600"/>
            <a:ext cx="5029200" cy="1066680"/>
            <a:chOff x="609480" y="3657600"/>
            <a:chExt cx="5029200" cy="1066680"/>
          </a:xfrm>
        </p:grpSpPr>
        <p:sp>
          <p:nvSpPr>
            <p:cNvPr id="84" name=""/>
            <p:cNvSpPr/>
            <p:nvPr/>
          </p:nvSpPr>
          <p:spPr>
            <a:xfrm>
              <a:off x="3733560" y="365760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480" y="365760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9480" y="205740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3048120"/>
            <a:ext cx="990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048120"/>
            <a:ext cx="60948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3352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60958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1905120"/>
            <a:ext cx="533160" cy="1752480"/>
          </a:xfrm>
          <a:prstGeom prst="rect">
            <a:avLst/>
          </a:prstGeom>
          <a:solidFill>
            <a:srgbClr val="0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3160" y="3657600"/>
            <a:ext cx="9144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3657600"/>
            <a:ext cx="952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3657600"/>
            <a:ext cx="76212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3505320"/>
            <a:ext cx="76176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81560" y="1905120"/>
            <a:ext cx="6858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705720" y="1905120"/>
            <a:ext cx="2006640" cy="2514600"/>
            <a:chOff x="6705720" y="1905120"/>
            <a:chExt cx="2006640" cy="2514600"/>
          </a:xfrm>
        </p:grpSpPr>
        <p:sp>
          <p:nvSpPr>
            <p:cNvPr id="99" name=""/>
            <p:cNvSpPr/>
            <p:nvPr/>
          </p:nvSpPr>
          <p:spPr>
            <a:xfrm>
              <a:off x="7950240" y="335268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05720" y="190512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0592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0-10-18T14:23:43Z</dcterms:modified>
  <cp:revision>51</cp:revision>
  <dc:subject/>
  <dc:title>xPanel &amp; PCO2</dc:title>
</cp:coreProperties>
</file>