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10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88306-C77C-416F-856F-DFB7C215D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7680" y="367164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9550E-0FA1-4A31-9E37-60ADCD4CC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2192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1CEF1-CD92-431D-B1C0-70789CBA7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2360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988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1768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2360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988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8680E-092C-4950-916A-C2F4FDE9A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49168-1B13-4888-8D62-F16C82A57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94EA7-432E-4FC2-BD08-AF19BC61C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BFE42-277C-4DBF-AF97-5B4FB1A55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CB147-39A8-453F-9D91-97202CD43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17320" y="272880"/>
            <a:ext cx="838188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16175-4F16-4F31-AF73-179B93524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BAFEF-D3B5-4223-9605-3C7E38A7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2192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8852D-6B08-40AC-A38D-170776FE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E6A94-245E-46CD-9B15-41504AEC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38280" y="6616800"/>
            <a:ext cx="1805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Texas Instruments, Berlin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641800" y="6616800"/>
            <a:ext cx="1304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Slide No.  </a:t>
            </a:r>
            <a:fld id="{BA48C6F3-49DD-4630-A49C-E8D073FB55E2}" type="slidenum"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441320" y="6599160"/>
            <a:ext cx="90288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65200" y="743040"/>
            <a:ext cx="8273880" cy="0"/>
          </a:xfrm>
          <a:prstGeom prst="line">
            <a:avLst/>
          </a:prstGeom>
          <a:ln w="12600">
            <a:solidFill>
              <a:srgbClr val="0063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80960" y="6553080"/>
            <a:ext cx="2840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3069"/>
                </a:solidFill>
                <a:latin typeface="Symbol"/>
                <a:ea typeface="Symbol"/>
              </a:rPr>
              <a:t>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Click to edit the title text format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Click to edit the outline text format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601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Second Outline Level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601"/>
              </a:spcBef>
              <a:buClr>
                <a:srgbClr val="0063ce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Third Outline Level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3" marL="1600200" indent="-228600">
              <a:spcBef>
                <a:spcPts val="601"/>
              </a:spcBef>
              <a:buClr>
                <a:srgbClr val="003069"/>
              </a:buClr>
              <a:buFont typeface="ITC Officina Sans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Fourth Outline Level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Fifth Outline Level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Sixth Outline Level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Seventh Outline Level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761760" y="6229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069"/>
                </a:solidFill>
                <a:latin typeface="ITC Officina Sans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7086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069"/>
                </a:solidFill>
                <a:latin typeface="ITC Officina Sans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788DE-38DF-4F22-88E8-AA0B471ACE32}" type="slidenum"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069"/>
                </a:solidFill>
                <a:latin typeface="ITC Officina Sans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" name=""/>
          <p:cNvGraphicFramePr/>
          <p:nvPr/>
        </p:nvGraphicFramePr>
        <p:xfrm>
          <a:off x="8440560" y="152280"/>
          <a:ext cx="1311480" cy="490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40560" y="152280"/>
                    <a:ext cx="1311480" cy="4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9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de-DE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17680" y="1447920"/>
            <a:ext cx="85946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069"/>
                </a:solidFill>
                <a:latin typeface="ITC Officina Sans Book"/>
              </a:rPr>
              <a:t>Running Test Cases with</a:t>
            </a:r>
            <a:endParaRPr b="0" lang="en-US" sz="4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069"/>
                </a:solidFill>
                <a:latin typeface="ITC Officina Sans Book"/>
              </a:rPr>
              <a:t>TAPCaller</a:t>
            </a:r>
            <a:endParaRPr b="0" lang="en-US" sz="66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(an introduction)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TAPCaller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preparations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17680" y="1020240"/>
            <a:ext cx="8594640" cy="69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Build of test cases:</a:t>
            </a: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44" name=""/>
          <p:cNvSpPr/>
          <p:nvPr/>
        </p:nvSpPr>
        <p:spPr>
          <a:xfrm>
            <a:off x="165240" y="1905120"/>
            <a:ext cx="93074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Generat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doc2tx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x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ccd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Compil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msdev / c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(mkt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014640" y="1992240"/>
            <a:ext cx="1054080" cy="1058040"/>
            <a:chOff x="3014640" y="1992240"/>
            <a:chExt cx="1054080" cy="1058040"/>
          </a:xfrm>
        </p:grpSpPr>
        <p:sp>
          <p:nvSpPr>
            <p:cNvPr id="146" name=""/>
            <p:cNvSpPr/>
            <p:nvPr/>
          </p:nvSpPr>
          <p:spPr>
            <a:xfrm>
              <a:off x="3162600" y="1992240"/>
              <a:ext cx="795240" cy="533880"/>
            </a:xfrm>
            <a:prstGeom prst="flowChartDocumen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014640" y="2530080"/>
              <a:ext cx="1054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069"/>
                  </a:solidFill>
                  <a:latin typeface="ITC Officina Sans Book"/>
                </a:rPr>
                <a:t>SAP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069"/>
                  </a:solidFill>
                  <a:latin typeface="ITC Officina Sans Book"/>
                </a:rPr>
                <a:t>Docu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141360" y="2108160"/>
              <a:ext cx="848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069"/>
                  </a:solidFill>
                  <a:latin typeface="ITC Officina Sans Book"/>
                </a:rPr>
                <a:t>GRR.DO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4349160" y="3886200"/>
            <a:ext cx="1106640" cy="1305720"/>
            <a:chOff x="4349160" y="3886200"/>
            <a:chExt cx="1106640" cy="1305720"/>
          </a:xfrm>
        </p:grpSpPr>
        <p:sp>
          <p:nvSpPr>
            <p:cNvPr id="150" name=""/>
            <p:cNvSpPr/>
            <p:nvPr/>
          </p:nvSpPr>
          <p:spPr>
            <a:xfrm>
              <a:off x="4409640" y="3886200"/>
              <a:ext cx="1046160" cy="789480"/>
            </a:xfrm>
            <a:prstGeom prst="flowChartMultidocumen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437720" y="4671720"/>
              <a:ext cx="986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069"/>
                  </a:solidFill>
                  <a:latin typeface="ITC Officina Sans Book"/>
                </a:rPr>
                <a:t>TDC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069"/>
                  </a:solidFill>
                  <a:latin typeface="ITC Officina Sans Book"/>
                </a:rPr>
                <a:t>Testcas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21574800">
              <a:off x="4349880" y="4204800"/>
              <a:ext cx="78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069"/>
                  </a:solidFill>
                  <a:latin typeface="ITC Officina Sans Book"/>
                </a:rPr>
                <a:t>GRR.ds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5611680" y="3100320"/>
            <a:ext cx="1649160" cy="1931040"/>
            <a:chOff x="5611680" y="3100320"/>
            <a:chExt cx="1649160" cy="1931040"/>
          </a:xfrm>
        </p:grpSpPr>
        <p:grpSp>
          <p:nvGrpSpPr>
            <p:cNvPr id="154" name=""/>
            <p:cNvGrpSpPr/>
            <p:nvPr/>
          </p:nvGrpSpPr>
          <p:grpSpPr>
            <a:xfrm>
              <a:off x="6232680" y="3898800"/>
              <a:ext cx="1028160" cy="1132560"/>
              <a:chOff x="6232680" y="3898800"/>
              <a:chExt cx="1028160" cy="1132560"/>
            </a:xfrm>
          </p:grpSpPr>
          <p:grpSp>
            <p:nvGrpSpPr>
              <p:cNvPr id="155" name=""/>
              <p:cNvGrpSpPr/>
              <p:nvPr/>
            </p:nvGrpSpPr>
            <p:grpSpPr>
              <a:xfrm>
                <a:off x="6358320" y="3898800"/>
                <a:ext cx="786240" cy="602280"/>
                <a:chOff x="6358320" y="3898800"/>
                <a:chExt cx="786240" cy="60228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6689520" y="3917520"/>
                  <a:ext cx="163080" cy="76680"/>
                </a:xfrm>
                <a:custGeom>
                  <a:avLst/>
                  <a:gdLst/>
                  <a:ahLst/>
                  <a:rect l="l" t="t" r="r" b="b"/>
                  <a:pathLst>
                    <a:path w="48" h="31">
                      <a:moveTo>
                        <a:pt x="9" y="0"/>
                      </a:moveTo>
                      <a:lnTo>
                        <a:pt x="38" y="0"/>
                      </a:lnTo>
                      <a:lnTo>
                        <a:pt x="48" y="31"/>
                      </a:lnTo>
                      <a:lnTo>
                        <a:pt x="0" y="31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7049520" y="4152240"/>
                  <a:ext cx="95040" cy="125280"/>
                </a:xfrm>
                <a:custGeom>
                  <a:avLst/>
                  <a:gdLst/>
                  <a:ahLst/>
                  <a:rect l="l" t="t" r="r" b="b"/>
                  <a:pathLst>
                    <a:path w="28" h="51">
                      <a:moveTo>
                        <a:pt x="28" y="10"/>
                      </a:moveTo>
                      <a:lnTo>
                        <a:pt x="28" y="41"/>
                      </a:lnTo>
                      <a:lnTo>
                        <a:pt x="0" y="51"/>
                      </a:lnTo>
                      <a:lnTo>
                        <a:pt x="0" y="0"/>
                      </a:lnTo>
                      <a:lnTo>
                        <a:pt x="28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6391440" y="4152240"/>
                  <a:ext cx="92880" cy="120960"/>
                </a:xfrm>
                <a:custGeom>
                  <a:avLst/>
                  <a:gdLst/>
                  <a:ahLst/>
                  <a:rect l="l" t="t" r="r" b="b"/>
                  <a:pathLst>
                    <a:path w="27" h="50">
                      <a:moveTo>
                        <a:pt x="0" y="10"/>
                      </a:moveTo>
                      <a:lnTo>
                        <a:pt x="0" y="40"/>
                      </a:lnTo>
                      <a:lnTo>
                        <a:pt x="27" y="50"/>
                      </a:lnTo>
                      <a:lnTo>
                        <a:pt x="27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6453360" y="3983760"/>
                  <a:ext cx="161280" cy="121680"/>
                </a:xfrm>
                <a:custGeom>
                  <a:avLst/>
                  <a:gdLst/>
                  <a:ahLst/>
                  <a:rect l="l" t="t" r="r" b="b"/>
                  <a:pathLst>
                    <a:path w="48" h="50">
                      <a:moveTo>
                        <a:pt x="16" y="50"/>
                      </a:moveTo>
                      <a:lnTo>
                        <a:pt x="48" y="13"/>
                      </a:lnTo>
                      <a:lnTo>
                        <a:pt x="20" y="0"/>
                      </a:lnTo>
                      <a:lnTo>
                        <a:pt x="0" y="22"/>
                      </a:lnTo>
                      <a:lnTo>
                        <a:pt x="1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6917040" y="3985920"/>
                  <a:ext cx="163080" cy="123120"/>
                </a:xfrm>
                <a:custGeom>
                  <a:avLst/>
                  <a:gdLst/>
                  <a:ahLst/>
                  <a:rect l="l" t="t" r="r" b="b"/>
                  <a:pathLst>
                    <a:path w="48" h="50">
                      <a:moveTo>
                        <a:pt x="32" y="50"/>
                      </a:moveTo>
                      <a:lnTo>
                        <a:pt x="0" y="13"/>
                      </a:lnTo>
                      <a:lnTo>
                        <a:pt x="28" y="0"/>
                      </a:lnTo>
                      <a:lnTo>
                        <a:pt x="48" y="22"/>
                      </a:lnTo>
                      <a:lnTo>
                        <a:pt x="32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453360" y="4316040"/>
                  <a:ext cx="161280" cy="120960"/>
                </a:xfrm>
                <a:custGeom>
                  <a:avLst/>
                  <a:gdLst/>
                  <a:ahLst/>
                  <a:rect l="l" t="t" r="r" b="b"/>
                  <a:pathLst>
                    <a:path w="48" h="50">
                      <a:moveTo>
                        <a:pt x="17" y="0"/>
                      </a:moveTo>
                      <a:lnTo>
                        <a:pt x="48" y="36"/>
                      </a:lnTo>
                      <a:lnTo>
                        <a:pt x="20" y="50"/>
                      </a:lnTo>
                      <a:lnTo>
                        <a:pt x="0" y="28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921360" y="4314240"/>
                  <a:ext cx="158760" cy="123120"/>
                </a:xfrm>
                <a:custGeom>
                  <a:avLst/>
                  <a:gdLst/>
                  <a:ahLst/>
                  <a:rect l="l" t="t" r="r" b="b"/>
                  <a:pathLst>
                    <a:path w="47" h="51">
                      <a:moveTo>
                        <a:pt x="31" y="0"/>
                      </a:moveTo>
                      <a:lnTo>
                        <a:pt x="0" y="37"/>
                      </a:lnTo>
                      <a:lnTo>
                        <a:pt x="28" y="51"/>
                      </a:lnTo>
                      <a:lnTo>
                        <a:pt x="47" y="29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687720" y="4430880"/>
                  <a:ext cx="158760" cy="7020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9" y="29"/>
                      </a:moveTo>
                      <a:lnTo>
                        <a:pt x="37" y="29"/>
                      </a:lnTo>
                      <a:lnTo>
                        <a:pt x="47" y="0"/>
                      </a:lnTo>
                      <a:lnTo>
                        <a:pt x="0" y="0"/>
                      </a:lnTo>
                      <a:lnTo>
                        <a:pt x="9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6476400" y="3985920"/>
                  <a:ext cx="572760" cy="44460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6656040" y="3898800"/>
                  <a:ext cx="159480" cy="6984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9" y="0"/>
                      </a:moveTo>
                      <a:lnTo>
                        <a:pt x="38" y="0"/>
                      </a:lnTo>
                      <a:lnTo>
                        <a:pt x="47" y="29"/>
                      </a:lnTo>
                      <a:lnTo>
                        <a:pt x="0" y="2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7016400" y="4130640"/>
                  <a:ext cx="96840" cy="123480"/>
                </a:xfrm>
                <a:custGeom>
                  <a:avLst/>
                  <a:gdLst/>
                  <a:ahLst/>
                  <a:rect l="l" t="t" r="r" b="b"/>
                  <a:pathLst>
                    <a:path w="29" h="51">
                      <a:moveTo>
                        <a:pt x="29" y="10"/>
                      </a:moveTo>
                      <a:lnTo>
                        <a:pt x="29" y="41"/>
                      </a:lnTo>
                      <a:lnTo>
                        <a:pt x="0" y="51"/>
                      </a:lnTo>
                      <a:lnTo>
                        <a:pt x="0" y="0"/>
                      </a:lnTo>
                      <a:lnTo>
                        <a:pt x="29" y="1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358320" y="4128480"/>
                  <a:ext cx="95040" cy="125280"/>
                </a:xfrm>
                <a:custGeom>
                  <a:avLst/>
                  <a:gdLst/>
                  <a:ahLst/>
                  <a:rect l="l" t="t" r="r" b="b"/>
                  <a:pathLst>
                    <a:path w="28" h="52">
                      <a:moveTo>
                        <a:pt x="0" y="10"/>
                      </a:moveTo>
                      <a:lnTo>
                        <a:pt x="0" y="42"/>
                      </a:lnTo>
                      <a:lnTo>
                        <a:pt x="28" y="52"/>
                      </a:lnTo>
                      <a:lnTo>
                        <a:pt x="28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6422400" y="3962520"/>
                  <a:ext cx="159480" cy="120960"/>
                </a:xfrm>
                <a:custGeom>
                  <a:avLst/>
                  <a:gdLst/>
                  <a:ahLst/>
                  <a:rect l="l" t="t" r="r" b="b"/>
                  <a:pathLst>
                    <a:path w="47" h="50">
                      <a:moveTo>
                        <a:pt x="16" y="50"/>
                      </a:moveTo>
                      <a:lnTo>
                        <a:pt x="47" y="13"/>
                      </a:lnTo>
                      <a:lnTo>
                        <a:pt x="19" y="0"/>
                      </a:lnTo>
                      <a:lnTo>
                        <a:pt x="0" y="22"/>
                      </a:lnTo>
                      <a:lnTo>
                        <a:pt x="16" y="5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6886080" y="3962520"/>
                  <a:ext cx="158760" cy="123480"/>
                </a:xfrm>
                <a:custGeom>
                  <a:avLst/>
                  <a:gdLst/>
                  <a:ahLst/>
                  <a:rect l="l" t="t" r="r" b="b"/>
                  <a:pathLst>
                    <a:path w="47" h="51">
                      <a:moveTo>
                        <a:pt x="31" y="51"/>
                      </a:moveTo>
                      <a:lnTo>
                        <a:pt x="0" y="14"/>
                      </a:lnTo>
                      <a:lnTo>
                        <a:pt x="28" y="0"/>
                      </a:lnTo>
                      <a:lnTo>
                        <a:pt x="47" y="23"/>
                      </a:lnTo>
                      <a:lnTo>
                        <a:pt x="31" y="51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6422400" y="4294800"/>
                  <a:ext cx="163440" cy="120960"/>
                </a:xfrm>
                <a:custGeom>
                  <a:avLst/>
                  <a:gdLst/>
                  <a:ahLst/>
                  <a:rect l="l" t="t" r="r" b="b"/>
                  <a:pathLst>
                    <a:path w="48" h="50">
                      <a:moveTo>
                        <a:pt x="17" y="0"/>
                      </a:moveTo>
                      <a:lnTo>
                        <a:pt x="48" y="37"/>
                      </a:lnTo>
                      <a:lnTo>
                        <a:pt x="19" y="50"/>
                      </a:lnTo>
                      <a:lnTo>
                        <a:pt x="0" y="28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6890400" y="4290480"/>
                  <a:ext cx="158760" cy="125280"/>
                </a:xfrm>
                <a:custGeom>
                  <a:avLst/>
                  <a:gdLst/>
                  <a:ahLst/>
                  <a:rect l="l" t="t" r="r" b="b"/>
                  <a:pathLst>
                    <a:path w="47" h="51">
                      <a:moveTo>
                        <a:pt x="31" y="0"/>
                      </a:moveTo>
                      <a:lnTo>
                        <a:pt x="0" y="37"/>
                      </a:lnTo>
                      <a:lnTo>
                        <a:pt x="28" y="51"/>
                      </a:lnTo>
                      <a:lnTo>
                        <a:pt x="47" y="28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6652440" y="4405320"/>
                  <a:ext cx="158760" cy="74520"/>
                </a:xfrm>
                <a:custGeom>
                  <a:avLst/>
                  <a:gdLst/>
                  <a:ahLst/>
                  <a:rect l="l" t="t" r="r" b="b"/>
                  <a:pathLst>
                    <a:path w="47" h="30">
                      <a:moveTo>
                        <a:pt x="9" y="30"/>
                      </a:moveTo>
                      <a:lnTo>
                        <a:pt x="37" y="30"/>
                      </a:lnTo>
                      <a:lnTo>
                        <a:pt x="47" y="0"/>
                      </a:lnTo>
                      <a:lnTo>
                        <a:pt x="0" y="0"/>
                      </a:lnTo>
                      <a:lnTo>
                        <a:pt x="9" y="3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6442920" y="3966840"/>
                  <a:ext cx="575280" cy="445320"/>
                </a:xfrm>
                <a:prstGeom prst="ellipse">
                  <a:avLst/>
                </a:prstGeom>
                <a:solidFill>
                  <a:srgbClr val="cecece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660360" y="4130640"/>
                  <a:ext cx="212760" cy="16596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6639840" y="4113720"/>
                  <a:ext cx="212760" cy="165960"/>
                </a:xfrm>
                <a:prstGeom prst="ellipse">
                  <a:avLst/>
                </a:pr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6639840" y="4113720"/>
                  <a:ext cx="223200" cy="17244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6625080" y="4101120"/>
                  <a:ext cx="206640" cy="161640"/>
                </a:xfrm>
                <a:prstGeom prst="ellipse">
                  <a:avLst/>
                </a:prstGeom>
                <a:solidFill>
                  <a:srgbClr val="cecece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8" name=""/>
              <p:cNvSpPr/>
              <p:nvPr/>
            </p:nvSpPr>
            <p:spPr>
              <a:xfrm>
                <a:off x="6232680" y="4511160"/>
                <a:ext cx="10281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069"/>
                    </a:solidFill>
                    <a:latin typeface="ITC Officina Sans Book"/>
                  </a:rPr>
                  <a:t>Compiler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069"/>
                    </a:solidFill>
                    <a:latin typeface="ITC Officina Sans Book"/>
                  </a:rPr>
                  <a:t>Link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>
              <a:off x="5611680" y="4191120"/>
              <a:ext cx="577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739920" y="3100320"/>
              <a:ext cx="0" cy="63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7262640" y="3733920"/>
            <a:ext cx="1896840" cy="1143000"/>
            <a:chOff x="7262640" y="3733920"/>
            <a:chExt cx="1896840" cy="1143000"/>
          </a:xfrm>
        </p:grpSpPr>
        <p:sp>
          <p:nvSpPr>
            <p:cNvPr id="182" name=""/>
            <p:cNvSpPr/>
            <p:nvPr/>
          </p:nvSpPr>
          <p:spPr>
            <a:xfrm>
              <a:off x="7262640" y="4191120"/>
              <a:ext cx="41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757280" y="3733920"/>
              <a:ext cx="1402200" cy="1143000"/>
            </a:xfrm>
            <a:prstGeom prst="rect">
              <a:avLst/>
            </a:prstGeom>
            <a:solidFill>
              <a:srgbClr val="336600">
                <a:alpha val="50000"/>
              </a:srgbClr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estc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4113360" y="1905120"/>
            <a:ext cx="1679040" cy="918720"/>
            <a:chOff x="4113360" y="1905120"/>
            <a:chExt cx="1679040" cy="918720"/>
          </a:xfrm>
        </p:grpSpPr>
        <p:sp>
          <p:nvSpPr>
            <p:cNvPr id="185" name=""/>
            <p:cNvSpPr/>
            <p:nvPr/>
          </p:nvSpPr>
          <p:spPr>
            <a:xfrm>
              <a:off x="4113360" y="2209680"/>
              <a:ext cx="343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4311720" y="1905120"/>
              <a:ext cx="1480680" cy="918720"/>
              <a:chOff x="4311720" y="1905120"/>
              <a:chExt cx="1480680" cy="918720"/>
            </a:xfrm>
          </p:grpSpPr>
          <p:grpSp>
            <p:nvGrpSpPr>
              <p:cNvPr id="187" name=""/>
              <p:cNvGrpSpPr/>
              <p:nvPr/>
            </p:nvGrpSpPr>
            <p:grpSpPr>
              <a:xfrm>
                <a:off x="4663080" y="1905120"/>
                <a:ext cx="786240" cy="601560"/>
                <a:chOff x="4663080" y="1905120"/>
                <a:chExt cx="786240" cy="60156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4994280" y="1923840"/>
                  <a:ext cx="163080" cy="76680"/>
                </a:xfrm>
                <a:custGeom>
                  <a:avLst/>
                  <a:gdLst/>
                  <a:ahLst/>
                  <a:rect l="l" t="t" r="r" b="b"/>
                  <a:pathLst>
                    <a:path w="48" h="31">
                      <a:moveTo>
                        <a:pt x="9" y="0"/>
                      </a:moveTo>
                      <a:lnTo>
                        <a:pt x="38" y="0"/>
                      </a:lnTo>
                      <a:lnTo>
                        <a:pt x="48" y="31"/>
                      </a:lnTo>
                      <a:lnTo>
                        <a:pt x="0" y="31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5354280" y="2158200"/>
                  <a:ext cx="95040" cy="125280"/>
                </a:xfrm>
                <a:custGeom>
                  <a:avLst/>
                  <a:gdLst/>
                  <a:ahLst/>
                  <a:rect l="l" t="t" r="r" b="b"/>
                  <a:pathLst>
                    <a:path w="28" h="51">
                      <a:moveTo>
                        <a:pt x="28" y="10"/>
                      </a:moveTo>
                      <a:lnTo>
                        <a:pt x="28" y="41"/>
                      </a:lnTo>
                      <a:lnTo>
                        <a:pt x="0" y="51"/>
                      </a:lnTo>
                      <a:lnTo>
                        <a:pt x="0" y="0"/>
                      </a:lnTo>
                      <a:lnTo>
                        <a:pt x="28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696200" y="2158200"/>
                  <a:ext cx="92880" cy="120960"/>
                </a:xfrm>
                <a:custGeom>
                  <a:avLst/>
                  <a:gdLst/>
                  <a:ahLst/>
                  <a:rect l="l" t="t" r="r" b="b"/>
                  <a:pathLst>
                    <a:path w="27" h="50">
                      <a:moveTo>
                        <a:pt x="0" y="10"/>
                      </a:moveTo>
                      <a:lnTo>
                        <a:pt x="0" y="40"/>
                      </a:lnTo>
                      <a:lnTo>
                        <a:pt x="27" y="50"/>
                      </a:lnTo>
                      <a:lnTo>
                        <a:pt x="27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758120" y="1989720"/>
                  <a:ext cx="161280" cy="121320"/>
                </a:xfrm>
                <a:custGeom>
                  <a:avLst/>
                  <a:gdLst/>
                  <a:ahLst/>
                  <a:rect l="l" t="t" r="r" b="b"/>
                  <a:pathLst>
                    <a:path w="48" h="50">
                      <a:moveTo>
                        <a:pt x="16" y="50"/>
                      </a:moveTo>
                      <a:lnTo>
                        <a:pt x="48" y="13"/>
                      </a:lnTo>
                      <a:lnTo>
                        <a:pt x="20" y="0"/>
                      </a:lnTo>
                      <a:lnTo>
                        <a:pt x="0" y="22"/>
                      </a:lnTo>
                      <a:lnTo>
                        <a:pt x="1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5221800" y="1992240"/>
                  <a:ext cx="163080" cy="122760"/>
                </a:xfrm>
                <a:custGeom>
                  <a:avLst/>
                  <a:gdLst/>
                  <a:ahLst/>
                  <a:rect l="l" t="t" r="r" b="b"/>
                  <a:pathLst>
                    <a:path w="48" h="50">
                      <a:moveTo>
                        <a:pt x="32" y="50"/>
                      </a:moveTo>
                      <a:lnTo>
                        <a:pt x="0" y="13"/>
                      </a:lnTo>
                      <a:lnTo>
                        <a:pt x="28" y="0"/>
                      </a:lnTo>
                      <a:lnTo>
                        <a:pt x="48" y="22"/>
                      </a:lnTo>
                      <a:lnTo>
                        <a:pt x="32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758120" y="2321640"/>
                  <a:ext cx="161280" cy="120960"/>
                </a:xfrm>
                <a:custGeom>
                  <a:avLst/>
                  <a:gdLst/>
                  <a:ahLst/>
                  <a:rect l="l" t="t" r="r" b="b"/>
                  <a:pathLst>
                    <a:path w="48" h="50">
                      <a:moveTo>
                        <a:pt x="17" y="0"/>
                      </a:moveTo>
                      <a:lnTo>
                        <a:pt x="48" y="36"/>
                      </a:lnTo>
                      <a:lnTo>
                        <a:pt x="20" y="50"/>
                      </a:lnTo>
                      <a:lnTo>
                        <a:pt x="0" y="28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5226120" y="2319840"/>
                  <a:ext cx="158760" cy="122760"/>
                </a:xfrm>
                <a:custGeom>
                  <a:avLst/>
                  <a:gdLst/>
                  <a:ahLst/>
                  <a:rect l="l" t="t" r="r" b="b"/>
                  <a:pathLst>
                    <a:path w="47" h="51">
                      <a:moveTo>
                        <a:pt x="31" y="0"/>
                      </a:moveTo>
                      <a:lnTo>
                        <a:pt x="0" y="37"/>
                      </a:lnTo>
                      <a:lnTo>
                        <a:pt x="28" y="51"/>
                      </a:lnTo>
                      <a:lnTo>
                        <a:pt x="47" y="29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4992480" y="2436480"/>
                  <a:ext cx="158760" cy="7020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9" y="29"/>
                      </a:moveTo>
                      <a:lnTo>
                        <a:pt x="37" y="29"/>
                      </a:lnTo>
                      <a:lnTo>
                        <a:pt x="47" y="0"/>
                      </a:lnTo>
                      <a:lnTo>
                        <a:pt x="0" y="0"/>
                      </a:lnTo>
                      <a:lnTo>
                        <a:pt x="9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4781160" y="1992240"/>
                  <a:ext cx="572760" cy="44424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960800" y="1905120"/>
                  <a:ext cx="159480" cy="6984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9" y="0"/>
                      </a:moveTo>
                      <a:lnTo>
                        <a:pt x="38" y="0"/>
                      </a:lnTo>
                      <a:lnTo>
                        <a:pt x="47" y="29"/>
                      </a:lnTo>
                      <a:lnTo>
                        <a:pt x="0" y="2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321160" y="2136600"/>
                  <a:ext cx="96840" cy="123480"/>
                </a:xfrm>
                <a:custGeom>
                  <a:avLst/>
                  <a:gdLst/>
                  <a:ahLst/>
                  <a:rect l="l" t="t" r="r" b="b"/>
                  <a:pathLst>
                    <a:path w="29" h="51">
                      <a:moveTo>
                        <a:pt x="29" y="10"/>
                      </a:moveTo>
                      <a:lnTo>
                        <a:pt x="29" y="41"/>
                      </a:lnTo>
                      <a:lnTo>
                        <a:pt x="0" y="51"/>
                      </a:lnTo>
                      <a:lnTo>
                        <a:pt x="0" y="0"/>
                      </a:lnTo>
                      <a:lnTo>
                        <a:pt x="29" y="1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4663080" y="2134440"/>
                  <a:ext cx="95040" cy="125280"/>
                </a:xfrm>
                <a:custGeom>
                  <a:avLst/>
                  <a:gdLst/>
                  <a:ahLst/>
                  <a:rect l="l" t="t" r="r" b="b"/>
                  <a:pathLst>
                    <a:path w="28" h="52">
                      <a:moveTo>
                        <a:pt x="0" y="10"/>
                      </a:moveTo>
                      <a:lnTo>
                        <a:pt x="0" y="42"/>
                      </a:lnTo>
                      <a:lnTo>
                        <a:pt x="28" y="52"/>
                      </a:lnTo>
                      <a:lnTo>
                        <a:pt x="28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727160" y="1968480"/>
                  <a:ext cx="159480" cy="120960"/>
                </a:xfrm>
                <a:custGeom>
                  <a:avLst/>
                  <a:gdLst/>
                  <a:ahLst/>
                  <a:rect l="l" t="t" r="r" b="b"/>
                  <a:pathLst>
                    <a:path w="47" h="50">
                      <a:moveTo>
                        <a:pt x="16" y="50"/>
                      </a:moveTo>
                      <a:lnTo>
                        <a:pt x="47" y="13"/>
                      </a:lnTo>
                      <a:lnTo>
                        <a:pt x="19" y="0"/>
                      </a:lnTo>
                      <a:lnTo>
                        <a:pt x="0" y="22"/>
                      </a:lnTo>
                      <a:lnTo>
                        <a:pt x="16" y="5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190840" y="1968480"/>
                  <a:ext cx="158760" cy="123480"/>
                </a:xfrm>
                <a:custGeom>
                  <a:avLst/>
                  <a:gdLst/>
                  <a:ahLst/>
                  <a:rect l="l" t="t" r="r" b="b"/>
                  <a:pathLst>
                    <a:path w="47" h="51">
                      <a:moveTo>
                        <a:pt x="31" y="51"/>
                      </a:moveTo>
                      <a:lnTo>
                        <a:pt x="0" y="14"/>
                      </a:lnTo>
                      <a:lnTo>
                        <a:pt x="28" y="0"/>
                      </a:lnTo>
                      <a:lnTo>
                        <a:pt x="47" y="23"/>
                      </a:lnTo>
                      <a:lnTo>
                        <a:pt x="31" y="51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727160" y="2300760"/>
                  <a:ext cx="163440" cy="120960"/>
                </a:xfrm>
                <a:custGeom>
                  <a:avLst/>
                  <a:gdLst/>
                  <a:ahLst/>
                  <a:rect l="l" t="t" r="r" b="b"/>
                  <a:pathLst>
                    <a:path w="48" h="50">
                      <a:moveTo>
                        <a:pt x="17" y="0"/>
                      </a:moveTo>
                      <a:lnTo>
                        <a:pt x="48" y="37"/>
                      </a:lnTo>
                      <a:lnTo>
                        <a:pt x="19" y="50"/>
                      </a:lnTo>
                      <a:lnTo>
                        <a:pt x="0" y="28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195160" y="2296080"/>
                  <a:ext cx="158760" cy="125280"/>
                </a:xfrm>
                <a:custGeom>
                  <a:avLst/>
                  <a:gdLst/>
                  <a:ahLst/>
                  <a:rect l="l" t="t" r="r" b="b"/>
                  <a:pathLst>
                    <a:path w="47" h="51">
                      <a:moveTo>
                        <a:pt x="31" y="0"/>
                      </a:moveTo>
                      <a:lnTo>
                        <a:pt x="0" y="37"/>
                      </a:lnTo>
                      <a:lnTo>
                        <a:pt x="28" y="51"/>
                      </a:lnTo>
                      <a:lnTo>
                        <a:pt x="47" y="28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4957200" y="2410920"/>
                  <a:ext cx="158760" cy="74520"/>
                </a:xfrm>
                <a:custGeom>
                  <a:avLst/>
                  <a:gdLst/>
                  <a:ahLst/>
                  <a:rect l="l" t="t" r="r" b="b"/>
                  <a:pathLst>
                    <a:path w="47" h="30">
                      <a:moveTo>
                        <a:pt x="9" y="30"/>
                      </a:moveTo>
                      <a:lnTo>
                        <a:pt x="37" y="30"/>
                      </a:lnTo>
                      <a:lnTo>
                        <a:pt x="47" y="0"/>
                      </a:lnTo>
                      <a:lnTo>
                        <a:pt x="0" y="0"/>
                      </a:lnTo>
                      <a:lnTo>
                        <a:pt x="9" y="3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4747680" y="1972800"/>
                  <a:ext cx="575280" cy="444600"/>
                </a:xfrm>
                <a:prstGeom prst="ellipse">
                  <a:avLst/>
                </a:prstGeom>
                <a:solidFill>
                  <a:srgbClr val="cecece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4965120" y="2136600"/>
                  <a:ext cx="212760" cy="16596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44600" y="2119680"/>
                  <a:ext cx="212760" cy="165960"/>
                </a:xfrm>
                <a:prstGeom prst="ellipse">
                  <a:avLst/>
                </a:pr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4944600" y="2119680"/>
                  <a:ext cx="223200" cy="17208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4929840" y="2107080"/>
                  <a:ext cx="206640" cy="161280"/>
                </a:xfrm>
                <a:prstGeom prst="ellipse">
                  <a:avLst/>
                </a:prstGeom>
                <a:solidFill>
                  <a:srgbClr val="cecece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0" name=""/>
              <p:cNvSpPr/>
              <p:nvPr/>
            </p:nvSpPr>
            <p:spPr>
              <a:xfrm>
                <a:off x="4311720" y="2516760"/>
                <a:ext cx="1480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069"/>
                    </a:solidFill>
                    <a:latin typeface="ITC Officina Sans Book"/>
                  </a:rPr>
                  <a:t>“</a:t>
                </a:r>
                <a:r>
                  <a:rPr b="0" lang="en-US" sz="1400" spc="-1" strike="noStrike">
                    <a:solidFill>
                      <a:srgbClr val="003069"/>
                    </a:solidFill>
                    <a:latin typeface="ITC Officina Sans Book"/>
                  </a:rPr>
                  <a:t>makcdg tdclib”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1" name=""/>
          <p:cNvGrpSpPr/>
          <p:nvPr/>
        </p:nvGrpSpPr>
        <p:grpSpPr>
          <a:xfrm>
            <a:off x="5611680" y="1752480"/>
            <a:ext cx="2288880" cy="1310760"/>
            <a:chOff x="5611680" y="1752480"/>
            <a:chExt cx="2288880" cy="1310760"/>
          </a:xfrm>
        </p:grpSpPr>
        <p:grpSp>
          <p:nvGrpSpPr>
            <p:cNvPr id="212" name=""/>
            <p:cNvGrpSpPr/>
            <p:nvPr/>
          </p:nvGrpSpPr>
          <p:grpSpPr>
            <a:xfrm>
              <a:off x="5889600" y="1752480"/>
              <a:ext cx="2010960" cy="1310760"/>
              <a:chOff x="5889600" y="1752480"/>
              <a:chExt cx="2010960" cy="1310760"/>
            </a:xfrm>
          </p:grpSpPr>
          <p:sp>
            <p:nvSpPr>
              <p:cNvPr id="213" name=""/>
              <p:cNvSpPr/>
              <p:nvPr/>
            </p:nvSpPr>
            <p:spPr>
              <a:xfrm>
                <a:off x="6290640" y="1752480"/>
                <a:ext cx="1218960" cy="789120"/>
              </a:xfrm>
              <a:prstGeom prst="flowChartMultidocumen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889600" y="2543040"/>
                <a:ext cx="2010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069"/>
                    </a:solidFill>
                    <a:latin typeface="ITC Officina Sans Book"/>
                  </a:rPr>
                  <a:t>Primitive / Messag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3069"/>
                    </a:solidFill>
                    <a:latin typeface="ITC Officina Sans Book"/>
                  </a:rPr>
                  <a:t>Constants and Struc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21574800">
                <a:off x="6248880" y="2050560"/>
                <a:ext cx="1098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069"/>
                    </a:solidFill>
                    <a:latin typeface="ITC Officina Sans Book"/>
                  </a:rPr>
                  <a:t>p_grr_val.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6" name=""/>
            <p:cNvSpPr/>
            <p:nvPr/>
          </p:nvSpPr>
          <p:spPr>
            <a:xfrm>
              <a:off x="5611680" y="2209680"/>
              <a:ext cx="577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150840" y="5181480"/>
            <a:ext cx="8991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ITC Officina Sans Book"/>
              </a:rPr>
              <a:t>For more informations se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ITC Officina Sans Book"/>
              </a:rPr>
              <a:t>protocol_stack_testing.p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ITC Officina Sans Book"/>
              </a:rPr>
              <a:t>8415_028.doc</a:t>
            </a:r>
            <a:br>
              <a:rPr sz="2000"/>
            </a:br>
            <a:r>
              <a:rPr b="0" lang="de-DE" sz="20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(ClearCase: \GPF\DOC\</a:t>
            </a:r>
            <a:r>
              <a:rPr b="0" lang="de-DE" sz="2000" spc="-1" strike="noStrike">
                <a:solidFill>
                  <a:srgbClr val="003069"/>
                </a:solidFill>
                <a:latin typeface="ITC Officina Sans Book"/>
              </a:rPr>
              <a:t>8415_028.doc</a:t>
            </a: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TAPCaller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preparations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520" y="1020600"/>
            <a:ext cx="8991720" cy="111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069"/>
                </a:solidFill>
                <a:latin typeface="ITC Officina Sans Book"/>
              </a:rPr>
              <a:t>Selection of test cases:</a:t>
            </a:r>
            <a:endParaRPr b="0" lang="en-US" sz="3200" spc="-1" strike="noStrike">
              <a:solidFill>
                <a:srgbClr val="003069"/>
              </a:solidFill>
              <a:latin typeface="ITC Officina Sans Book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379440" y="990720"/>
            <a:ext cx="9362880" cy="4352760"/>
            <a:chOff x="379440" y="990720"/>
            <a:chExt cx="9362880" cy="4352760"/>
          </a:xfrm>
        </p:grpSpPr>
        <p:pic>
          <p:nvPicPr>
            <p:cNvPr id="221" name="" descr=""/>
            <p:cNvPicPr/>
            <p:nvPr/>
          </p:nvPicPr>
          <p:blipFill>
            <a:blip r:embed="rId1"/>
            <a:stretch/>
          </p:blipFill>
          <p:spPr>
            <a:xfrm>
              <a:off x="5560920" y="990720"/>
              <a:ext cx="4181400" cy="43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79440" y="1676520"/>
              <a:ext cx="373392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87000"/>
            </a:bodyPr>
            <a:p>
              <a:pPr lvl="1" marL="646200" indent="-248400">
                <a:lnSpc>
                  <a:spcPct val="100000"/>
                </a:lnSpc>
                <a:spcBef>
                  <a:spcPts val="499"/>
                </a:spcBef>
                <a:buClr>
                  <a:srgbClr val="0063ce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3069"/>
                  </a:solidFill>
                  <a:latin typeface="ITC Officina Sans Book"/>
                </a:rPr>
                <a:t>Start tapcaller.bat</a:t>
              </a:r>
              <a:br>
                <a:rPr sz="2800"/>
              </a:br>
              <a:r>
                <a:rPr b="0" lang="de-DE" sz="2800" spc="-1" strike="noStrike">
                  <a:solidFill>
                    <a:srgbClr val="003069"/>
                  </a:solidFill>
                  <a:latin typeface="ITC Officina Sans Book"/>
                </a:rPr>
                <a:t> </a:t>
              </a:r>
              <a:r>
                <a:rPr b="0" lang="en-US" sz="2000" spc="-1" strike="noStrike">
                  <a:solidFill>
                    <a:srgbClr val="003069"/>
                  </a:solidFill>
                  <a:latin typeface="ITC Officina Sans Book"/>
                </a:rPr>
                <a:t>(ClearCase: \gpf\BIN\tapcaller.ba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379440" y="4221000"/>
            <a:ext cx="373392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9000"/>
          </a:bodyPr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069"/>
                </a:solidFill>
                <a:latin typeface="ITC Officina Sans Book"/>
              </a:rPr>
              <a:t>enable testcases</a:t>
            </a:r>
            <a:br>
              <a:rPr sz="2800"/>
            </a:br>
            <a:r>
              <a:rPr b="0" lang="de-DE" sz="2800" spc="-1" strike="noStrike">
                <a:solidFill>
                  <a:srgbClr val="003069"/>
                </a:solidFill>
                <a:latin typeface="ITC Officina Sans Book"/>
              </a:rPr>
              <a:t>from DLL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379440" y="1371600"/>
            <a:ext cx="7843680" cy="5181480"/>
            <a:chOff x="379440" y="1371600"/>
            <a:chExt cx="7843680" cy="5181480"/>
          </a:xfrm>
        </p:grpSpPr>
        <p:sp>
          <p:nvSpPr>
            <p:cNvPr id="225" name=""/>
            <p:cNvSpPr/>
            <p:nvPr/>
          </p:nvSpPr>
          <p:spPr>
            <a:xfrm>
              <a:off x="379440" y="3154320"/>
              <a:ext cx="373392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0063ce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3069"/>
                  </a:solidFill>
                  <a:latin typeface="ITC Officina Sans Book"/>
                </a:rPr>
                <a:t>choose director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4417920" y="1371600"/>
              <a:ext cx="3805200" cy="5181480"/>
              <a:chOff x="4417920" y="1371600"/>
              <a:chExt cx="3805200" cy="5181480"/>
            </a:xfrm>
          </p:grpSpPr>
          <p:pic>
            <p:nvPicPr>
              <p:cNvPr id="22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703920" y="1371600"/>
                <a:ext cx="868320" cy="62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8" name=""/>
              <p:cNvSpPr/>
              <p:nvPr/>
            </p:nvSpPr>
            <p:spPr>
              <a:xfrm flipH="1">
                <a:off x="6474960" y="1523880"/>
                <a:ext cx="38124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417920" y="1981080"/>
                <a:ext cx="3805200" cy="457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0" name=""/>
              <p:cNvSpPr/>
              <p:nvPr/>
            </p:nvSpPr>
            <p:spPr>
              <a:xfrm flipH="1">
                <a:off x="7389360" y="1523880"/>
                <a:ext cx="3049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1" name=""/>
            <p:cNvSpPr/>
            <p:nvPr/>
          </p:nvSpPr>
          <p:spPr>
            <a:xfrm flipV="1">
              <a:off x="3732120" y="2742840"/>
              <a:ext cx="12956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 flipV="1">
            <a:off x="3503520" y="380988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TAPCaller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preparations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1020600"/>
            <a:ext cx="8991720" cy="111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069"/>
                </a:solidFill>
                <a:latin typeface="ITC Officina Sans Book"/>
              </a:rPr>
              <a:t>Protocol stack (PS) selection:</a:t>
            </a:r>
            <a:endParaRPr b="0" lang="en-US" sz="32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35" name=""/>
          <p:cNvSpPr/>
          <p:nvPr/>
        </p:nvSpPr>
        <p:spPr>
          <a:xfrm>
            <a:off x="379440" y="1676520"/>
            <a:ext cx="609588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069"/>
                </a:solidFill>
                <a:latin typeface="ITC Officina Sans Book"/>
              </a:rPr>
              <a:t>Start a protocol stack by your own, e.g. inside VisualStudio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379440" y="1066680"/>
            <a:ext cx="9134280" cy="5486400"/>
            <a:chOff x="379440" y="1066680"/>
            <a:chExt cx="9134280" cy="5486400"/>
          </a:xfrm>
        </p:grpSpPr>
        <p:pic>
          <p:nvPicPr>
            <p:cNvPr id="237" name="" descr=""/>
            <p:cNvPicPr/>
            <p:nvPr/>
          </p:nvPicPr>
          <p:blipFill>
            <a:blip r:embed="rId1"/>
            <a:stretch/>
          </p:blipFill>
          <p:spPr>
            <a:xfrm>
              <a:off x="6703920" y="1066680"/>
              <a:ext cx="2809800" cy="435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" descr=""/>
            <p:cNvPicPr/>
            <p:nvPr/>
          </p:nvPicPr>
          <p:blipFill>
            <a:blip r:embed="rId2"/>
            <a:stretch/>
          </p:blipFill>
          <p:spPr>
            <a:xfrm>
              <a:off x="4417920" y="2590920"/>
              <a:ext cx="3299040" cy="39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379440" y="2819520"/>
              <a:ext cx="373392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0063ce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3069"/>
                  </a:solidFill>
                  <a:latin typeface="ITC Officina Sans Book"/>
                </a:rPr>
                <a:t>... or specify an executable ..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503520" y="3429000"/>
              <a:ext cx="182880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1" name="" descr=""/>
            <p:cNvPicPr/>
            <p:nvPr/>
          </p:nvPicPr>
          <p:blipFill>
            <a:blip r:embed="rId3"/>
            <a:stretch/>
          </p:blipFill>
          <p:spPr>
            <a:xfrm>
              <a:off x="7846920" y="1447920"/>
              <a:ext cx="868320" cy="6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 flipH="1">
              <a:off x="6246360" y="1523880"/>
              <a:ext cx="175284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7085160" y="1600200"/>
              <a:ext cx="18288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379440" y="3809880"/>
            <a:ext cx="4495680" cy="2675160"/>
            <a:chOff x="379440" y="3809880"/>
            <a:chExt cx="4495680" cy="2675160"/>
          </a:xfrm>
        </p:grpSpPr>
        <p:sp>
          <p:nvSpPr>
            <p:cNvPr id="245" name=""/>
            <p:cNvSpPr/>
            <p:nvPr/>
          </p:nvSpPr>
          <p:spPr>
            <a:xfrm>
              <a:off x="379440" y="3809880"/>
              <a:ext cx="403848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80000"/>
            </a:bodyPr>
            <a:p>
              <a:pPr lvl="1" marL="594360" indent="-228600">
                <a:lnSpc>
                  <a:spcPct val="100000"/>
                </a:lnSpc>
                <a:spcBef>
                  <a:spcPts val="601"/>
                </a:spcBef>
                <a:buClr>
                  <a:srgbClr val="0063ce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3069"/>
                  </a:solidFill>
                  <a:latin typeface="ITC Officina Sans Book"/>
                </a:rPr>
                <a:t>... and enable automatic start of PS </a:t>
              </a:r>
              <a:r>
                <a:rPr b="0" lang="de-DE" sz="2400" spc="-1" strike="noStrike">
                  <a:solidFill>
                    <a:srgbClr val="003069"/>
                  </a:solidFill>
                  <a:latin typeface="ITC Officina Sans Book"/>
                </a:rPr>
                <a:t>(before each test case executio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970360" y="5181480"/>
              <a:ext cx="190476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7" name="" descr=""/>
            <p:cNvPicPr/>
            <p:nvPr/>
          </p:nvPicPr>
          <p:blipFill>
            <a:blip r:embed="rId4"/>
            <a:stretch/>
          </p:blipFill>
          <p:spPr>
            <a:xfrm>
              <a:off x="455760" y="5791320"/>
              <a:ext cx="360972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 flipH="1">
              <a:off x="2436480" y="5181480"/>
              <a:ext cx="30492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"/>
          <p:cNvGrpSpPr/>
          <p:nvPr/>
        </p:nvGrpSpPr>
        <p:grpSpPr>
          <a:xfrm>
            <a:off x="660240" y="2057400"/>
            <a:ext cx="2004840" cy="3580560"/>
            <a:chOff x="660240" y="2057400"/>
            <a:chExt cx="2004840" cy="3580560"/>
          </a:xfrm>
        </p:grpSpPr>
        <p:sp>
          <p:nvSpPr>
            <p:cNvPr id="250" name=""/>
            <p:cNvSpPr/>
            <p:nvPr/>
          </p:nvSpPr>
          <p:spPr>
            <a:xfrm>
              <a:off x="660240" y="2057400"/>
              <a:ext cx="2001240" cy="358056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rotoc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t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428120" y="4274280"/>
              <a:ext cx="1236960" cy="1363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T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988920" y="60958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col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859360" y="6095880"/>
            <a:ext cx="18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TAPCaller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usage with old TAP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520" y="1020600"/>
            <a:ext cx="899172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Data flow: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56" name=""/>
          <p:cNvSpPr/>
          <p:nvPr/>
        </p:nvSpPr>
        <p:spPr>
          <a:xfrm>
            <a:off x="8228160" y="1676520"/>
            <a:ext cx="895320" cy="228600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5256360" y="3095640"/>
            <a:ext cx="2971440" cy="2543040"/>
            <a:chOff x="5256360" y="3095640"/>
            <a:chExt cx="2971440" cy="2543040"/>
          </a:xfrm>
        </p:grpSpPr>
        <p:grpSp>
          <p:nvGrpSpPr>
            <p:cNvPr id="258" name=""/>
            <p:cNvGrpSpPr/>
            <p:nvPr/>
          </p:nvGrpSpPr>
          <p:grpSpPr>
            <a:xfrm>
              <a:off x="5256360" y="3124080"/>
              <a:ext cx="1676160" cy="2514600"/>
              <a:chOff x="5256360" y="3124080"/>
              <a:chExt cx="1676160" cy="2514600"/>
            </a:xfrm>
          </p:grpSpPr>
          <p:sp>
            <p:nvSpPr>
              <p:cNvPr id="259" name=""/>
              <p:cNvSpPr/>
              <p:nvPr/>
            </p:nvSpPr>
            <p:spPr>
              <a:xfrm>
                <a:off x="5256360" y="3124080"/>
                <a:ext cx="1676160" cy="251460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cc00"/>
                    </a:solidFill>
                    <a:latin typeface="Times New Roman"/>
                  </a:rPr>
                  <a:t>TAP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256360" y="4495680"/>
                <a:ext cx="1066680" cy="1143000"/>
              </a:xfrm>
              <a:prstGeom prst="rect">
                <a:avLst/>
              </a:prstGeom>
              <a:solidFill>
                <a:srgbClr val="00ff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TS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 flipH="1">
              <a:off x="6932160" y="3505320"/>
              <a:ext cx="12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62640" y="3095640"/>
              <a:ext cx="758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Start</a:t>
              </a:r>
              <a:br>
                <a:rPr sz="2400"/>
              </a:b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Sto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8075520" y="4495680"/>
            <a:ext cx="1067040" cy="1143000"/>
          </a:xfrm>
          <a:prstGeom prst="rect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db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932520" y="51814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4722840" y="1447920"/>
            <a:ext cx="2362320" cy="1676160"/>
            <a:chOff x="4722840" y="1447920"/>
            <a:chExt cx="2362320" cy="1676160"/>
          </a:xfrm>
        </p:grpSpPr>
        <p:sp>
          <p:nvSpPr>
            <p:cNvPr id="266" name=""/>
            <p:cNvSpPr/>
            <p:nvPr/>
          </p:nvSpPr>
          <p:spPr>
            <a:xfrm>
              <a:off x="4799160" y="1523880"/>
              <a:ext cx="685800" cy="38124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R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799160" y="1905120"/>
              <a:ext cx="685800" cy="38088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M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84960" y="1523880"/>
              <a:ext cx="685800" cy="38124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4722840" y="1447920"/>
              <a:ext cx="2362320" cy="1676160"/>
              <a:chOff x="4722840" y="1447920"/>
              <a:chExt cx="2362320" cy="1676160"/>
            </a:xfrm>
          </p:grpSpPr>
          <p:sp>
            <p:nvSpPr>
              <p:cNvPr id="270" name=""/>
              <p:cNvSpPr/>
              <p:nvPr/>
            </p:nvSpPr>
            <p:spPr>
              <a:xfrm flipV="1">
                <a:off x="6018120" y="236232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722840" y="1447920"/>
                <a:ext cx="2362320" cy="91440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400" spc="-1" strike="noStrike">
                    <a:solidFill>
                      <a:srgbClr val="ff0000"/>
                    </a:solidFill>
                    <a:latin typeface="Times New Roman"/>
                  </a:rPr>
                  <a:t>Tra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400" spc="-1" strike="noStrike">
                    <a:solidFill>
                      <a:srgbClr val="ff0000"/>
                    </a:solidFill>
                    <a:latin typeface="Times New Roman"/>
                  </a:rPr>
                  <a:t>window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2" name=""/>
          <p:cNvGrpSpPr/>
          <p:nvPr/>
        </p:nvGrpSpPr>
        <p:grpSpPr>
          <a:xfrm>
            <a:off x="2665440" y="2819520"/>
            <a:ext cx="2590920" cy="2898000"/>
            <a:chOff x="2665440" y="2819520"/>
            <a:chExt cx="2590920" cy="2898000"/>
          </a:xfrm>
        </p:grpSpPr>
        <p:sp>
          <p:nvSpPr>
            <p:cNvPr id="273" name=""/>
            <p:cNvSpPr/>
            <p:nvPr/>
          </p:nvSpPr>
          <p:spPr>
            <a:xfrm>
              <a:off x="2665440" y="4800600"/>
              <a:ext cx="2590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227040" y="4343400"/>
              <a:ext cx="142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primitiv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459240" y="525780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tra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665440" y="5257800"/>
              <a:ext cx="2590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960720" y="2819520"/>
              <a:ext cx="1295640" cy="1143000"/>
            </a:xfrm>
            <a:prstGeom prst="rect">
              <a:avLst/>
            </a:prstGeom>
            <a:solidFill>
              <a:srgbClr val="3366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Testcase</a:t>
              </a:r>
              <a:br>
                <a:rPr sz="2400"/>
              </a:b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D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5859360" y="6095880"/>
            <a:ext cx="18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TAPCaller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usage with old TAP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80520" y="1020600"/>
            <a:ext cx="899172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Snapshot: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81" name=""/>
          <p:cNvSpPr/>
          <p:nvPr/>
        </p:nvSpPr>
        <p:spPr>
          <a:xfrm>
            <a:off x="2970360" y="5181480"/>
            <a:ext cx="198108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227040" y="4724280"/>
            <a:ext cx="142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rimi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59240" y="563868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r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665440" y="5638680"/>
            <a:ext cx="2286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576840" y="4511520"/>
            <a:ext cx="75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r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5637240" y="3962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3046320" y="1066680"/>
            <a:ext cx="4343400" cy="289584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7618320" y="1066680"/>
            <a:ext cx="2075040" cy="436248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3"/>
          <a:stretch/>
        </p:blipFill>
        <p:spPr>
          <a:xfrm>
            <a:off x="150840" y="3809880"/>
            <a:ext cx="2819520" cy="21924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4951440" y="4648320"/>
            <a:ext cx="990720" cy="1447560"/>
          </a:xfrm>
          <a:prstGeom prst="rect">
            <a:avLst/>
          </a:prstGeom>
          <a:solidFill>
            <a:srgbClr val="008000">
              <a:alpha val="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TA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tap2_gprs.ex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5941800" y="3048120"/>
            <a:ext cx="243828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988920" y="60958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col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TAPCaller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usage with old TAP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80520" y="1020600"/>
            <a:ext cx="899172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Configuration: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455760" y="914400"/>
            <a:ext cx="9219960" cy="5200560"/>
            <a:chOff x="455760" y="914400"/>
            <a:chExt cx="9219960" cy="5200560"/>
          </a:xfrm>
        </p:grpSpPr>
        <p:pic>
          <p:nvPicPr>
            <p:cNvPr id="296" name="" descr=""/>
            <p:cNvPicPr/>
            <p:nvPr/>
          </p:nvPicPr>
          <p:blipFill>
            <a:blip r:embed="rId1"/>
            <a:stretch/>
          </p:blipFill>
          <p:spPr>
            <a:xfrm>
              <a:off x="6492960" y="914400"/>
              <a:ext cx="3182760" cy="505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" descr=""/>
            <p:cNvPicPr/>
            <p:nvPr/>
          </p:nvPicPr>
          <p:blipFill>
            <a:blip r:embed="rId2"/>
            <a:stretch/>
          </p:blipFill>
          <p:spPr>
            <a:xfrm>
              <a:off x="5408640" y="1981080"/>
              <a:ext cx="3276720" cy="413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 flipH="1">
              <a:off x="6017760" y="1371600"/>
              <a:ext cx="7621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55760" y="1523880"/>
              <a:ext cx="48006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5000"/>
            </a:bodyPr>
            <a:p>
              <a:pPr lvl="1" marL="705600" indent="-271440">
                <a:lnSpc>
                  <a:spcPct val="100000"/>
                </a:lnSpc>
                <a:spcBef>
                  <a:spcPts val="700"/>
                </a:spcBef>
                <a:buClr>
                  <a:srgbClr val="0063ce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3069"/>
                  </a:solidFill>
                  <a:latin typeface="ITC Officina Sans Book"/>
                </a:rPr>
                <a:t>select TAP executable which has to be rebuild after each makcdg call ..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875120" y="2286000"/>
              <a:ext cx="13716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455760" y="2895480"/>
            <a:ext cx="6553080" cy="1905120"/>
            <a:chOff x="455760" y="2895480"/>
            <a:chExt cx="6553080" cy="1905120"/>
          </a:xfrm>
        </p:grpSpPr>
        <p:sp>
          <p:nvSpPr>
            <p:cNvPr id="302" name=""/>
            <p:cNvSpPr/>
            <p:nvPr/>
          </p:nvSpPr>
          <p:spPr>
            <a:xfrm>
              <a:off x="455760" y="2895480"/>
              <a:ext cx="48006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0063ce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3069"/>
                  </a:solidFill>
                  <a:latin typeface="ITC Officina Sans Book"/>
                </a:rPr>
                <a:t>... and choose </a:t>
              </a:r>
              <a:br>
                <a:rPr sz="2800"/>
              </a:br>
              <a:r>
                <a:rPr b="0" lang="de-DE" sz="2800" spc="-1" strike="noStrike">
                  <a:solidFill>
                    <a:srgbClr val="003069"/>
                  </a:solidFill>
                  <a:latin typeface="ITC Officina Sans Book"/>
                </a:rPr>
                <a:t>„old TAP“-mod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656160" y="3581280"/>
              <a:ext cx="335268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455760" y="3580920"/>
            <a:ext cx="5943600" cy="2743560"/>
            <a:chOff x="455760" y="3580920"/>
            <a:chExt cx="5943600" cy="2743560"/>
          </a:xfrm>
        </p:grpSpPr>
        <p:sp>
          <p:nvSpPr>
            <p:cNvPr id="305" name=""/>
            <p:cNvSpPr/>
            <p:nvPr/>
          </p:nvSpPr>
          <p:spPr>
            <a:xfrm>
              <a:off x="455760" y="4297320"/>
              <a:ext cx="3798720" cy="20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0063ce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3069"/>
                  </a:solidFill>
                  <a:latin typeface="ITC Officina Sans Book"/>
                </a:rPr>
                <a:t>evtl. modify communication type, if testing with a real targe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3808440" y="3580920"/>
              <a:ext cx="259092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"/>
          <p:cNvGrpSpPr/>
          <p:nvPr/>
        </p:nvGrpSpPr>
        <p:grpSpPr>
          <a:xfrm>
            <a:off x="379440" y="3733920"/>
            <a:ext cx="1736280" cy="2209320"/>
            <a:chOff x="379440" y="3733920"/>
            <a:chExt cx="1736280" cy="2209320"/>
          </a:xfrm>
        </p:grpSpPr>
        <p:sp>
          <p:nvSpPr>
            <p:cNvPr id="308" name=""/>
            <p:cNvSpPr/>
            <p:nvPr/>
          </p:nvSpPr>
          <p:spPr>
            <a:xfrm>
              <a:off x="379440" y="3733920"/>
              <a:ext cx="1733400" cy="220932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rotoc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t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044360" y="5101560"/>
              <a:ext cx="1071360" cy="84132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T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3649680" y="5029200"/>
            <a:ext cx="920880" cy="9144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859360" y="6095880"/>
            <a:ext cx="18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83560" y="4876920"/>
            <a:ext cx="1387440" cy="10666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TAPCaller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usage with TAP2 &amp; PCO2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520" y="1020600"/>
            <a:ext cx="899172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Data flow: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15" name=""/>
          <p:cNvSpPr/>
          <p:nvPr/>
        </p:nvSpPr>
        <p:spPr>
          <a:xfrm>
            <a:off x="7846920" y="990720"/>
            <a:ext cx="1219320" cy="25905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4189320" y="2514600"/>
            <a:ext cx="3657240" cy="1905120"/>
            <a:chOff x="4189320" y="2514600"/>
            <a:chExt cx="3657240" cy="1905120"/>
          </a:xfrm>
        </p:grpSpPr>
        <p:sp>
          <p:nvSpPr>
            <p:cNvPr id="317" name=""/>
            <p:cNvSpPr/>
            <p:nvPr/>
          </p:nvSpPr>
          <p:spPr>
            <a:xfrm>
              <a:off x="4189320" y="2819520"/>
              <a:ext cx="1295640" cy="16002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Times New Roman"/>
                </a:rPr>
                <a:t>TAP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5484600" y="2971800"/>
              <a:ext cx="236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560920" y="2514600"/>
              <a:ext cx="70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start</a:t>
              </a:r>
              <a:br>
                <a:rPr sz="2400"/>
              </a:b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sto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8304120" y="3886200"/>
            <a:ext cx="1295640" cy="2057400"/>
            <a:chOff x="8304120" y="3886200"/>
            <a:chExt cx="1295640" cy="2057400"/>
          </a:xfrm>
        </p:grpSpPr>
        <p:sp>
          <p:nvSpPr>
            <p:cNvPr id="321" name=""/>
            <p:cNvSpPr/>
            <p:nvPr/>
          </p:nvSpPr>
          <p:spPr>
            <a:xfrm>
              <a:off x="8761320" y="3886200"/>
              <a:ext cx="838440" cy="83808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.db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ff0000"/>
                  </a:solidFill>
                  <a:latin typeface="Times New Roman"/>
                </a:rPr>
                <a:t>fi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685360" y="5029200"/>
              <a:ext cx="914400" cy="91440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CO </a:t>
              </a:r>
              <a:br>
                <a:rPr sz="2400"/>
              </a:b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logfi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304120" y="57150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8304120" y="4419720"/>
              <a:ext cx="45720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8207280" y="35812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237440" y="426708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988920" y="60958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col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3884760" y="1143000"/>
            <a:ext cx="3504600" cy="3733560"/>
            <a:chOff x="3884760" y="1143000"/>
            <a:chExt cx="3504600" cy="3733560"/>
          </a:xfrm>
        </p:grpSpPr>
        <p:grpSp>
          <p:nvGrpSpPr>
            <p:cNvPr id="329" name=""/>
            <p:cNvGrpSpPr/>
            <p:nvPr/>
          </p:nvGrpSpPr>
          <p:grpSpPr>
            <a:xfrm>
              <a:off x="5713560" y="1143000"/>
              <a:ext cx="1675800" cy="1219320"/>
              <a:chOff x="5713560" y="1143000"/>
              <a:chExt cx="1675800" cy="1219320"/>
            </a:xfrm>
          </p:grpSpPr>
          <p:sp>
            <p:nvSpPr>
              <p:cNvPr id="330" name=""/>
              <p:cNvSpPr/>
              <p:nvPr/>
            </p:nvSpPr>
            <p:spPr>
              <a:xfrm>
                <a:off x="5713560" y="1295640"/>
                <a:ext cx="1512720" cy="1066680"/>
              </a:xfrm>
              <a:prstGeom prst="rect">
                <a:avLst/>
              </a:prstGeom>
              <a:solidFill>
                <a:srgbClr val="00008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PC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view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891400" y="1143000"/>
                <a:ext cx="1497960" cy="1067040"/>
              </a:xfrm>
              <a:prstGeom prst="rect">
                <a:avLst/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PC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viewer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3884760" y="182880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7008840" y="2361960"/>
              <a:ext cx="0" cy="2514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780880" y="3581280"/>
              <a:ext cx="1305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duplicated </a:t>
              </a:r>
              <a:br>
                <a:rPr sz="2000"/>
              </a:b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primitives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tra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1751040" y="1600200"/>
            <a:ext cx="5148360" cy="4410360"/>
            <a:chOff x="1751040" y="1600200"/>
            <a:chExt cx="5148360" cy="4410360"/>
          </a:xfrm>
        </p:grpSpPr>
        <p:grpSp>
          <p:nvGrpSpPr>
            <p:cNvPr id="336" name=""/>
            <p:cNvGrpSpPr/>
            <p:nvPr/>
          </p:nvGrpSpPr>
          <p:grpSpPr>
            <a:xfrm>
              <a:off x="2131920" y="2514600"/>
              <a:ext cx="4767480" cy="3495960"/>
              <a:chOff x="2131920" y="2514600"/>
              <a:chExt cx="4767480" cy="3495960"/>
            </a:xfrm>
          </p:grpSpPr>
          <p:sp>
            <p:nvSpPr>
              <p:cNvPr id="337" name=""/>
              <p:cNvSpPr/>
              <p:nvPr/>
            </p:nvSpPr>
            <p:spPr>
              <a:xfrm>
                <a:off x="4502520" y="4497480"/>
                <a:ext cx="1212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primitiv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131920" y="5334120"/>
                <a:ext cx="1524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359080" y="4925880"/>
                <a:ext cx="1212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primitiv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513520" y="5611680"/>
                <a:ext cx="773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trac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131920" y="5638680"/>
                <a:ext cx="1524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494240" y="4419720"/>
                <a:ext cx="0" cy="6094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570560" y="5562720"/>
                <a:ext cx="23288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894040" y="2514600"/>
                <a:ext cx="1295280" cy="1143000"/>
              </a:xfrm>
              <a:prstGeom prst="rect">
                <a:avLst/>
              </a:prstGeom>
              <a:solidFill>
                <a:srgbClr val="3366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Testcase</a:t>
                </a:r>
                <a:br>
                  <a:rPr sz="2400"/>
                </a:b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DL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129640" y="5535720"/>
                <a:ext cx="773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trac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490280" y="5165640"/>
                <a:ext cx="2337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duplicated primitiv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1751040" y="1600200"/>
              <a:ext cx="214452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CDed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286520" y="1768320"/>
              <a:ext cx="1352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decode</a:t>
              </a:r>
              <a:br>
                <a:rPr sz="2400"/>
              </a:b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interpre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884760" y="1981080"/>
              <a:ext cx="9144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TAPCaller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usage with TAP2 &amp; PCO2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Snapshot: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ITC Officina Sans Book"/>
              </a:rPr>
              <a:t>testcase</a:t>
            </a:r>
            <a:br>
              <a:rPr sz="2000"/>
            </a:br>
            <a:r>
              <a:rPr b="0" lang="de-DE" sz="2000" spc="-1" strike="noStrike">
                <a:solidFill>
                  <a:srgbClr val="003069"/>
                </a:solidFill>
                <a:latin typeface="ITC Officina Sans Book"/>
              </a:rPr>
              <a:t>running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6627960" y="5562720"/>
            <a:ext cx="1096920" cy="4791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7770960" y="542592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O-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7510320" y="838080"/>
            <a:ext cx="2183040" cy="4591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0360" y="5181480"/>
            <a:ext cx="14475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283200" y="4572000"/>
            <a:ext cx="121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rimi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18120" y="5562720"/>
            <a:ext cx="77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r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665440" y="5638680"/>
            <a:ext cx="17524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417920" y="3581280"/>
            <a:ext cx="990720" cy="914400"/>
          </a:xfrm>
          <a:prstGeom prst="rect">
            <a:avLst/>
          </a:prstGeom>
          <a:solidFill>
            <a:srgbClr val="008000">
              <a:alpha val="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TA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tap2.ex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417920" y="4952880"/>
            <a:ext cx="990720" cy="990720"/>
          </a:xfrm>
          <a:prstGeom prst="rect">
            <a:avLst/>
          </a:prstGeom>
          <a:solidFill>
            <a:srgbClr val="008000">
              <a:alpha val="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tst.ex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150840" y="3809880"/>
            <a:ext cx="2819520" cy="219240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5859360" y="6095880"/>
            <a:ext cx="18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5408280" y="2895480"/>
            <a:ext cx="25909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34240" y="2438280"/>
            <a:ext cx="70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r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4570560" y="4495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6856200" y="2971800"/>
            <a:ext cx="11430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537240" y="388620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2436840" y="914400"/>
            <a:ext cx="4267080" cy="4800600"/>
            <a:chOff x="2436840" y="914400"/>
            <a:chExt cx="4267080" cy="4800600"/>
          </a:xfrm>
        </p:grpSpPr>
        <p:sp>
          <p:nvSpPr>
            <p:cNvPr id="369" name=""/>
            <p:cNvSpPr/>
            <p:nvPr/>
          </p:nvSpPr>
          <p:spPr>
            <a:xfrm>
              <a:off x="2436840" y="930240"/>
              <a:ext cx="129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CO-Vie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0" name="" descr=""/>
            <p:cNvPicPr/>
            <p:nvPr/>
          </p:nvPicPr>
          <p:blipFill>
            <a:blip r:embed="rId4"/>
            <a:stretch/>
          </p:blipFill>
          <p:spPr>
            <a:xfrm>
              <a:off x="3427560" y="914400"/>
              <a:ext cx="3124080" cy="239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 flipH="1" flipV="1">
              <a:off x="5789520" y="2895480"/>
              <a:ext cx="914400" cy="2819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5408640" y="5791320"/>
            <a:ext cx="12193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334840" y="4800600"/>
            <a:ext cx="124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races,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uplicated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rimi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988920" y="60958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col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TAPCaller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usage with TAP2 &amp; PCO2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Snapshot: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ITC Officina Sans Book"/>
              </a:rPr>
              <a:t>testcase</a:t>
            </a:r>
            <a:br>
              <a:rPr sz="2000"/>
            </a:br>
            <a:r>
              <a:rPr b="0" lang="de-DE" sz="2000" spc="-1" strike="noStrike">
                <a:solidFill>
                  <a:srgbClr val="003069"/>
                </a:solidFill>
                <a:latin typeface="ITC Officina Sans Book"/>
              </a:rPr>
              <a:t>replay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6627960" y="5562720"/>
            <a:ext cx="1096920" cy="47916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7770960" y="542592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O-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7510320" y="838080"/>
            <a:ext cx="2183040" cy="459108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4037040" y="6095880"/>
            <a:ext cx="18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6856200" y="2971800"/>
            <a:ext cx="11430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537240" y="388620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799160" y="32767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O-Vie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3427560" y="914400"/>
            <a:ext cx="3124080" cy="239544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 flipH="1" flipV="1">
            <a:off x="5789520" y="2895480"/>
            <a:ext cx="914400" cy="2819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179320" y="4343400"/>
            <a:ext cx="124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races,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uplicated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rimi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608040" y="2743200"/>
            <a:ext cx="4191120" cy="321300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 flipH="1" flipV="1">
            <a:off x="4036680" y="5028840"/>
            <a:ext cx="2590920" cy="762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TAPCaller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usage with TAP2 &amp; PCO2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520" y="1020600"/>
            <a:ext cx="899172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Configuration (1):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455760" y="990720"/>
            <a:ext cx="8943840" cy="5410080"/>
            <a:chOff x="455760" y="990720"/>
            <a:chExt cx="8943840" cy="5410080"/>
          </a:xfrm>
        </p:grpSpPr>
        <p:pic>
          <p:nvPicPr>
            <p:cNvPr id="392" name="" descr=""/>
            <p:cNvPicPr/>
            <p:nvPr/>
          </p:nvPicPr>
          <p:blipFill>
            <a:blip r:embed="rId1"/>
            <a:stretch/>
          </p:blipFill>
          <p:spPr>
            <a:xfrm>
              <a:off x="5789520" y="990720"/>
              <a:ext cx="3610080" cy="410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455760" y="1523880"/>
              <a:ext cx="48006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0063ce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3069"/>
                  </a:solidFill>
                  <a:latin typeface="ITC Officina Sans Book"/>
                </a:rPr>
                <a:t>select path to tap2.exe ..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4518000" y="2057400"/>
              <a:ext cx="3100320" cy="434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"/>
            <p:cNvSpPr/>
            <p:nvPr/>
          </p:nvSpPr>
          <p:spPr>
            <a:xfrm>
              <a:off x="3427560" y="1981080"/>
              <a:ext cx="13716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6170760" y="1905120"/>
              <a:ext cx="9144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455760" y="2895480"/>
            <a:ext cx="4800600" cy="2895840"/>
            <a:chOff x="455760" y="2895480"/>
            <a:chExt cx="4800600" cy="2895840"/>
          </a:xfrm>
        </p:grpSpPr>
        <p:sp>
          <p:nvSpPr>
            <p:cNvPr id="398" name=""/>
            <p:cNvSpPr/>
            <p:nvPr/>
          </p:nvSpPr>
          <p:spPr>
            <a:xfrm>
              <a:off x="455760" y="2895480"/>
              <a:ext cx="48006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0063ce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3069"/>
                  </a:solidFill>
                  <a:latin typeface="ITC Officina Sans Book"/>
                </a:rPr>
                <a:t>... and deselect </a:t>
              </a:r>
              <a:br>
                <a:rPr sz="2800"/>
              </a:br>
              <a:r>
                <a:rPr b="0" lang="de-DE" sz="2800" spc="-1" strike="noStrike">
                  <a:solidFill>
                    <a:srgbClr val="003069"/>
                  </a:solidFill>
                  <a:latin typeface="ITC Officina Sans Book"/>
                </a:rPr>
                <a:t>„old TAP“-mod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732120" y="3581280"/>
              <a:ext cx="1067040" cy="22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455760" y="4267080"/>
            <a:ext cx="4343400" cy="2057400"/>
            <a:chOff x="455760" y="4267080"/>
            <a:chExt cx="4343400" cy="2057400"/>
          </a:xfrm>
        </p:grpSpPr>
        <p:sp>
          <p:nvSpPr>
            <p:cNvPr id="401" name=""/>
            <p:cNvSpPr/>
            <p:nvPr/>
          </p:nvSpPr>
          <p:spPr>
            <a:xfrm>
              <a:off x="455760" y="4297320"/>
              <a:ext cx="3798720" cy="20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0063ce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3069"/>
                  </a:solidFill>
                  <a:latin typeface="ITC Officina Sans Book"/>
                </a:rPr>
                <a:t>evtl. modify communication type, if testing with a real targe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3732120" y="4267080"/>
              <a:ext cx="10670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TAPCaller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overview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069"/>
                </a:solidFill>
                <a:latin typeface="ITC Officina Sans Book"/>
              </a:rPr>
              <a:t>General concept</a:t>
            </a:r>
            <a:endParaRPr b="0" lang="en-US" sz="32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069"/>
                </a:solidFill>
                <a:latin typeface="ITC Officina Sans Book"/>
              </a:rPr>
              <a:t>Preparations</a:t>
            </a:r>
            <a:endParaRPr b="0" lang="en-US" sz="32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069"/>
                </a:solidFill>
                <a:latin typeface="ITC Officina Sans Book"/>
              </a:rPr>
              <a:t>Usage with old TAP</a:t>
            </a:r>
            <a:endParaRPr b="0" lang="en-US" sz="32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069"/>
                </a:solidFill>
                <a:latin typeface="ITC Officina Sans Book"/>
              </a:rPr>
              <a:t>Usage with TAP2 and PCO2</a:t>
            </a:r>
            <a:endParaRPr b="0" lang="en-US" sz="32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069"/>
                </a:solidFill>
                <a:latin typeface="ITC Officina Sans Book"/>
              </a:rPr>
              <a:t>Important files</a:t>
            </a:r>
            <a:endParaRPr b="0" lang="en-US" sz="32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TAPCaller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usage with TAP2 &amp; PCO2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80520" y="1020600"/>
            <a:ext cx="899172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Configuration (2):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455760" y="914400"/>
            <a:ext cx="9172440" cy="5657760"/>
            <a:chOff x="455760" y="914400"/>
            <a:chExt cx="9172440" cy="5657760"/>
          </a:xfrm>
        </p:grpSpPr>
        <p:grpSp>
          <p:nvGrpSpPr>
            <p:cNvPr id="406" name=""/>
            <p:cNvGrpSpPr/>
            <p:nvPr/>
          </p:nvGrpSpPr>
          <p:grpSpPr>
            <a:xfrm>
              <a:off x="455760" y="914400"/>
              <a:ext cx="9172440" cy="5657760"/>
              <a:chOff x="455760" y="914400"/>
              <a:chExt cx="9172440" cy="5657760"/>
            </a:xfrm>
          </p:grpSpPr>
          <p:pic>
            <p:nvPicPr>
              <p:cNvPr id="40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018120" y="914400"/>
                <a:ext cx="3610080" cy="410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"/>
              <p:cNvSpPr/>
              <p:nvPr/>
            </p:nvSpPr>
            <p:spPr>
              <a:xfrm>
                <a:off x="455760" y="1523880"/>
                <a:ext cx="4952880" cy="137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lvl="1" marL="743040" indent="-285840">
                  <a:lnSpc>
                    <a:spcPct val="100000"/>
                  </a:lnSpc>
                  <a:spcBef>
                    <a:spcPts val="700"/>
                  </a:spcBef>
                  <a:buClr>
                    <a:srgbClr val="0063ce"/>
                  </a:buClr>
                  <a:buFont typeface="Wingdings" charset="2"/>
                  <a:buChar char="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800" spc="-1" strike="noStrike">
                    <a:solidFill>
                      <a:srgbClr val="003069"/>
                    </a:solidFill>
                    <a:latin typeface="ITC Officina Sans Book"/>
                  </a:rPr>
                  <a:t>enable logging with PCO ..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0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484960" y="1981080"/>
                <a:ext cx="3276360" cy="459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0" name=""/>
              <p:cNvSpPr/>
              <p:nvPr/>
            </p:nvSpPr>
            <p:spPr>
              <a:xfrm>
                <a:off x="4494240" y="2057400"/>
                <a:ext cx="129528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1" name=""/>
            <p:cNvSpPr/>
            <p:nvPr/>
          </p:nvSpPr>
          <p:spPr>
            <a:xfrm flipH="1">
              <a:off x="6780240" y="1828800"/>
              <a:ext cx="457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455760" y="2362320"/>
            <a:ext cx="5410080" cy="1371600"/>
            <a:chOff x="455760" y="2362320"/>
            <a:chExt cx="5410080" cy="1371600"/>
          </a:xfrm>
        </p:grpSpPr>
        <p:sp>
          <p:nvSpPr>
            <p:cNvPr id="413" name=""/>
            <p:cNvSpPr/>
            <p:nvPr/>
          </p:nvSpPr>
          <p:spPr>
            <a:xfrm>
              <a:off x="455760" y="2362320"/>
              <a:ext cx="495288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2000"/>
            </a:bodyPr>
            <a:p>
              <a:pPr lvl="1" marL="683280" indent="-262800">
                <a:lnSpc>
                  <a:spcPct val="100000"/>
                </a:lnSpc>
                <a:spcBef>
                  <a:spcPts val="700"/>
                </a:spcBef>
                <a:buClr>
                  <a:srgbClr val="0063ce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3069"/>
                  </a:solidFill>
                  <a:latin typeface="ITC Officina Sans Book"/>
                </a:rPr>
                <a:t>... and choose path to PCO executables (should be the same as for tap2.exe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4494240" y="3200040"/>
              <a:ext cx="13716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455760" y="4038480"/>
            <a:ext cx="5410080" cy="2286000"/>
            <a:chOff x="455760" y="4038480"/>
            <a:chExt cx="5410080" cy="2286000"/>
          </a:xfrm>
        </p:grpSpPr>
        <p:sp>
          <p:nvSpPr>
            <p:cNvPr id="416" name=""/>
            <p:cNvSpPr/>
            <p:nvPr/>
          </p:nvSpPr>
          <p:spPr>
            <a:xfrm>
              <a:off x="455760" y="4038480"/>
              <a:ext cx="472428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7000"/>
            </a:bodyPr>
            <a:p>
              <a:pPr lvl="1" marL="720720" indent="-277200">
                <a:lnSpc>
                  <a:spcPct val="100000"/>
                </a:lnSpc>
                <a:spcBef>
                  <a:spcPts val="700"/>
                </a:spcBef>
                <a:buClr>
                  <a:srgbClr val="0063ce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3069"/>
                  </a:solidFill>
                  <a:latin typeface="ITC Officina Sans Book"/>
                </a:rPr>
                <a:t>evtl. select a viewer configuration, with which a PCO-Viewer should be started while running testcases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4417920" y="4190760"/>
              <a:ext cx="1447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TAPCaller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important files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1020600"/>
            <a:ext cx="819792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Executables and DLLs: 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609480" y="1066680"/>
            <a:ext cx="8913960" cy="5334120"/>
            <a:chOff x="609480" y="1066680"/>
            <a:chExt cx="8913960" cy="5334120"/>
          </a:xfrm>
        </p:grpSpPr>
        <p:grpSp>
          <p:nvGrpSpPr>
            <p:cNvPr id="421" name=""/>
            <p:cNvGrpSpPr/>
            <p:nvPr/>
          </p:nvGrpSpPr>
          <p:grpSpPr>
            <a:xfrm>
              <a:off x="609480" y="1066680"/>
              <a:ext cx="8913960" cy="5334120"/>
              <a:chOff x="609480" y="1066680"/>
              <a:chExt cx="8913960" cy="5334120"/>
            </a:xfrm>
          </p:grpSpPr>
          <p:sp>
            <p:nvSpPr>
              <p:cNvPr id="422" name=""/>
              <p:cNvSpPr/>
              <p:nvPr/>
            </p:nvSpPr>
            <p:spPr>
              <a:xfrm>
                <a:off x="609480" y="5638680"/>
                <a:ext cx="8913960" cy="762120"/>
              </a:xfrm>
              <a:prstGeom prst="rect">
                <a:avLst/>
              </a:prstGeom>
              <a:solidFill>
                <a:srgbClr val="ffff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Windows, Linux, 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09480" y="5029200"/>
                <a:ext cx="7008840" cy="609480"/>
              </a:xfrm>
              <a:prstGeom prst="rect">
                <a:avLst/>
              </a:prstGeom>
              <a:solidFill>
                <a:srgbClr val="ffff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VCMS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-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ms.dl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09480" y="3505320"/>
                <a:ext cx="3124440" cy="1523880"/>
              </a:xfrm>
              <a:prstGeom prst="rect">
                <a:avLst/>
              </a:prstGeom>
              <a:solidFill>
                <a:srgbClr val="00ff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FRAM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rame_wn.dll</a:t>
                </a:r>
                <a:br>
                  <a:rPr sz="2400"/>
                </a:b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if_wn.dll</a:t>
                </a:r>
                <a:br>
                  <a:rPr sz="2400"/>
                </a:b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misc_wn.dl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09480" y="2590920"/>
                <a:ext cx="1219320" cy="914400"/>
              </a:xfrm>
              <a:prstGeom prst="rect">
                <a:avLst/>
              </a:prstGeom>
              <a:solidFill>
                <a:srgbClr val="00ff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TST</a:t>
                </a:r>
                <a:br>
                  <a:rPr sz="2400"/>
                </a:b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st.ex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057400" y="1752480"/>
                <a:ext cx="1676520" cy="175284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cc00"/>
                    </a:solidFill>
                    <a:latin typeface="Times New Roman"/>
                  </a:rPr>
                  <a:t>TAP2</a:t>
                </a:r>
                <a:br>
                  <a:rPr sz="2400"/>
                </a:b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ap2.ex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DE" sz="2000" spc="-1" strike="noStrike">
                    <a:solidFill>
                      <a:srgbClr val="000000"/>
                    </a:solidFill>
                    <a:latin typeface="Times New Roman"/>
                  </a:rPr>
                  <a:t>(tap2_gprs.exe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886200" y="3657600"/>
                <a:ext cx="1905120" cy="1371600"/>
              </a:xfrm>
              <a:prstGeom prst="rect">
                <a:avLst/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PCOserv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pco_srv.ex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942160" y="3657600"/>
                <a:ext cx="1164960" cy="1371600"/>
              </a:xfrm>
              <a:prstGeom prst="rect">
                <a:avLst/>
              </a:prstGeom>
              <a:solidFill>
                <a:srgbClr val="00008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PC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view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094440" y="3505320"/>
                <a:ext cx="1095480" cy="1447560"/>
              </a:xfrm>
              <a:prstGeom prst="rect">
                <a:avLst/>
              </a:prstGeom>
              <a:solidFill>
                <a:srgbClr val="00008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PC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view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246720" y="3352680"/>
                <a:ext cx="1371600" cy="1447920"/>
              </a:xfrm>
              <a:prstGeom prst="rect">
                <a:avLst/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PCOview</a:t>
                </a:r>
                <a:br>
                  <a:rPr sz="2400"/>
                </a:br>
                <a:r>
                  <a:rPr b="1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pco_view</a:t>
                </a:r>
                <a:br>
                  <a:rPr sz="2400"/>
                </a:br>
                <a:r>
                  <a:rPr b="1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.ex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341960" y="1066680"/>
                <a:ext cx="3159000" cy="10670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CCDedit</a:t>
                </a:r>
                <a:br>
                  <a:rPr sz="2400"/>
                </a:b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cddata_dll.dll, </a:t>
                </a:r>
                <a:r>
                  <a:rPr b="1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ccddata_load.dll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551640" y="2133720"/>
                <a:ext cx="3240" cy="121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3" name=""/>
            <p:cNvSpPr/>
            <p:nvPr/>
          </p:nvSpPr>
          <p:spPr>
            <a:xfrm flipH="1">
              <a:off x="3732120" y="190512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770960" y="2514600"/>
              <a:ext cx="1752480" cy="312408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T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aller</a:t>
              </a:r>
              <a:br>
                <a:rPr sz="2400"/>
              </a:b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apcaller.ex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TAPCaller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important files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31360" y="1447560"/>
            <a:ext cx="906804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lvl="1" marL="698400" indent="-26856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69"/>
                </a:solidFill>
                <a:latin typeface="ITC Officina Sans Book"/>
              </a:rPr>
              <a:t>pco.ini</a:t>
            </a: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(ClearCase: \gpf\BIN\pco.ini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74240" indent="-21456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contains all settings for the </a:t>
            </a:r>
            <a:br>
              <a:rPr sz="2000"/>
            </a:b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PCO components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98400" indent="-26856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069"/>
                </a:solidFill>
                <a:latin typeface="ITC Officina Sans Book"/>
              </a:rPr>
              <a:t>*.svc-files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74240" indent="-21456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069"/>
                </a:solidFill>
                <a:latin typeface="ITC Officina Sans Book"/>
              </a:rPr>
              <a:t>Standard-Viewer-Configuration files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74240" indent="-21456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069"/>
                </a:solidFill>
                <a:latin typeface="ITC Officina Sans Book"/>
              </a:rPr>
              <a:t>tap.svc.default </a:t>
            </a:r>
            <a:br>
              <a:rPr sz="2000"/>
            </a:br>
            <a:r>
              <a:rPr b="1" lang="de-DE" sz="2000" spc="-1" strike="noStrike">
                <a:solidFill>
                  <a:srgbClr val="003069"/>
                </a:solidFill>
                <a:latin typeface="ITC Officina Sans Book"/>
              </a:rPr>
              <a:t>-&gt; default viewer config, will be copied to tap.svc by tapcaller.bat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37" name=""/>
          <p:cNvSpPr/>
          <p:nvPr/>
        </p:nvSpPr>
        <p:spPr>
          <a:xfrm>
            <a:off x="517680" y="944640"/>
            <a:ext cx="8594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PCO configuration fi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5232240" y="1359000"/>
            <a:ext cx="4343400" cy="271440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531720" y="5288040"/>
            <a:ext cx="859464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TAPCaller configuration fi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069"/>
                </a:solidFill>
                <a:latin typeface="ITC Officina Sans Book"/>
              </a:rPr>
              <a:t>*.tcc-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069"/>
                </a:solidFill>
                <a:latin typeface="ITC Officina Sans Book"/>
              </a:rPr>
              <a:t>TAP-Caller-Configuration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TAPCaller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important files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24960" y="990360"/>
            <a:ext cx="859500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Volatile files: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have to be build together with the used protocol stack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69"/>
                </a:solidFill>
                <a:latin typeface="ITC Officina Sans Book"/>
              </a:rPr>
              <a:t>ccddata_dll.dll </a:t>
            </a: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(table with primitive symbols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69"/>
                </a:solidFill>
                <a:latin typeface="ITC Officina Sans Book"/>
              </a:rPr>
              <a:t>str2ind.tab </a:t>
            </a: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(table with trace texts - introduced with GPRS_1.3.2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42" name=""/>
          <p:cNvSpPr/>
          <p:nvPr/>
        </p:nvSpPr>
        <p:spPr>
          <a:xfrm>
            <a:off x="608040" y="2514600"/>
            <a:ext cx="8594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Detailed document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69"/>
                </a:solidFill>
                <a:latin typeface="ITC Officina Sans Book"/>
              </a:rPr>
              <a:t>tapcaller_userguide.doc</a:t>
            </a: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(ClearCase: \gpf\DOC\tapcaller\tapcaller_userguide.do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69"/>
                </a:solidFill>
                <a:latin typeface="ITC Officina Sans Book"/>
              </a:rPr>
              <a:t>pco_userguide.doc </a:t>
            </a:r>
            <a:br>
              <a:rPr sz="2000"/>
            </a:b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(ClearCase: \gpf\DOC\pco\pco_userguide.do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69"/>
                </a:solidFill>
                <a:latin typeface="ITC Officina Sans Book"/>
              </a:rPr>
              <a:t>frame_users_guide.doc</a:t>
            </a:r>
            <a:br>
              <a:rPr sz="2000"/>
            </a:b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(ClearCase: \gpf\DOC\frame_users_guide.do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69"/>
                </a:solidFill>
                <a:latin typeface="ITC Officina Sans Book"/>
              </a:rPr>
              <a:t>testplatform_userguide.doc</a:t>
            </a:r>
            <a:br>
              <a:rPr sz="2000"/>
            </a:b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(ClearCase: \gpf\DOC\testplatform_usersguide.do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69"/>
                </a:solidFill>
                <a:latin typeface="ITC Officina Sans Book"/>
              </a:rPr>
              <a:t>tapcaller_intro.ppt </a:t>
            </a: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(this document)</a:t>
            </a:r>
            <a:r>
              <a:rPr b="1" lang="en-US" sz="20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(ClearCase: \gpf\DOC\tapcaller\tapcaller_intro.pp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TAPCaller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TI internal issues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93726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Maintenance and versions: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601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TAPCaller, TAP and PCO are maintained by the GPF-team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601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delivery is usually done inside the gpf.csi file included in the ConfigSpec of each developer 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601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the very newest version can be obtained by including gpf_testtools.csi right after “mkbranch xxx” (at least before gpf.csi) in the ConfigSpec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Complaining: 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601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can be done directly by using the “moan”-button in the system tray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601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see \gpf\DOC\moanbtn\mbtn_userguide.doc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7085160" y="5257800"/>
            <a:ext cx="156204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TAPCaller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general concept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3040" y="1066320"/>
            <a:ext cx="8594640" cy="499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test interface approach: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601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data interface between G23 protocol stack and a PC test system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601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for running test cases: usually shared memory on one PC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3124080"/>
            <a:ext cx="2819160" cy="2498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477120" y="3124080"/>
            <a:ext cx="2819160" cy="2498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APCall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P2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Pane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O2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37040" y="59436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351240" y="2971800"/>
            <a:ext cx="3125520" cy="457200"/>
            <a:chOff x="3351240" y="2971800"/>
            <a:chExt cx="3125520" cy="457200"/>
          </a:xfrm>
        </p:grpSpPr>
        <p:sp>
          <p:nvSpPr>
            <p:cNvPr id="58" name=""/>
            <p:cNvSpPr/>
            <p:nvPr/>
          </p:nvSpPr>
          <p:spPr>
            <a:xfrm flipH="1">
              <a:off x="3352320" y="3429000"/>
              <a:ext cx="31244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51240" y="2971800"/>
              <a:ext cx="304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System primitiv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988920" y="4952880"/>
            <a:ext cx="1752840" cy="5176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008840" y="59436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 tes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2960" y="59436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col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2208240" y="3505320"/>
            <a:ext cx="4268880" cy="398880"/>
            <a:chOff x="2208240" y="3505320"/>
            <a:chExt cx="4268880" cy="398880"/>
          </a:xfrm>
        </p:grpSpPr>
        <p:sp>
          <p:nvSpPr>
            <p:cNvPr id="64" name=""/>
            <p:cNvSpPr/>
            <p:nvPr/>
          </p:nvSpPr>
          <p:spPr>
            <a:xfrm>
              <a:off x="2208240" y="3581280"/>
              <a:ext cx="4268880" cy="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427560" y="3505320"/>
              <a:ext cx="304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00"/>
                  </a:solidFill>
                  <a:latin typeface="Times New Roman"/>
                </a:rPr>
                <a:t>Tra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2207880" y="3870360"/>
            <a:ext cx="4267080" cy="398880"/>
            <a:chOff x="2207880" y="3870360"/>
            <a:chExt cx="4267080" cy="398880"/>
          </a:xfrm>
        </p:grpSpPr>
        <p:sp>
          <p:nvSpPr>
            <p:cNvPr id="67" name=""/>
            <p:cNvSpPr/>
            <p:nvPr/>
          </p:nvSpPr>
          <p:spPr>
            <a:xfrm flipH="1">
              <a:off x="2207880" y="4267080"/>
              <a:ext cx="42670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425760" y="3870360"/>
              <a:ext cx="304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Protocol primitiv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1522440" y="3962520"/>
            <a:ext cx="4952880" cy="990360"/>
            <a:chOff x="1522440" y="3962520"/>
            <a:chExt cx="4952880" cy="990360"/>
          </a:xfrm>
        </p:grpSpPr>
        <p:sp>
          <p:nvSpPr>
            <p:cNvPr id="70" name=""/>
            <p:cNvSpPr/>
            <p:nvPr/>
          </p:nvSpPr>
          <p:spPr>
            <a:xfrm>
              <a:off x="1522440" y="3962520"/>
              <a:ext cx="0" cy="99036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1522440" y="4495680"/>
              <a:ext cx="4952880" cy="398880"/>
              <a:chOff x="1522440" y="4495680"/>
              <a:chExt cx="4952880" cy="398880"/>
            </a:xfrm>
          </p:grpSpPr>
          <p:sp>
            <p:nvSpPr>
              <p:cNvPr id="72" name=""/>
              <p:cNvSpPr/>
              <p:nvPr/>
            </p:nvSpPr>
            <p:spPr>
              <a:xfrm>
                <a:off x="3425760" y="4495680"/>
                <a:ext cx="3048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9900"/>
                    </a:solidFill>
                    <a:latin typeface="Times New Roman"/>
                  </a:rPr>
                  <a:t>duplicated primitiv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522440" y="4572000"/>
                <a:ext cx="4952880" cy="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" name=""/>
          <p:cNvGrpSpPr/>
          <p:nvPr/>
        </p:nvGrpSpPr>
        <p:grpSpPr>
          <a:xfrm>
            <a:off x="2741760" y="5105520"/>
            <a:ext cx="3733560" cy="398880"/>
            <a:chOff x="2741760" y="5105520"/>
            <a:chExt cx="3733560" cy="398880"/>
          </a:xfrm>
        </p:grpSpPr>
        <p:sp>
          <p:nvSpPr>
            <p:cNvPr id="75" name=""/>
            <p:cNvSpPr/>
            <p:nvPr/>
          </p:nvSpPr>
          <p:spPr>
            <a:xfrm>
              <a:off x="3427560" y="5105520"/>
              <a:ext cx="304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00"/>
                  </a:solidFill>
                  <a:latin typeface="Times New Roman"/>
                </a:rPr>
                <a:t>redirected primitiv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741760" y="5181480"/>
              <a:ext cx="3733560" cy="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295280" y="3429000"/>
            <a:ext cx="912960" cy="9907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TAPCaller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general concept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73040" y="3458880"/>
            <a:ext cx="8594640" cy="301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069"/>
                </a:solidFill>
                <a:latin typeface="ITC Officina Sans Book"/>
              </a:rPr>
              <a:t>On PC test system side:</a:t>
            </a:r>
            <a:endParaRPr b="0" lang="en-US" sz="3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7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test interface executable using the FRAME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700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connects using standard OS drivers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7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used by tools like xPanel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7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.. and of course by TAP2 &amp; PCO2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0" name=""/>
          <p:cNvSpPr/>
          <p:nvPr/>
        </p:nvSpPr>
        <p:spPr>
          <a:xfrm>
            <a:off x="473040" y="1295280"/>
            <a:ext cx="85946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069"/>
                </a:solidFill>
                <a:latin typeface="ITC Officina Sans Book"/>
              </a:rPr>
              <a:t>On stack si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test interface entity included in 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uses corresponding hardware driver for commun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TAPCaller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general concept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5760" y="3048120"/>
            <a:ext cx="859464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069"/>
                </a:solidFill>
                <a:latin typeface="ITC Officina Sans Book"/>
              </a:rPr>
              <a:t>PCO (Point of Control and Observation):</a:t>
            </a:r>
            <a:endParaRPr b="0" lang="en-US" sz="3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7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069"/>
                </a:solidFill>
                <a:latin typeface="ITC Officina Sans Book"/>
              </a:rPr>
              <a:t>tools cabable to stimulate the protocol stack and display traces and duplicated primitives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7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used here for logging and replaying test sessions 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3" name=""/>
          <p:cNvSpPr/>
          <p:nvPr/>
        </p:nvSpPr>
        <p:spPr>
          <a:xfrm>
            <a:off x="473040" y="1066680"/>
            <a:ext cx="85946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069"/>
                </a:solidFill>
                <a:latin typeface="ITC Officina Sans Book"/>
              </a:rPr>
              <a:t>TAP (Test Application Proces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program which executes test cases by sending, receiving and comparing primitives to/from the protocol 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5760" y="5105520"/>
            <a:ext cx="85946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069"/>
                </a:solidFill>
                <a:latin typeface="ITC Officina Sans Book"/>
              </a:rPr>
              <a:t>TAPCall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GUI-tool for easy handling TAP and P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660240" y="3657600"/>
            <a:ext cx="5446440" cy="1066680"/>
            <a:chOff x="660240" y="3657600"/>
            <a:chExt cx="5446440" cy="1066680"/>
          </a:xfrm>
        </p:grpSpPr>
        <p:sp>
          <p:nvSpPr>
            <p:cNvPr id="86" name=""/>
            <p:cNvSpPr/>
            <p:nvPr/>
          </p:nvSpPr>
          <p:spPr>
            <a:xfrm>
              <a:off x="4043520" y="3657600"/>
              <a:ext cx="2063160" cy="10666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0240" y="3657600"/>
              <a:ext cx="2888280" cy="10666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660240" y="2057400"/>
            <a:ext cx="4456080" cy="1600200"/>
            <a:chOff x="660240" y="2057400"/>
            <a:chExt cx="4456080" cy="1600200"/>
          </a:xfrm>
        </p:grpSpPr>
        <p:sp>
          <p:nvSpPr>
            <p:cNvPr id="89" name=""/>
            <p:cNvSpPr/>
            <p:nvPr/>
          </p:nvSpPr>
          <p:spPr>
            <a:xfrm>
              <a:off x="660240" y="2057400"/>
              <a:ext cx="1733040" cy="1600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Div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ntit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P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5360" y="3048120"/>
              <a:ext cx="107280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T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043520" y="3048120"/>
              <a:ext cx="107280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T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48520" y="3352680"/>
              <a:ext cx="495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660240" y="4724280"/>
            <a:ext cx="8582040" cy="1907640"/>
            <a:chOff x="660240" y="4724280"/>
            <a:chExt cx="8582040" cy="1907640"/>
          </a:xfrm>
        </p:grpSpPr>
        <p:sp>
          <p:nvSpPr>
            <p:cNvPr id="94" name=""/>
            <p:cNvSpPr/>
            <p:nvPr/>
          </p:nvSpPr>
          <p:spPr>
            <a:xfrm>
              <a:off x="4043520" y="5257800"/>
              <a:ext cx="5198760" cy="762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Windows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, Linux, 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60240" y="4724280"/>
              <a:ext cx="2887920" cy="1295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Nucwin, Nucleus,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043520" y="4724280"/>
              <a:ext cx="4184640" cy="533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VC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141560" y="609588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tocol st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59360" y="6172200"/>
              <a:ext cx="181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est syst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TAPCaller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general concept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020600"/>
            <a:ext cx="899172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The software layers: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043520" y="5257800"/>
            <a:ext cx="5198760" cy="7621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indow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Linux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60240" y="4724280"/>
            <a:ext cx="2887920" cy="129564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ucwin, Nucleu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43520" y="4724280"/>
            <a:ext cx="4184640" cy="5335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C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660240" y="3657600"/>
            <a:ext cx="5446440" cy="1066680"/>
            <a:chOff x="660240" y="3657600"/>
            <a:chExt cx="5446440" cy="1066680"/>
          </a:xfrm>
        </p:grpSpPr>
        <p:sp>
          <p:nvSpPr>
            <p:cNvPr id="105" name=""/>
            <p:cNvSpPr/>
            <p:nvPr/>
          </p:nvSpPr>
          <p:spPr>
            <a:xfrm>
              <a:off x="4043520" y="3657600"/>
              <a:ext cx="206316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60240" y="3657600"/>
              <a:ext cx="288828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660240" y="2057400"/>
            <a:ext cx="1733760" cy="16002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76440" y="3048120"/>
            <a:ext cx="1071720" cy="60948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43520" y="3048120"/>
            <a:ext cx="1073160" cy="60948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48160" y="3352680"/>
            <a:ext cx="495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41560" y="60958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col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59360" y="6172200"/>
            <a:ext cx="18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174080" y="3657600"/>
            <a:ext cx="938160" cy="106668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26360" y="3505320"/>
            <a:ext cx="868320" cy="106668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TAPCaller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general concept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520" y="1020600"/>
            <a:ext cx="899172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The software layers: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484960" y="914400"/>
            <a:ext cx="2819160" cy="3505320"/>
            <a:chOff x="5484960" y="914400"/>
            <a:chExt cx="2819160" cy="3505320"/>
          </a:xfrm>
        </p:grpSpPr>
        <p:grpSp>
          <p:nvGrpSpPr>
            <p:cNvPr id="118" name=""/>
            <p:cNvGrpSpPr/>
            <p:nvPr/>
          </p:nvGrpSpPr>
          <p:grpSpPr>
            <a:xfrm>
              <a:off x="5484960" y="914400"/>
              <a:ext cx="2819160" cy="3505320"/>
              <a:chOff x="5484960" y="914400"/>
              <a:chExt cx="2819160" cy="3505320"/>
            </a:xfrm>
          </p:grpSpPr>
          <p:sp>
            <p:nvSpPr>
              <p:cNvPr id="119" name=""/>
              <p:cNvSpPr/>
              <p:nvPr/>
            </p:nvSpPr>
            <p:spPr>
              <a:xfrm>
                <a:off x="7478640" y="3352680"/>
                <a:ext cx="825480" cy="1067040"/>
              </a:xfrm>
              <a:prstGeom prst="rect">
                <a:avLst/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PC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view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484960" y="914400"/>
                <a:ext cx="2678040" cy="6094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CCDedi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846920" y="1523880"/>
                <a:ext cx="0" cy="18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5865840" y="15238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199120" y="1905120"/>
            <a:ext cx="4048200" cy="3352680"/>
            <a:chOff x="5199120" y="1905120"/>
            <a:chExt cx="4048200" cy="3352680"/>
          </a:xfrm>
        </p:grpSpPr>
        <p:grpSp>
          <p:nvGrpSpPr>
            <p:cNvPr id="124" name=""/>
            <p:cNvGrpSpPr/>
            <p:nvPr/>
          </p:nvGrpSpPr>
          <p:grpSpPr>
            <a:xfrm>
              <a:off x="5199120" y="1905120"/>
              <a:ext cx="1898640" cy="2819160"/>
              <a:chOff x="5199120" y="1905120"/>
              <a:chExt cx="1898640" cy="2819160"/>
            </a:xfrm>
          </p:grpSpPr>
          <p:sp>
            <p:nvSpPr>
              <p:cNvPr id="125" name=""/>
              <p:cNvSpPr/>
              <p:nvPr/>
            </p:nvSpPr>
            <p:spPr>
              <a:xfrm>
                <a:off x="5199120" y="1905120"/>
                <a:ext cx="907920" cy="175248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cc00"/>
                    </a:solidFill>
                    <a:latin typeface="Times New Roman"/>
                  </a:rPr>
                  <a:t>TAP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167520" y="3657600"/>
                <a:ext cx="930240" cy="1066680"/>
              </a:xfrm>
              <a:prstGeom prst="rect">
                <a:avLst/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PC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serv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8352000" y="1905120"/>
              <a:ext cx="895320" cy="335268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T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all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TAPCaller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preparations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520" y="1020600"/>
            <a:ext cx="8991720" cy="111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069"/>
                </a:solidFill>
                <a:latin typeface="ITC Officina Sans Book"/>
              </a:rPr>
              <a:t>Build of necessary executables:</a:t>
            </a:r>
            <a:endParaRPr b="0" lang="en-US" sz="32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30" name=""/>
          <p:cNvSpPr/>
          <p:nvPr/>
        </p:nvSpPr>
        <p:spPr>
          <a:xfrm>
            <a:off x="379440" y="1676520"/>
            <a:ext cx="899172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069"/>
                </a:solidFill>
                <a:latin typeface="ITC Officina Sans Book"/>
              </a:rPr>
              <a:t>before testing some executables have to be (re)build after each run of makcd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79440" y="2819520"/>
            <a:ext cx="8991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069"/>
                </a:solidFill>
                <a:latin typeface="ITC Officina Sans Book"/>
              </a:rPr>
              <a:t>the protocol stack – in any case ;-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79440" y="3429000"/>
            <a:ext cx="8991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0000"/>
          </a:bodyPr>
          <a:p>
            <a:pPr lvl="2" marL="1028520" indent="-205560">
              <a:lnSpc>
                <a:spcPct val="10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069"/>
                </a:solidFill>
                <a:latin typeface="ITC Officina Sans Book"/>
              </a:rPr>
              <a:t>tap2_{gprs|gsm}.exe </a:t>
            </a: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(ClearCase: \gpf\BIN\tap2_xxx.ex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40000" indent="-20556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ITC Officina Sans Boo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old TAP for usage without PCO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40000" indent="-20556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ITC Officina Sans Boo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call gnumake in \gpf\T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79440" y="4952880"/>
            <a:ext cx="8991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lvl="2" marL="1040040" indent="-207720">
              <a:lnSpc>
                <a:spcPct val="10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069"/>
                </a:solidFill>
                <a:latin typeface="ITC Officina Sans Book"/>
              </a:rPr>
              <a:t>ccddata_dll.dll </a:t>
            </a: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(ClearCase: \gpf\BIN\ccddata_dll.d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55840" indent="-20772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ITC Officina Sans Boo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used by new TAP2 (tap2.exe) and PCO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55840" indent="-20772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ITC Officina Sans Boo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automatically build by makcdg-scrip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TAPCaller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preparations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020600"/>
            <a:ext cx="8991720" cy="111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069"/>
                </a:solidFill>
                <a:latin typeface="ITC Officina Sans Book"/>
              </a:rPr>
              <a:t>Optional modification of test cases:</a:t>
            </a:r>
            <a:endParaRPr b="0" lang="en-US" sz="32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36" name=""/>
          <p:cNvSpPr/>
          <p:nvPr/>
        </p:nvSpPr>
        <p:spPr>
          <a:xfrm>
            <a:off x="379440" y="1676520"/>
            <a:ext cx="899172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069"/>
                </a:solidFill>
                <a:latin typeface="ITC Officina Sans Book"/>
              </a:rPr>
              <a:t>To receive not only traces but also duplicated primitives while testing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227160" y="2666880"/>
            <a:ext cx="9372600" cy="3429000"/>
            <a:chOff x="227160" y="2666880"/>
            <a:chExt cx="9372600" cy="3429000"/>
          </a:xfrm>
        </p:grpSpPr>
        <p:sp>
          <p:nvSpPr>
            <p:cNvPr id="138" name=""/>
            <p:cNvSpPr/>
            <p:nvPr/>
          </p:nvSpPr>
          <p:spPr>
            <a:xfrm>
              <a:off x="227160" y="4114800"/>
              <a:ext cx="4343400" cy="160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…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COMMAND (“L2R REDIRECT MMI TAP”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|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|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  |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COMMAND (“TAP REDIRECT TAP L2R”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…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79440" y="2666880"/>
              <a:ext cx="8915400" cy="11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0063ce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3069"/>
                  </a:solidFill>
                  <a:latin typeface="ITC Officina Sans Book"/>
                </a:rPr>
                <a:t>... extra system primitives have to be inserted into the test document (e.g. l2r_steps.cpp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103720" y="3809880"/>
              <a:ext cx="4496040" cy="228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…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COMMAND (”L2R DUPLICATE MMI PCO”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COMMAND (“L2R REDIRECT MMI TAP”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|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|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  |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COMMAND (“TAP DUPLICATE TAP PCO”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COMMAND (“TAP REDIRECT TAP L2R”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…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0560" y="4876920"/>
              <a:ext cx="533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3T12:19:08Z</dcterms:created>
  <dc:creator>rk</dc:creator>
  <dc:description/>
  <dc:language>en-US</dc:language>
  <cp:lastModifiedBy>Ronny Kiessling</cp:lastModifiedBy>
  <cp:lastPrinted>2002-01-14T14:27:16Z</cp:lastPrinted>
  <dcterms:modified xsi:type="dcterms:W3CDTF">2003-09-10T20:10:17Z</dcterms:modified>
  <cp:revision>306</cp:revision>
  <dc:subject/>
  <dc:title>xPanel &amp; PCO2</dc:title>
</cp:coreProperties>
</file>