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60D7-F0C3-4681-8AE5-C88AE2D5D61A}" type="slidenum">
              <a:rPr b="0" lang="en-US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band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BC8208BA-A4E3-4E04-AF57-C5009513A893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band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81080" y="2514600"/>
            <a:ext cx="540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1960" y="1828800"/>
            <a:ext cx="6823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Memor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 Memor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handling (HISR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2120" y="1143000"/>
            <a:ext cx="78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-time Operating System (Nucleus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994280" y="4114800"/>
            <a:ext cx="2813040" cy="2362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94280" y="2666880"/>
            <a:ext cx="3868560" cy="1524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94280" y="2209680"/>
            <a:ext cx="386856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92120" y="1676160"/>
            <a:ext cx="2743200" cy="2438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 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2280" y="914400"/>
            <a:ext cx="47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1240" y="2362320"/>
            <a:ext cx="4641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32240" y="990720"/>
            <a:ext cx="4360680" cy="7077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98720" y="3657600"/>
            <a:ext cx="1828800" cy="8625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S Lay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98720" y="5105520"/>
            <a:ext cx="1828800" cy="8625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O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1676520"/>
            <a:ext cx="0" cy="53316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3120" y="3048120"/>
            <a:ext cx="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13120" y="4495680"/>
            <a:ext cx="0" cy="60984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35320" y="1204920"/>
            <a:ext cx="56340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I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30880" y="3657600"/>
            <a:ext cx="56340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65480" y="2209680"/>
            <a:ext cx="2462040" cy="8625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30880" y="2209680"/>
            <a:ext cx="56340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516480" y="1676160"/>
            <a:ext cx="0" cy="53316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0880" y="2666880"/>
            <a:ext cx="1828800" cy="1524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2120" y="1905120"/>
            <a:ext cx="1689120" cy="23619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creat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init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exit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primitiv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signal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timeout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config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run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92120" y="1218960"/>
            <a:ext cx="2743200" cy="685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81240" y="1676160"/>
            <a:ext cx="1617480" cy="2438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59680" y="4876920"/>
            <a:ext cx="1547640" cy="1600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T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Tim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Memor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os_...Drv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94280" y="3657600"/>
            <a:ext cx="2813040" cy="1219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59680" y="2590920"/>
            <a:ext cx="2603160" cy="1600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c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Communic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t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Tim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Semaphor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m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Memor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d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Driv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o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Output/Trac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30880" y="4114800"/>
            <a:ext cx="1828800" cy="2362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2120" y="1295280"/>
            <a:ext cx="788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ntity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6440" y="105552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tocol Stack Entity Interface (PEI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2120" y="1600200"/>
            <a:ext cx="7034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create() - export entity creation parameter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init() - open communication channels, initialize ent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exit() - close communication channels, free resourc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primitive() - process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timeout() - process timeout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signal() - process signal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config() - dynamic entity configur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run() - main loop for active body configur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ntity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7160" y="1055520"/>
            <a:ext cx="63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ameters exported by pei_create(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84240" y="1676520"/>
            <a:ext cx="7034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c T_PEI_INFO pei_info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NAME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-table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init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exit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primitive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timeout,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,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_signal,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,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_run,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,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_config,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monitor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STACK_SIZE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QUEUE_ENTRIES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PRIORITY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TIMERS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PROC_TYP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ACTIVE/PASSIVE body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9680" y="903240"/>
            <a:ext cx="68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stem Startup (1) – Root Task Contex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5360" y="4267080"/>
            <a:ext cx="7034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pei_create() functions from task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asks with the parameters exported by pei_create()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3240" y="167652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us initializ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f Application_Initialize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f StartFrame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25360" y="3048120"/>
            <a:ext cx="365760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Fr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mory pool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global tabl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25360" y="5775480"/>
            <a:ext cx="31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as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8960" y="903240"/>
            <a:ext cx="73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stem Startup (2) – Created Task Contex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1960" y="1523880"/>
            <a:ext cx="743904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kEntry ( TaskHandle ) called by the RTO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input queue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 initialization -&gt; pei_init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ACTIVE_BODY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i_run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1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PASSIVE_BODY */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for messag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 messag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3240" y="5410080"/>
            <a:ext cx="661212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ame task entry function for all tas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ask has its own stack, stack size and prior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92120" y="8031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sk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9200" y="901800"/>
            <a:ext cx="635292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sim_list[] 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sim_pei_create,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NULL,                NULL,   0 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mmgmm_list[] 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mm_pei_create, 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gmm_pei_create,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NULL,                NULL,   (int)"MMGMM" 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rr_list[] 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rr_pei_create, 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NULL,                NULL,   0 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*ComponentTables[]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sim_list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mmgmm_list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rr_list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6440" y="90324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ctive/Passive Bod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2057400"/>
            <a:ext cx="6612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2120" y="1905120"/>
            <a:ext cx="8423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ve Bod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ssive Body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Loop Loc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Loop Func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i_run(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_TaskEntry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ctionali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er define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iting for messag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ing messag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1960" y="2286000"/>
            <a:ext cx="703440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19320" y="1981080"/>
            <a:ext cx="0" cy="1905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1981080"/>
            <a:ext cx="0" cy="1905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2120" y="48769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lection of active or passive is done with flags exported by pei_create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5720" y="903240"/>
            <a:ext cx="32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reate New Ent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3240" y="175248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pei interface by using the template xxx_pei.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ddress of xxx_pei_create() to task li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ource files for further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2120" y="1447920"/>
            <a:ext cx="796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7520" y="90324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2280" y="1658880"/>
            <a:ext cx="849312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stack entities run in their own RTOS task or may be     grouped in one task, e.g. CC, SS, SMS, SM are grouped to the CM task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 are created at initializ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priorities set during initializ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 is done by RTOS (preemptive multitasking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4495680"/>
            <a:ext cx="8580600" cy="12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as shared DLL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applications are dynamically started and stopp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2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Memory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8240" y="90324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Memory Management (1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3240" y="1676520"/>
            <a:ext cx="805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sized buffers of different sizes -&gt;xxxconst.h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memory 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(siz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m_new(size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FREE(pt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m_free(ptr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4191120"/>
            <a:ext cx="457200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76520" y="472428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5257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3962520"/>
            <a:ext cx="389736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0080" y="3581280"/>
            <a:ext cx="17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4191120"/>
            <a:ext cx="54468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43434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ITC Officina Sans Book"/>
              </a:rPr>
              <a:t>cn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Memory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8240" y="90324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Memory Management (2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3240" y="1676520"/>
            <a:ext cx="790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primitives: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C(nam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c_new(size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REE(pt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c_free(ptr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84240" y="3733920"/>
            <a:ext cx="576900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390760" y="426708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79800" y="47242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3505320"/>
            <a:ext cx="342900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2240" y="3124080"/>
            <a:ext cx="17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84240" y="3733920"/>
            <a:ext cx="140652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25360" y="3809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55520" y="5410080"/>
            <a:ext cx="66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mitive header is initialized by the VSI function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2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Memory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8240" y="90324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Memory Management (3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85680" y="3733920"/>
            <a:ext cx="576756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392200" y="426672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81240" y="457200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3505320"/>
            <a:ext cx="18586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3680" y="3124080"/>
            <a:ext cx="17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85680" y="3733920"/>
            <a:ext cx="140652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28600" y="3809880"/>
            <a:ext cx="9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92200" y="3809880"/>
            <a:ext cx="1828800" cy="38124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21000" y="3505320"/>
            <a:ext cx="20275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3440" y="3124080"/>
            <a:ext cx="17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3240" y="1523880"/>
            <a:ext cx="689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pimitive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PO_ALLOC(name,gues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i_drpo_new(size,opc,gues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38760" y="3809880"/>
            <a:ext cx="1547280" cy="1099440"/>
            <a:chOff x="3938760" y="3809880"/>
            <a:chExt cx="1547280" cy="1099440"/>
          </a:xfrm>
        </p:grpSpPr>
        <p:sp>
          <p:nvSpPr>
            <p:cNvPr id="285" name=""/>
            <p:cNvSpPr/>
            <p:nvPr/>
          </p:nvSpPr>
          <p:spPr>
            <a:xfrm>
              <a:off x="4219920" y="3809880"/>
              <a:ext cx="1266120" cy="38124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38760" y="3962520"/>
              <a:ext cx="56268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219920" y="4266720"/>
              <a:ext cx="0" cy="38124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08960" y="4572000"/>
              <a:ext cx="5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tr1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33240" y="2362320"/>
            <a:ext cx="6612120" cy="3918600"/>
            <a:chOff x="633240" y="2362320"/>
            <a:chExt cx="6612120" cy="3918600"/>
          </a:xfrm>
        </p:grpSpPr>
        <p:grpSp>
          <p:nvGrpSpPr>
            <p:cNvPr id="290" name=""/>
            <p:cNvGrpSpPr/>
            <p:nvPr/>
          </p:nvGrpSpPr>
          <p:grpSpPr>
            <a:xfrm>
              <a:off x="984600" y="3962520"/>
              <a:ext cx="5064480" cy="2318400"/>
              <a:chOff x="984600" y="3962520"/>
              <a:chExt cx="5064480" cy="2318400"/>
            </a:xfrm>
          </p:grpSpPr>
          <p:sp>
            <p:nvSpPr>
              <p:cNvPr id="291" name=""/>
              <p:cNvSpPr/>
              <p:nvPr/>
            </p:nvSpPr>
            <p:spPr>
              <a:xfrm>
                <a:off x="984600" y="5105520"/>
                <a:ext cx="5064480" cy="533160"/>
              </a:xfrm>
              <a:prstGeom prst="rec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984600" y="5105520"/>
                <a:ext cx="1406880" cy="533160"/>
              </a:xfrm>
              <a:prstGeom prst="rec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26800" y="518148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91480" y="5181480"/>
                <a:ext cx="3024360" cy="381240"/>
              </a:xfrm>
              <a:prstGeom prst="rec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984600" y="3962520"/>
                <a:ext cx="1195920" cy="114300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391120" y="3962520"/>
                <a:ext cx="703080" cy="121896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2391480" y="5638320"/>
                <a:ext cx="0" cy="38124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80520" y="5943600"/>
                <a:ext cx="56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tr2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633240" y="2362320"/>
              <a:ext cx="6612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_ALLOC(ptr,size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si_dp_new(ptr,size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33240" y="2743200"/>
            <a:ext cx="612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(ptr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i_free(ptr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2280" y="1143000"/>
            <a:ext cx="6892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put Message Queue for each Ent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low prior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high prior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between Entities with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a memory partition (PALLOC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primitive data in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partition address to destination queue (PSEND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partition address from input queu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primitive - Call pei_primitive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artition (PFREE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9600" y="83808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ample Interprocess Communic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47640" y="1752480"/>
            <a:ext cx="6612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3280" y="1587600"/>
            <a:ext cx="140796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3280" y="166356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3280" y="173988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3280" y="2197080"/>
            <a:ext cx="1407960" cy="8380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3280" y="3187800"/>
            <a:ext cx="1407960" cy="12952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3280" y="4635360"/>
            <a:ext cx="1407960" cy="16765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3280" y="234936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3280" y="250200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3280" y="349236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3280" y="379728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3280" y="524520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3280" y="585468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9680" y="120636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llocate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6440" y="1892160"/>
            <a:ext cx="1054440" cy="3049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76440" y="227340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95640" y="239220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46640" y="3416400"/>
            <a:ext cx="1687320" cy="3808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33960" y="3187800"/>
            <a:ext cx="985680" cy="8380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76440" y="2730600"/>
            <a:ext cx="0" cy="3045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76440" y="3035160"/>
            <a:ext cx="14767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341640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30960" y="2697120"/>
            <a:ext cx="20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end Primitiv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0960" y="185904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Store Primitive Data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53160" y="303516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3440" y="124920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tion Poo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15120" y="410220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Receive Primitiv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59680" y="494028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Process Primitiv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5280" y="5473800"/>
            <a:ext cx="26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eallocate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76440" y="4940280"/>
            <a:ext cx="1054440" cy="3049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53160" y="379728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76440" y="4178160"/>
            <a:ext cx="14767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65480" y="437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76440" y="471168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76440" y="417816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2320" y="1852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2240" y="341640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376440" y="143460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81240" y="3263760"/>
            <a:ext cx="2095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390760" y="1434960"/>
            <a:ext cx="0" cy="1828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76440" y="532116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81240" y="3416400"/>
            <a:ext cx="2095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90760" y="3416400"/>
            <a:ext cx="0" cy="22860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87680" y="1206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90760" y="1434960"/>
            <a:ext cx="2113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65480" y="1434960"/>
            <a:ext cx="210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02080" y="5473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90760" y="5702400"/>
            <a:ext cx="2113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65480" y="5702400"/>
            <a:ext cx="210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430880" y="2044800"/>
            <a:ext cx="3520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71080" y="18525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82960" y="494028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30880" y="5092560"/>
            <a:ext cx="3520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77720" y="1020600"/>
            <a:ext cx="79329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ity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miti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struc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numb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input queue per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37200" y="2108160"/>
            <a:ext cx="209880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ity =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5880" y="3975120"/>
            <a:ext cx="209880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ity =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39160" y="2997360"/>
            <a:ext cx="0" cy="9651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39160" y="4902120"/>
            <a:ext cx="0" cy="9651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139160" y="1143000"/>
            <a:ext cx="0" cy="9651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83160" y="2577960"/>
            <a:ext cx="1442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3160" y="2514600"/>
            <a:ext cx="1442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4406760"/>
            <a:ext cx="87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92640" y="4470480"/>
            <a:ext cx="87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05240" y="4483080"/>
            <a:ext cx="0" cy="1270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95760" y="2590920"/>
            <a:ext cx="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95760" y="1257480"/>
            <a:ext cx="0" cy="126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70800" y="3022560"/>
            <a:ext cx="0" cy="330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92640" y="3340080"/>
            <a:ext cx="0" cy="1054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70800" y="3645000"/>
            <a:ext cx="0" cy="330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181120" y="3340080"/>
            <a:ext cx="1489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606560" y="3645000"/>
            <a:ext cx="2050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32040" y="33004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fa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32040" y="14335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44640" y="51800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3640" y="45403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5040" y="2511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1480" y="9144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ITC Officina Sans Book"/>
              </a:rPr>
              <a:t>Primitive Process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2280" y="1676520"/>
            <a:ext cx="661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in each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code (opc) 16/32 bi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P numb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numb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ink/downlin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/system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imer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6800" y="90324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2120" y="1371600"/>
            <a:ext cx="74325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r start request by an entit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starts RTOS tim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NTION: timer index has to be in the range between 0 and the number of timers exported by pei_creat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ir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OS calls timeout routine in the 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calls pei_timeout() in the bod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up/slow down/suppres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2120" y="4876920"/>
            <a:ext cx="8651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sta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 T_HANDLE caller, USHORT index, T_TIME tim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sto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 T_HANDLE caller, USHORT index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status ( T_HANDLE caller, USHORT index, T_TIME *tim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config (T_HANDLE caller, USHORT index, UBYTE mode, ULONG valu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9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emaphore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8600" y="903240"/>
            <a:ext cx="43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phore Managemen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" y="1371600"/>
            <a:ext cx="6612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emaphor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if not existing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handle if existing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oun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2280" y="4419720"/>
            <a:ext cx="7807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_HANDLE vsi_s_open ( T_HANDLE caller, char *name, USHORT count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get ( T_HANDLE caller, T_HANDLE handl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release ( T_HANDLE caller, T_HANDLE handl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status (T_HANDLE caller, T_HANDLE handle, USHORT *count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2120" y="1371600"/>
            <a:ext cx="804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440" y="90324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2120" y="1523880"/>
            <a:ext cx="7508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rection and duplication of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configuration via 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s available to select a subset of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2120" y="3276720"/>
            <a:ext cx="85107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DUPLICATE MM P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rimitives RR sends to MM are duplicated to PCO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REDIRECT ALL TA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rimitives RR sends are redirected to T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 DUPLICATE RR 0000011000000001 PCO      duplicate RR_ACTIVATE_REQ to PCO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REDIRECT MM NU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rimitives RR sends to MM are discarde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REDIRECT CL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 all redirections of R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7520" y="90324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Observ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2120" y="1523880"/>
            <a:ext cx="66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of primitive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3240" y="2629080"/>
            <a:ext cx="4149720" cy="3390840"/>
            <a:chOff x="633240" y="2629080"/>
            <a:chExt cx="4149720" cy="3390840"/>
          </a:xfrm>
        </p:grpSpPr>
        <p:sp>
          <p:nvSpPr>
            <p:cNvPr id="401" name=""/>
            <p:cNvSpPr/>
            <p:nvPr/>
          </p:nvSpPr>
          <p:spPr>
            <a:xfrm>
              <a:off x="633240" y="2629080"/>
              <a:ext cx="4149720" cy="3390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7920" y="3344760"/>
              <a:ext cx="1828440" cy="55260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68400" y="346716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17920" y="4746600"/>
              <a:ext cx="1828440" cy="50976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93400" y="4848120"/>
              <a:ext cx="77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73480" y="3797280"/>
              <a:ext cx="1201320" cy="10540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57080" y="4168800"/>
              <a:ext cx="68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55080" y="4324320"/>
              <a:ext cx="1298160" cy="3240"/>
            </a:xfrm>
            <a:custGeom>
              <a:avLst/>
              <a:gdLst/>
              <a:ahLst/>
              <a:rect l="l" t="t" r="r" b="b"/>
              <a:pathLst>
                <a:path w="484" h="0">
                  <a:moveTo>
                    <a:pt x="484" y="0"/>
                  </a:moveTo>
                  <a:lnTo>
                    <a:pt x="24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37400" y="423864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50160" y="3897360"/>
              <a:ext cx="363240" cy="849240"/>
            </a:xfrm>
            <a:custGeom>
              <a:avLst/>
              <a:gdLst/>
              <a:ahLst/>
              <a:rect l="l" t="t" r="r" b="b"/>
              <a:pathLst>
                <a:path w="136" h="229">
                  <a:moveTo>
                    <a:pt x="34" y="195"/>
                  </a:moveTo>
                  <a:lnTo>
                    <a:pt x="0" y="195"/>
                  </a:lnTo>
                  <a:lnTo>
                    <a:pt x="68" y="229"/>
                  </a:lnTo>
                  <a:lnTo>
                    <a:pt x="136" y="195"/>
                  </a:lnTo>
                  <a:lnTo>
                    <a:pt x="102" y="195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9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50160" y="2833560"/>
              <a:ext cx="363240" cy="51120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34" y="104"/>
                  </a:moveTo>
                  <a:lnTo>
                    <a:pt x="0" y="104"/>
                  </a:lnTo>
                  <a:lnTo>
                    <a:pt x="68" y="138"/>
                  </a:lnTo>
                  <a:lnTo>
                    <a:pt x="136" y="104"/>
                  </a:lnTo>
                  <a:lnTo>
                    <a:pt x="102" y="104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50160" y="5256360"/>
              <a:ext cx="363240" cy="50796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34" y="103"/>
                  </a:moveTo>
                  <a:lnTo>
                    <a:pt x="0" y="103"/>
                  </a:lnTo>
                  <a:lnTo>
                    <a:pt x="68" y="137"/>
                  </a:lnTo>
                  <a:lnTo>
                    <a:pt x="136" y="103"/>
                  </a:lnTo>
                  <a:lnTo>
                    <a:pt x="102" y="103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133960" y="2590920"/>
            <a:ext cx="351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DUPLICATE MM 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DUPLICATE RR 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6440" y="90324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Tes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2120" y="1523880"/>
            <a:ext cx="66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of a single entity in the 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33960" y="2286000"/>
            <a:ext cx="2884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CC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RR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REDIRECT MM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 REDIRECT MM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61960" y="2286000"/>
            <a:ext cx="4151160" cy="4038480"/>
            <a:chOff x="561960" y="2286000"/>
            <a:chExt cx="4151160" cy="4038480"/>
          </a:xfrm>
        </p:grpSpPr>
        <p:sp>
          <p:nvSpPr>
            <p:cNvPr id="419" name=""/>
            <p:cNvSpPr/>
            <p:nvPr/>
          </p:nvSpPr>
          <p:spPr>
            <a:xfrm>
              <a:off x="561960" y="2286000"/>
              <a:ext cx="4151160" cy="4038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640" y="4027320"/>
              <a:ext cx="1830600" cy="56232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97480" y="415116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2920" y="5181480"/>
              <a:ext cx="1830600" cy="50796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93400" y="5257800"/>
              <a:ext cx="71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04720" y="4481640"/>
              <a:ext cx="1201680" cy="105732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88320" y="485604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76360" y="5715000"/>
              <a:ext cx="367920" cy="50652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35" y="103"/>
                  </a:moveTo>
                  <a:lnTo>
                    <a:pt x="0" y="103"/>
                  </a:lnTo>
                  <a:lnTo>
                    <a:pt x="69" y="136"/>
                  </a:lnTo>
                  <a:lnTo>
                    <a:pt x="137" y="103"/>
                  </a:lnTo>
                  <a:lnTo>
                    <a:pt x="103" y="103"/>
                  </a:lnTo>
                  <a:lnTo>
                    <a:pt x="103" y="34"/>
                  </a:lnTo>
                  <a:lnTo>
                    <a:pt x="137" y="34"/>
                  </a:lnTo>
                  <a:lnTo>
                    <a:pt x="69" y="0"/>
                  </a:lnTo>
                  <a:lnTo>
                    <a:pt x="0" y="34"/>
                  </a:lnTo>
                  <a:lnTo>
                    <a:pt x="35" y="34"/>
                  </a:lnTo>
                  <a:lnTo>
                    <a:pt x="35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62480" y="4730760"/>
              <a:ext cx="1437840" cy="280800"/>
            </a:xfrm>
            <a:custGeom>
              <a:avLst/>
              <a:gdLst/>
              <a:ahLst/>
              <a:rect l="l" t="t" r="r" b="b"/>
              <a:pathLst>
                <a:path w="536" h="76">
                  <a:moveTo>
                    <a:pt x="0" y="0"/>
                  </a:moveTo>
                  <a:lnTo>
                    <a:pt x="0" y="76"/>
                  </a:lnTo>
                  <a:lnTo>
                    <a:pt x="536" y="7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02360" y="4589640"/>
              <a:ext cx="118440" cy="163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4"/>
                  </a:moveTo>
                  <a:lnTo>
                    <a:pt x="22" y="0"/>
                  </a:lnTo>
                  <a:lnTo>
                    <a:pt x="4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84120" y="492768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62480" y="3605040"/>
              <a:ext cx="1418760" cy="1151280"/>
            </a:xfrm>
            <a:custGeom>
              <a:avLst/>
              <a:gdLst/>
              <a:ahLst/>
              <a:rect l="l" t="t" r="r" b="b"/>
              <a:pathLst>
                <a:path w="529" h="310">
                  <a:moveTo>
                    <a:pt x="529" y="310"/>
                  </a:moveTo>
                  <a:lnTo>
                    <a:pt x="455" y="310"/>
                  </a:lnTo>
                  <a:lnTo>
                    <a:pt x="455" y="155"/>
                  </a:lnTo>
                  <a:lnTo>
                    <a:pt x="455" y="0"/>
                  </a:lnTo>
                  <a:lnTo>
                    <a:pt x="0" y="0"/>
                  </a:lnTo>
                  <a:lnTo>
                    <a:pt x="0" y="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68280" y="4673520"/>
              <a:ext cx="120240" cy="1634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2360" y="3860640"/>
              <a:ext cx="118440" cy="1666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44" y="0"/>
                  </a:moveTo>
                  <a:lnTo>
                    <a:pt x="22" y="45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2920" y="2971800"/>
              <a:ext cx="1830600" cy="50796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64320" y="304812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6360" y="2438280"/>
              <a:ext cx="367920" cy="50652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35" y="103"/>
                  </a:moveTo>
                  <a:lnTo>
                    <a:pt x="0" y="103"/>
                  </a:lnTo>
                  <a:lnTo>
                    <a:pt x="69" y="136"/>
                  </a:lnTo>
                  <a:lnTo>
                    <a:pt x="137" y="103"/>
                  </a:lnTo>
                  <a:lnTo>
                    <a:pt x="103" y="103"/>
                  </a:lnTo>
                  <a:lnTo>
                    <a:pt x="103" y="34"/>
                  </a:lnTo>
                  <a:lnTo>
                    <a:pt x="137" y="34"/>
                  </a:lnTo>
                  <a:lnTo>
                    <a:pt x="69" y="0"/>
                  </a:lnTo>
                  <a:lnTo>
                    <a:pt x="0" y="34"/>
                  </a:lnTo>
                  <a:lnTo>
                    <a:pt x="35" y="34"/>
                  </a:lnTo>
                  <a:lnTo>
                    <a:pt x="35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8600" y="90324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Manipul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2120" y="1523880"/>
            <a:ext cx="66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pulation of primitive content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05240" y="2819520"/>
            <a:ext cx="3252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REDIRECT MM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RR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33240" y="2776680"/>
            <a:ext cx="4149720" cy="3387600"/>
            <a:chOff x="633240" y="2776680"/>
            <a:chExt cx="4149720" cy="3387600"/>
          </a:xfrm>
        </p:grpSpPr>
        <p:sp>
          <p:nvSpPr>
            <p:cNvPr id="441" name=""/>
            <p:cNvSpPr/>
            <p:nvPr/>
          </p:nvSpPr>
          <p:spPr>
            <a:xfrm>
              <a:off x="633240" y="2776680"/>
              <a:ext cx="4149720" cy="3387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7920" y="3505320"/>
              <a:ext cx="1828440" cy="5428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47280" y="365760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7920" y="4897440"/>
              <a:ext cx="1828440" cy="5032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17840" y="502920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73480" y="3948120"/>
              <a:ext cx="1201320" cy="104940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04440" y="4343400"/>
              <a:ext cx="77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50160" y="2981160"/>
              <a:ext cx="363240" cy="51120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34" y="104"/>
                  </a:moveTo>
                  <a:lnTo>
                    <a:pt x="0" y="104"/>
                  </a:lnTo>
                  <a:lnTo>
                    <a:pt x="68" y="138"/>
                  </a:lnTo>
                  <a:lnTo>
                    <a:pt x="136" y="104"/>
                  </a:lnTo>
                  <a:lnTo>
                    <a:pt x="102" y="104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50160" y="5400720"/>
              <a:ext cx="363240" cy="51120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34" y="104"/>
                  </a:moveTo>
                  <a:lnTo>
                    <a:pt x="0" y="104"/>
                  </a:lnTo>
                  <a:lnTo>
                    <a:pt x="68" y="138"/>
                  </a:lnTo>
                  <a:lnTo>
                    <a:pt x="136" y="104"/>
                  </a:lnTo>
                  <a:lnTo>
                    <a:pt x="102" y="104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31960" y="4556160"/>
              <a:ext cx="1421280" cy="191880"/>
            </a:xfrm>
            <a:custGeom>
              <a:avLst/>
              <a:gdLst/>
              <a:ahLst/>
              <a:rect l="l" t="t" r="r" b="b"/>
              <a:pathLst>
                <a:path w="530" h="52">
                  <a:moveTo>
                    <a:pt x="0" y="52"/>
                  </a:moveTo>
                  <a:lnTo>
                    <a:pt x="0" y="0"/>
                  </a:lnTo>
                  <a:lnTo>
                    <a:pt x="53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70400" y="473076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0"/>
                  </a:moveTo>
                  <a:lnTo>
                    <a:pt x="23" y="4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37400" y="4475160"/>
              <a:ext cx="120240" cy="16200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31960" y="4192560"/>
              <a:ext cx="1421280" cy="196920"/>
            </a:xfrm>
            <a:custGeom>
              <a:avLst/>
              <a:gdLst/>
              <a:ahLst/>
              <a:rect l="l" t="t" r="r" b="b"/>
              <a:pathLst>
                <a:path w="530" h="53">
                  <a:moveTo>
                    <a:pt x="0" y="0"/>
                  </a:moveTo>
                  <a:lnTo>
                    <a:pt x="0" y="53"/>
                  </a:lnTo>
                  <a:lnTo>
                    <a:pt x="530" y="5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70400" y="4048200"/>
              <a:ext cx="120240" cy="1634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44"/>
                  </a:moveTo>
                  <a:lnTo>
                    <a:pt x="23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37400" y="430380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6800" y="90324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Simul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2120" y="1523880"/>
            <a:ext cx="773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entities on different platforms (target, PC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33960" y="2590920"/>
            <a:ext cx="3517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RR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CC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 REDIRECT MM XM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REDIRECT MM XM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633240" y="2590920"/>
            <a:ext cx="4149720" cy="3390840"/>
            <a:chOff x="633240" y="2590920"/>
            <a:chExt cx="4149720" cy="3390840"/>
          </a:xfrm>
        </p:grpSpPr>
        <p:sp>
          <p:nvSpPr>
            <p:cNvPr id="461" name=""/>
            <p:cNvSpPr/>
            <p:nvPr/>
          </p:nvSpPr>
          <p:spPr>
            <a:xfrm>
              <a:off x="633240" y="2590920"/>
              <a:ext cx="4149720" cy="3390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17920" y="3981600"/>
              <a:ext cx="1829880" cy="55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7920" y="4538520"/>
              <a:ext cx="40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8488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5256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988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86120" y="4538520"/>
              <a:ext cx="40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5308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2040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880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54320" y="4538520"/>
              <a:ext cx="435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12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886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562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236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89480" y="4538520"/>
              <a:ext cx="439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568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244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918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7680" y="4538520"/>
              <a:ext cx="439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250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9556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6144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2876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9608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6376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3108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9696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64280" y="4538520"/>
              <a:ext cx="40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31960" y="4505400"/>
              <a:ext cx="15840" cy="331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6" y="1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647800" y="4408200"/>
              <a:ext cx="288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647800" y="4316040"/>
              <a:ext cx="288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647800" y="4222440"/>
              <a:ext cx="288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647800" y="4130640"/>
              <a:ext cx="28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647800" y="4036680"/>
              <a:ext cx="288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18640" y="3981600"/>
              <a:ext cx="29160" cy="190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255060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2483640" y="3981600"/>
              <a:ext cx="410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41632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35008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28240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21544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14812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208188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01456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94724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87992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81224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74636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67652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160884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154296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1475280" y="3981600"/>
              <a:ext cx="421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140832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134064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127476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207080" y="3981600"/>
              <a:ext cx="421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114012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07244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00476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93960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87156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7920" y="3981600"/>
              <a:ext cx="27360" cy="190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7920" y="4037040"/>
              <a:ext cx="252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7920" y="4130640"/>
              <a:ext cx="252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7920" y="4222800"/>
              <a:ext cx="252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17920" y="4316400"/>
              <a:ext cx="25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17920" y="4408560"/>
              <a:ext cx="252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17920" y="4505400"/>
              <a:ext cx="252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17480" y="415296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17920" y="4960800"/>
              <a:ext cx="1829880" cy="51300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17840" y="506736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05880" y="3733920"/>
              <a:ext cx="1201320" cy="10540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17560" y="4114800"/>
              <a:ext cx="100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MM(PC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47640" y="5473800"/>
              <a:ext cx="367560" cy="422280"/>
            </a:xfrm>
            <a:custGeom>
              <a:avLst/>
              <a:gdLst/>
              <a:ahLst/>
              <a:rect l="l" t="t" r="r" b="b"/>
              <a:pathLst>
                <a:path w="137" h="114">
                  <a:moveTo>
                    <a:pt x="35" y="86"/>
                  </a:moveTo>
                  <a:lnTo>
                    <a:pt x="0" y="86"/>
                  </a:lnTo>
                  <a:lnTo>
                    <a:pt x="69" y="114"/>
                  </a:lnTo>
                  <a:lnTo>
                    <a:pt x="137" y="86"/>
                  </a:lnTo>
                  <a:lnTo>
                    <a:pt x="103" y="86"/>
                  </a:lnTo>
                  <a:lnTo>
                    <a:pt x="103" y="29"/>
                  </a:lnTo>
                  <a:lnTo>
                    <a:pt x="137" y="29"/>
                  </a:lnTo>
                  <a:lnTo>
                    <a:pt x="69" y="0"/>
                  </a:lnTo>
                  <a:lnTo>
                    <a:pt x="0" y="29"/>
                  </a:lnTo>
                  <a:lnTo>
                    <a:pt x="35" y="29"/>
                  </a:lnTo>
                  <a:lnTo>
                    <a:pt x="35" y="8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33760" y="4708440"/>
              <a:ext cx="1418040" cy="112680"/>
            </a:xfrm>
            <a:custGeom>
              <a:avLst/>
              <a:gdLst/>
              <a:ahLst/>
              <a:rect l="l" t="t" r="r" b="b"/>
              <a:pathLst>
                <a:path w="529" h="30">
                  <a:moveTo>
                    <a:pt x="0" y="30"/>
                  </a:moveTo>
                  <a:lnTo>
                    <a:pt x="0" y="0"/>
                  </a:lnTo>
                  <a:lnTo>
                    <a:pt x="52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73640" y="4799160"/>
              <a:ext cx="118440" cy="1616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0"/>
                  </a:moveTo>
                  <a:lnTo>
                    <a:pt x="22" y="44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38840" y="4624560"/>
              <a:ext cx="11988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7920" y="2987640"/>
              <a:ext cx="1829880" cy="5572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17840" y="30862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47640" y="2671920"/>
              <a:ext cx="367560" cy="315720"/>
            </a:xfrm>
            <a:custGeom>
              <a:avLst/>
              <a:gdLst/>
              <a:ahLst/>
              <a:rect l="l" t="t" r="r" b="b"/>
              <a:pathLst>
                <a:path w="137" h="85">
                  <a:moveTo>
                    <a:pt x="35" y="64"/>
                  </a:moveTo>
                  <a:lnTo>
                    <a:pt x="0" y="64"/>
                  </a:lnTo>
                  <a:lnTo>
                    <a:pt x="69" y="85"/>
                  </a:lnTo>
                  <a:lnTo>
                    <a:pt x="137" y="64"/>
                  </a:lnTo>
                  <a:lnTo>
                    <a:pt x="103" y="64"/>
                  </a:lnTo>
                  <a:lnTo>
                    <a:pt x="103" y="22"/>
                  </a:lnTo>
                  <a:lnTo>
                    <a:pt x="137" y="22"/>
                  </a:lnTo>
                  <a:lnTo>
                    <a:pt x="69" y="0"/>
                  </a:lnTo>
                  <a:lnTo>
                    <a:pt x="0" y="22"/>
                  </a:lnTo>
                  <a:lnTo>
                    <a:pt x="35" y="22"/>
                  </a:lnTo>
                  <a:lnTo>
                    <a:pt x="35" y="6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33760" y="3692520"/>
              <a:ext cx="1418040" cy="166680"/>
            </a:xfrm>
            <a:custGeom>
              <a:avLst/>
              <a:gdLst/>
              <a:ahLst/>
              <a:rect l="l" t="t" r="r" b="b"/>
              <a:pathLst>
                <a:path w="529" h="45">
                  <a:moveTo>
                    <a:pt x="0" y="0"/>
                  </a:moveTo>
                  <a:lnTo>
                    <a:pt x="0" y="45"/>
                  </a:lnTo>
                  <a:lnTo>
                    <a:pt x="529" y="4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73640" y="3544920"/>
              <a:ext cx="118440" cy="1666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45"/>
                  </a:moveTo>
                  <a:lnTo>
                    <a:pt x="22" y="0"/>
                  </a:lnTo>
                  <a:lnTo>
                    <a:pt x="4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8840" y="3778200"/>
              <a:ext cx="11988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7485120" y="3352680"/>
            <a:ext cx="1201680" cy="106704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Trac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22280" y="1066680"/>
            <a:ext cx="826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ay to Follow the System State without Debugg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7720" y="3646440"/>
            <a:ext cx="1830240" cy="56196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98920" y="3770280"/>
            <a:ext cx="102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3280" y="4800600"/>
            <a:ext cx="1830240" cy="50796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94120" y="4876920"/>
            <a:ext cx="71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46640" y="3352680"/>
            <a:ext cx="1201680" cy="106704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67840" y="37339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5334120"/>
            <a:ext cx="368280" cy="50616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3280" y="2590920"/>
            <a:ext cx="1830240" cy="50796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760" y="266688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76360" y="2057400"/>
            <a:ext cx="368280" cy="50652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67560" y="3352680"/>
            <a:ext cx="1201680" cy="106704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71680" y="373392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76360" y="4267080"/>
            <a:ext cx="368280" cy="50652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76360" y="3124080"/>
            <a:ext cx="368280" cy="50652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02080" y="281952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02080" y="3886200"/>
            <a:ext cx="84456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02080" y="502920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024360" y="4114800"/>
            <a:ext cx="0" cy="9144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024360" y="2819520"/>
            <a:ext cx="0" cy="8380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24360" y="365760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24360" y="411480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641840" y="3886200"/>
            <a:ext cx="11257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1120" y="37479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02360" y="3867120"/>
            <a:ext cx="48276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05520" y="1905120"/>
            <a:ext cx="0" cy="4190760"/>
          </a:xfrm>
          <a:prstGeom prst="line">
            <a:avLst/>
          </a:prstGeom>
          <a:ln cap="rnd" w="22320">
            <a:solidFill>
              <a:srgbClr val="0030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66840" y="5702400"/>
            <a:ext cx="743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49360" y="5761080"/>
            <a:ext cx="84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Trac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22280" y="1066680"/>
            <a:ext cx="803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Classes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_FUNCTION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RACE_IN(), PTRACE_OUT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STATE(), SET_STATE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_ERROR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_EVENT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Fram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D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CC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trace class with trace mask in the fr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ctivation of traces via system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coding of strings to be trac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can define his own trace class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Primitiv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5320" y="95400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d Resource Inform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TASK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RR Stat: 6 Count: 288 Prio: 205 Stack: 871240 Size: 1736 Untouched: 808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QUEU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RR Addr: 879188 Entries: 10 Used: 0 MaxUsed: 4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POOL10 Addr: 85c998 PoolSize: 7128 PartSize: 64 Free: 86 Used: 13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MEMORY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CONDAT Addr: 86e634 Size: 60000 Min: 4 Free: 12548 Suspend: 6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EMAPHOR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CCD_COD Count: 1 Suspend: 11 Waiting: 0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2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Partition Supervis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8240" y="903240"/>
            <a:ext cx="64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Pool Monitor - Functional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" y="1600200"/>
            <a:ext cx="6612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ing of the partition stat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user (file,line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" y="3809880"/>
            <a:ext cx="5275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stics on partition usag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zes of used partition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mbers of used partition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mp via test interfac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9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Partition Supervis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97880" y="903240"/>
            <a:ext cx="53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tion Pool Monitor - Outpu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92120" y="1447920"/>
            <a:ext cx="865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d Partition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PM]: PARTITION 0x85ed88, OPC 0x0 STATE ALLOCATED OWNER UART, TIME 670, uart_dtxf.c,245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PM]: PARTITION 0x85edd8, OPC 0x0 STATE ALLOCATED OWNER MMI, TIME 666, aci_lst.c,147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2120" y="2743200"/>
            <a:ext cx="8370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POOL NAME: PRIM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POOL 0 (size 60)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BYTE  pool 0: 1849 by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61 %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BYTE 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   0,   3,  41,  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PART  pool 0:  50 parti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50 %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PART 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   0,   3,  41,  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RANGE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,   3,  11,  41,   4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TOTAL   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,  23, 541, 497, 115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 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2120" y="91440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5638680"/>
            <a:ext cx="609588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OS 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cleus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5029200"/>
            <a:ext cx="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5029200"/>
            <a:ext cx="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4648320"/>
            <a:ext cx="243828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viera 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35053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P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81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V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5909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886200"/>
            <a:ext cx="0" cy="762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429000"/>
            <a:ext cx="0" cy="12193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971800"/>
            <a:ext cx="0" cy="1676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4648320"/>
            <a:ext cx="259056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F 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35053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0481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5909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21337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2971800"/>
            <a:ext cx="0" cy="1676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3429000"/>
            <a:ext cx="0" cy="12193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886200"/>
            <a:ext cx="0" cy="762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2514600"/>
            <a:ext cx="0" cy="21337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523880"/>
            <a:ext cx="24382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1523880"/>
            <a:ext cx="243864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rror Handl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6800" y="90324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rror Handling – System Warning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" y="1523880"/>
            <a:ext cx="804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Waited for space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ue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Waited for partition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si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opc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c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gger partition allocated than requested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si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Partition Deallocation failed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reed partition stored i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as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reed partition s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opc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Receiver proce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unknow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Invalid system primitive stri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Number of written &gt; requested partition size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le, l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2120" y="4724280"/>
            <a:ext cx="85755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 warning results in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mp of system stat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_diagnose_write (warning_string, DAR_WARNING, CONDAT_FRM_USE_ID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rror Handl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95720" y="903240"/>
            <a:ext cx="541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Handling - System Error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2120" y="1600200"/>
            <a:ext cx="815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Timers &gt; MAX_TI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entities &gt; MAX_ENTITIES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started timers &gt; MAX_SIMULTANEOUS_TI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created semaphores &gt; MAX_SEMAPH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Partition Guard Pattern destroy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ptr, op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o Partition available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siz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rite attempt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ueue faile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tack overflow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Error at creat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ue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TimerIndex &gt; NumOfTimers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2120" y="4952880"/>
            <a:ext cx="8089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 error results in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mp of system stat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_generate_emergency (error_string, ..., CONDAT_FRM_USE_ID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rror Handl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7880" y="903240"/>
            <a:ext cx="63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Handling - System State Dump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2120" y="1600200"/>
            <a:ext cx="8159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T: task state: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5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- Normal suspend, Link Register = 0x81186b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T: Processed Message: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 opc: 0x8, time: 26149 ptr: 0x85f7b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I: task state: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QUEUE_SUSPEND (MMI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2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task state: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2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- Normal suspend, Link Register = 0x810ded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Messages in queue: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 opc: 0x1, time: 0 ptr: 0x0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Messages in queue: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ITIVE opc: 0x5600, time: 27916 ptr: 0x863c24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: task state: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QUEUE_SUSPEND (SIM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: task state: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QUEUE_SUSPEND (CM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task state: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1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- IRQ suspend, Program Counter = 0x1ad54c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Processed Message:    PRIMITIVE opc: 0x8000, time: 26149 ptr: 0x85f82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Messages in queue:      PRIMITIVE opc: 0x4608, time: 26690 ptr: 0x85ff2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92120" y="1295280"/>
            <a:ext cx="827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92120" y="1219320"/>
            <a:ext cx="6612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as a Tas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Interface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rimitives (configuration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to test system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d protocol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exchange of driver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95000" y="903240"/>
            <a:ext cx="43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st Interface Driver Lis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1120" y="1219320"/>
            <a:ext cx="5907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Init(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o be notifi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configur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65560" y="3808440"/>
            <a:ext cx="708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st T_DRV_LIST_ENTRY DrvList[] =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"TIF"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F_Init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TST"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"TR"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_Init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"SER"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_Init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amp;SER_DefaultConfig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}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92120" y="990720"/>
            <a:ext cx="808992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Converter (PCON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primitives between platforms with different number representation (little vs. big endian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primitives between platforms with different alignment mode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primitives containing point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alled in TIF driver when primitive is sent or receiv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92120" y="990720"/>
            <a:ext cx="80899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Entity Configur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strings transparently through TST and the frame to ent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03440" y="2209680"/>
            <a:ext cx="7525800" cy="2656080"/>
            <a:chOff x="703440" y="2209680"/>
            <a:chExt cx="7525800" cy="2656080"/>
          </a:xfrm>
        </p:grpSpPr>
        <p:sp>
          <p:nvSpPr>
            <p:cNvPr id="612" name=""/>
            <p:cNvSpPr/>
            <p:nvPr/>
          </p:nvSpPr>
          <p:spPr>
            <a:xfrm>
              <a:off x="703440" y="3948480"/>
              <a:ext cx="3938760" cy="3682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69200" y="4497480"/>
              <a:ext cx="10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3440" y="2209680"/>
              <a:ext cx="168804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3798000" y="2209680"/>
              <a:ext cx="914040" cy="785520"/>
              <a:chOff x="3798000" y="2209680"/>
              <a:chExt cx="914040" cy="785520"/>
            </a:xfrm>
          </p:grpSpPr>
          <p:sp>
            <p:nvSpPr>
              <p:cNvPr id="616" name=""/>
              <p:cNvSpPr/>
              <p:nvPr/>
            </p:nvSpPr>
            <p:spPr>
              <a:xfrm>
                <a:off x="3798000" y="2209680"/>
                <a:ext cx="844200" cy="785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008960" y="2484000"/>
                <a:ext cx="70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S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265760" y="239292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I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42200" y="2667240"/>
              <a:ext cx="23209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63480" y="2209680"/>
              <a:ext cx="843840" cy="785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33680" y="248400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x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3160" y="2301120"/>
              <a:ext cx="210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MI CONFIG AUTO_ATTACH</a:t>
              </a:r>
              <a:endParaRPr b="0" lang="en-US" sz="11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84240" y="2758680"/>
              <a:ext cx="112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ei_config(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1476720" y="3124440"/>
              <a:ext cx="0" cy="82332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76720" y="3399480"/>
              <a:ext cx="1336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UTO_ATTACH</a:t>
              </a:r>
              <a:endParaRPr b="0" lang="en-US" sz="11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20280" y="3124800"/>
              <a:ext cx="0" cy="82332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703440" y="4495680"/>
            <a:ext cx="805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sed fo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ity configuratio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MM CONFIG MULTISLOT_CLASS=&lt;8&gt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T command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MI CONFIG AT+CFUN=1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imer configuratio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2R CONFIG TIMER_SET TUP_SND 1000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306600" y="3962520"/>
            <a:ext cx="2532240" cy="19047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76440" y="297180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62040" y="297180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62040" y="396252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462040" y="495288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62040" y="3276720"/>
            <a:ext cx="84456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62040" y="4267080"/>
            <a:ext cx="84456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62040" y="5181480"/>
            <a:ext cx="844560" cy="3070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_TR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4876920"/>
            <a:ext cx="91440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46640" y="3276720"/>
            <a:ext cx="84420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06600" y="495288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46640" y="5181480"/>
            <a:ext cx="70452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V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221000" y="2971800"/>
            <a:ext cx="161784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06600" y="3429000"/>
            <a:ext cx="69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51160" y="5410080"/>
            <a:ext cx="69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68080" y="903240"/>
            <a:ext cx="76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st Interface – Target Driver Configuration 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33240" y="2971800"/>
            <a:ext cx="1054440" cy="28954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58960" y="2971800"/>
            <a:ext cx="703080" cy="28954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3886200"/>
            <a:ext cx="70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F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73280" y="4267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33240" y="2133720"/>
            <a:ext cx="267192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181240" y="220968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I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0840" y="3048120"/>
            <a:ext cx="281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ial driver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_fd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109960" y="259092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884320" y="259092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87680" y="4419720"/>
            <a:ext cx="71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19560" y="4343400"/>
            <a:ext cx="2814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ial driver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_tr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92120" y="1447920"/>
            <a:ext cx="827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 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2120" y="91440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41760" y="5595840"/>
            <a:ext cx="1828800" cy="8748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O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cleus, WIN32, pSOS, VxWork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41760" y="871560"/>
            <a:ext cx="4221360" cy="1143000"/>
            <a:chOff x="4541760" y="871560"/>
            <a:chExt cx="4221360" cy="1143000"/>
          </a:xfrm>
        </p:grpSpPr>
        <p:sp>
          <p:nvSpPr>
            <p:cNvPr id="119" name=""/>
            <p:cNvSpPr/>
            <p:nvPr/>
          </p:nvSpPr>
          <p:spPr>
            <a:xfrm>
              <a:off x="4541760" y="871560"/>
              <a:ext cx="4221360" cy="6616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tocol Stack Entitie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ei_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07880" y="15573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089400" y="15573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41760" y="2014560"/>
            <a:ext cx="2603520" cy="2514600"/>
            <a:chOff x="4541760" y="2014560"/>
            <a:chExt cx="2603520" cy="2514600"/>
          </a:xfrm>
        </p:grpSpPr>
        <p:sp>
          <p:nvSpPr>
            <p:cNvPr id="123" name=""/>
            <p:cNvSpPr/>
            <p:nvPr/>
          </p:nvSpPr>
          <p:spPr>
            <a:xfrm>
              <a:off x="4541760" y="2014560"/>
              <a:ext cx="1829520" cy="20574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me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si_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rtual O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S Extension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assive Model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mory Supervision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imer Configuration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rtup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78440" y="40719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160320" y="40719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60320" y="4147920"/>
              <a:ext cx="98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541760" y="4529160"/>
            <a:ext cx="2482920" cy="1066680"/>
            <a:chOff x="4541760" y="4529160"/>
            <a:chExt cx="2482920" cy="1066680"/>
          </a:xfrm>
        </p:grpSpPr>
        <p:sp>
          <p:nvSpPr>
            <p:cNvPr id="128" name=""/>
            <p:cNvSpPr/>
            <p:nvPr/>
          </p:nvSpPr>
          <p:spPr>
            <a:xfrm>
              <a:off x="4541760" y="4529160"/>
              <a:ext cx="1829160" cy="61524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OS Layer   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s_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daptation to RTOS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78440" y="5214960"/>
              <a:ext cx="0" cy="38088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159960" y="5214960"/>
              <a:ext cx="0" cy="380880"/>
            </a:xfrm>
            <a:prstGeom prst="line">
              <a:avLst/>
            </a:prstGeom>
            <a:ln w="12600">
              <a:solidFill>
                <a:srgbClr val="00306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59600" y="52862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370560" y="1557360"/>
            <a:ext cx="2392200" cy="1332000"/>
            <a:chOff x="6370560" y="1557360"/>
            <a:chExt cx="2392200" cy="1332000"/>
          </a:xfrm>
        </p:grpSpPr>
        <p:sp>
          <p:nvSpPr>
            <p:cNvPr id="133" name=""/>
            <p:cNvSpPr/>
            <p:nvPr/>
          </p:nvSpPr>
          <p:spPr>
            <a:xfrm>
              <a:off x="7144560" y="2014560"/>
              <a:ext cx="1618200" cy="874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ardware Abstraction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70560" y="2166840"/>
              <a:ext cx="7740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370560" y="2471760"/>
              <a:ext cx="774000" cy="0"/>
            </a:xfrm>
            <a:prstGeom prst="line">
              <a:avLst/>
            </a:prstGeom>
            <a:ln w="12600">
              <a:solidFill>
                <a:srgbClr val="00306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246672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48360" y="15573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40400" y="185724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_init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28600" y="3886200"/>
            <a:ext cx="3586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System Interface (VSI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Stack Entity Interface (PEI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 Interface (O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96800" y="903240"/>
            <a:ext cx="34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61960" y="1523880"/>
            <a:ext cx="6612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comp.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drv.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interface driver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init.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_Initialize() func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const.h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and size of partition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asks, timers, semaphor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3240" y="5486400"/>
            <a:ext cx="79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 frame recompilation when configuration files are chang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720" y="903240"/>
            <a:ext cx="44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vided Frame Librari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1960" y="1523880"/>
            <a:ext cx="337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managemen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phor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nterfac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ervice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06880" y="1523880"/>
            <a:ext cx="42894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na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us arm7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n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us MNT (PC Simulation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32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pool supervis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in internal RA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f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in flash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1960" y="5029200"/>
            <a:ext cx="7456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me_na7_db_fl.lib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target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me_npc_db_ps.li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 simulation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97520" y="903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quired Resourc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61960" y="1752480"/>
            <a:ext cx="7896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 [kB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M[kB]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_na7_db_fl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_na7_db_ir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8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_na7_db_fl.lib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_na7_db_ir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f_na7_db_fl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0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f_na7_db_ir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x_na7_db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120" y="1295280"/>
            <a:ext cx="796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yer 1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3240" y="1066680"/>
            <a:ext cx="2109960" cy="98604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DA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yer 2/3 Entiti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57600" y="297180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095640" y="548640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33240" y="3429000"/>
            <a:ext cx="4500720" cy="20574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 O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Extension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sive Model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ory Supervisio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mer Configuratio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24360" y="1066680"/>
            <a:ext cx="2109600" cy="986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yer 1 asynchronou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24360" y="2590920"/>
            <a:ext cx="126648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X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7760" y="213372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572000" y="2133720"/>
            <a:ext cx="0" cy="129528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81240" y="2133720"/>
            <a:ext cx="0" cy="12952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758960" y="3429000"/>
            <a:ext cx="2251080" cy="3808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532240" y="350532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181240" y="548640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97360" y="1066680"/>
            <a:ext cx="1828800" cy="10670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ayer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798720" y="2362320"/>
            <a:ext cx="0" cy="2286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798720" y="2362320"/>
            <a:ext cx="28130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611760" y="2133720"/>
            <a:ext cx="0" cy="2286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266840" y="2133720"/>
            <a:ext cx="0" cy="12952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81160" y="914400"/>
            <a:ext cx="8510400" cy="25909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1160" y="3505320"/>
            <a:ext cx="8510400" cy="1371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160" y="4876920"/>
            <a:ext cx="8510400" cy="129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10040" y="1143000"/>
            <a:ext cx="2390400" cy="685800"/>
            <a:chOff x="4010040" y="1143000"/>
            <a:chExt cx="2390400" cy="685800"/>
          </a:xfrm>
        </p:grpSpPr>
        <p:sp>
          <p:nvSpPr>
            <p:cNvPr id="694" name=""/>
            <p:cNvSpPr/>
            <p:nvPr/>
          </p:nvSpPr>
          <p:spPr>
            <a:xfrm>
              <a:off x="4010040" y="1371600"/>
              <a:ext cx="105480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2100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3196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4292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5388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64840" y="1143000"/>
              <a:ext cx="133560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yer 1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181240" y="2362320"/>
            <a:ext cx="4641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024360" y="5257800"/>
            <a:ext cx="2391840" cy="685800"/>
            <a:chOff x="3024360" y="5257800"/>
            <a:chExt cx="2391840" cy="685800"/>
          </a:xfrm>
        </p:grpSpPr>
        <p:sp>
          <p:nvSpPr>
            <p:cNvPr id="703" name=""/>
            <p:cNvSpPr/>
            <p:nvPr/>
          </p:nvSpPr>
          <p:spPr>
            <a:xfrm>
              <a:off x="3024360" y="54864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3532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4628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5760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6856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79520" y="52578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1A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703440" y="5257800"/>
            <a:ext cx="133632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024360" y="3886200"/>
            <a:ext cx="2391840" cy="685800"/>
            <a:chOff x="3024360" y="3886200"/>
            <a:chExt cx="2391840" cy="685800"/>
          </a:xfrm>
        </p:grpSpPr>
        <p:sp>
          <p:nvSpPr>
            <p:cNvPr id="711" name=""/>
            <p:cNvSpPr/>
            <p:nvPr/>
          </p:nvSpPr>
          <p:spPr>
            <a:xfrm>
              <a:off x="3024360" y="41148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3532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4628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5760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6856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79520" y="38862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PC/AL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516480" y="1828800"/>
            <a:ext cx="2391840" cy="685800"/>
            <a:chOff x="3516480" y="1828800"/>
            <a:chExt cx="2391840" cy="685800"/>
          </a:xfrm>
        </p:grpSpPr>
        <p:sp>
          <p:nvSpPr>
            <p:cNvPr id="718" name=""/>
            <p:cNvSpPr/>
            <p:nvPr/>
          </p:nvSpPr>
          <p:spPr>
            <a:xfrm>
              <a:off x="3516480" y="20574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2744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3840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4972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6068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71640" y="18288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024360" y="2514600"/>
            <a:ext cx="2391840" cy="685800"/>
            <a:chOff x="3024360" y="2514600"/>
            <a:chExt cx="2391840" cy="685800"/>
          </a:xfrm>
        </p:grpSpPr>
        <p:sp>
          <p:nvSpPr>
            <p:cNvPr id="725" name=""/>
            <p:cNvSpPr/>
            <p:nvPr/>
          </p:nvSpPr>
          <p:spPr>
            <a:xfrm>
              <a:off x="3024360" y="27432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3532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4628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65760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6856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079520" y="25146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L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6861960" y="19810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dat Layer 2/3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388620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 Adapt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61240" y="53341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 Layer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" y="5105520"/>
            <a:ext cx="280800" cy="2286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2240" y="5254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Q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39760" y="5638680"/>
            <a:ext cx="98460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62040" y="556272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782960" y="457200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462040" y="510552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461680" y="4724280"/>
            <a:ext cx="232092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782960" y="4952880"/>
            <a:ext cx="0" cy="1526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62040" y="4724280"/>
            <a:ext cx="2320920" cy="2286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62040" y="426708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62040" y="426708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3440" y="510552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421920" y="4952520"/>
            <a:ext cx="281160" cy="3049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82960" y="320040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2461680" y="3352680"/>
            <a:ext cx="232092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4782960" y="3581280"/>
            <a:ext cx="0" cy="1526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62040" y="3352680"/>
            <a:ext cx="2320920" cy="2286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462040" y="289548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62040" y="289548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62040" y="419112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462040" y="373392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462040" y="281952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54160" y="220968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46640" y="1523880"/>
            <a:ext cx="56340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406520" y="2666880"/>
            <a:ext cx="9144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2440" y="3886200"/>
            <a:ext cx="914400" cy="609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c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50880" y="27892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c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476360" y="3276360"/>
            <a:ext cx="352440" cy="19810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844200" y="4495320"/>
            <a:ext cx="351000" cy="762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290840" y="3048120"/>
            <a:ext cx="4361040" cy="1143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90840" y="1905120"/>
            <a:ext cx="4361040" cy="114300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62040" y="1905120"/>
            <a:ext cx="1828800" cy="228600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462040" y="4191120"/>
            <a:ext cx="6189840" cy="1143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92120" y="1905120"/>
            <a:ext cx="1969920" cy="3429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73280" y="3276720"/>
            <a:ext cx="147780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_Initializ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3280" y="2133720"/>
            <a:ext cx="147780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C_Initializ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673360" y="2133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pp_Initialize(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673360" y="3276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askEntry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673360" y="4419720"/>
            <a:ext cx="140652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1A_task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02160" y="3276720"/>
            <a:ext cx="1406520" cy="609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s_alloc_prim(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541920" y="3276720"/>
            <a:ext cx="1406520" cy="609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s_send_sig(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41920" y="2133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si_c_send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2160" y="2133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si_c_new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049440" y="33465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49440" y="22795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27160" y="46418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4840" y="10587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Startup and L1 Frame Acces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476360" y="4419360"/>
            <a:ext cx="0" cy="2286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1476360" y="388620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67560" y="41083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147636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51080" y="2438280"/>
            <a:ext cx="422280" cy="0"/>
          </a:xfrm>
          <a:prstGeom prst="line">
            <a:avLst/>
          </a:prstGeom>
          <a:ln cap="rnd" w="12600">
            <a:solidFill>
              <a:srgbClr val="003069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7644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76440" y="3886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140652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S_HISR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868560" y="3809520"/>
            <a:ext cx="984600" cy="6858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079880" y="3809880"/>
            <a:ext cx="2673360" cy="9907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6753240" y="3885840"/>
            <a:ext cx="420840" cy="6858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 flipV="1">
            <a:off x="5486040" y="3885840"/>
            <a:ext cx="28116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0524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724536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62040" y="1905120"/>
            <a:ext cx="6189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8651880" y="1904760"/>
            <a:ext cx="0" cy="11430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231760" y="49467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810560" y="380376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X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698240" y="26607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A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53240" y="502272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364560" y="280368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TO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yer 1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Document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92120" y="1219320"/>
            <a:ext cx="731520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Users Guide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34.100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I/PEI Interfac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15.033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nterfac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15.036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657600" y="2666880"/>
            <a:ext cx="386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6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92120" y="1828800"/>
            <a:ext cx="2391840" cy="3111480"/>
            <a:chOff x="492120" y="1828800"/>
            <a:chExt cx="2391840" cy="3111480"/>
          </a:xfrm>
        </p:grpSpPr>
        <p:sp>
          <p:nvSpPr>
            <p:cNvPr id="142" name=""/>
            <p:cNvSpPr/>
            <p:nvPr/>
          </p:nvSpPr>
          <p:spPr>
            <a:xfrm>
              <a:off x="492120" y="3733560"/>
              <a:ext cx="2321640" cy="785520"/>
            </a:xfrm>
            <a:prstGeom prst="rect">
              <a:avLst/>
            </a:prstGeom>
            <a:solidFill>
              <a:srgbClr val="0063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TOS (Nucleus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2120" y="2971800"/>
              <a:ext cx="2321640" cy="3682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2120" y="3352680"/>
              <a:ext cx="2321640" cy="368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S - Lay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3640" y="1828800"/>
              <a:ext cx="84420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84600" y="4572000"/>
              <a:ext cx="105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9560" y="2133360"/>
              <a:ext cx="844200" cy="785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520" y="1981080"/>
              <a:ext cx="84420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2120" y="2133360"/>
              <a:ext cx="84420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80520" y="236196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S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3080" y="236196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13040" y="2133720"/>
            <a:ext cx="5838480" cy="2806560"/>
            <a:chOff x="2813040" y="2133720"/>
            <a:chExt cx="5838480" cy="2806560"/>
          </a:xfrm>
        </p:grpSpPr>
        <p:sp>
          <p:nvSpPr>
            <p:cNvPr id="153" name=""/>
            <p:cNvSpPr/>
            <p:nvPr/>
          </p:nvSpPr>
          <p:spPr>
            <a:xfrm>
              <a:off x="5063760" y="3733920"/>
              <a:ext cx="3587760" cy="785520"/>
            </a:xfrm>
            <a:prstGeom prst="rect">
              <a:avLst/>
            </a:prstGeom>
            <a:solidFill>
              <a:srgbClr val="0063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CM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OS (Windows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63760" y="2971800"/>
              <a:ext cx="2673000" cy="3682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3760" y="3352680"/>
              <a:ext cx="2673000" cy="368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S - Lay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30240" y="4572000"/>
              <a:ext cx="105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92920" y="2133720"/>
              <a:ext cx="84384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78520" y="2133720"/>
              <a:ext cx="84384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063760" y="2133720"/>
              <a:ext cx="914040" cy="785520"/>
              <a:chOff x="5063760" y="2133720"/>
              <a:chExt cx="914040" cy="785520"/>
            </a:xfrm>
          </p:grpSpPr>
          <p:sp>
            <p:nvSpPr>
              <p:cNvPr id="160" name=""/>
              <p:cNvSpPr/>
              <p:nvPr/>
            </p:nvSpPr>
            <p:spPr>
              <a:xfrm>
                <a:off x="5063760" y="2133720"/>
                <a:ext cx="843840" cy="785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74720" y="2361960"/>
                <a:ext cx="70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S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048720" y="2362320"/>
              <a:ext cx="84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xPanel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3760" y="4114800"/>
              <a:ext cx="358776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3680" y="2362320"/>
              <a:ext cx="70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07680" y="2133720"/>
              <a:ext cx="843840" cy="16002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8080" y="236232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13040" y="2514600"/>
              <a:ext cx="225072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055520" y="5334120"/>
            <a:ext cx="68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same frame is used for target and tools !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280" y="990720"/>
            <a:ext cx="51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ame in Target and Tool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813040" y="2133720"/>
            <a:ext cx="2250720" cy="785520"/>
            <a:chOff x="2813040" y="2133720"/>
            <a:chExt cx="2250720" cy="785520"/>
          </a:xfrm>
        </p:grpSpPr>
        <p:sp>
          <p:nvSpPr>
            <p:cNvPr id="171" name=""/>
            <p:cNvSpPr/>
            <p:nvPr/>
          </p:nvSpPr>
          <p:spPr>
            <a:xfrm>
              <a:off x="2813040" y="2133720"/>
              <a:ext cx="773640" cy="7855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2880" y="2362320"/>
              <a:ext cx="5626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VT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90120" y="2133720"/>
              <a:ext cx="773640" cy="7855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60320" y="2362320"/>
              <a:ext cx="7034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86680" y="2514600"/>
              <a:ext cx="70344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720" y="90324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tocol Stack Entiti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" y="1752480"/>
            <a:ext cx="7034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implement the protocol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achin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of the GSM/GPRS/UMTS specification (e.g. GSM 04.08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rect access to RTOS resourc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loop of process (active body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6800" y="90324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Functional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1960" y="1523880"/>
            <a:ext cx="7210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 Managem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S Acces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loops of processes (passive body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6440" y="90324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OS Layer Functional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1960" y="1600200"/>
            <a:ext cx="7896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to the RTO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S dependent diagnos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dependencies – Nucleus MNT &amp; ARM7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nterface is independent of RTO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8:39:10Z</dcterms:created>
  <dc:creator>kk</dc:creator>
  <dc:description/>
  <dc:language>en-US</dc:language>
  <cp:lastModifiedBy>mp</cp:lastModifiedBy>
  <dcterms:modified xsi:type="dcterms:W3CDTF">2003-06-23T09:56:57Z</dcterms:modified>
  <cp:revision>38</cp:revision>
  <dc:subject/>
  <dc:title>PowerPoint-Präsentation</dc:title>
</cp:coreProperties>
</file>