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907588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87468-EF8A-45D3-A03D-D49FE5636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BFDED-91BE-4A45-B128-EF159BE2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57834-897F-4EAF-86EA-B3B9A50C3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723CF-0DAE-400E-AC54-EE342635C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761760" y="228564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C6FDD-323E-4A21-81AA-670BEE64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EC633-1175-450F-B2AE-5A6A9C96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66C84-B5C3-4F4F-8BFF-1007AC73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743FD-B864-47B4-9CE8-8F4AE181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61760" y="228564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BD2A8-9C10-4E13-A153-35D2F844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8C419-1828-4F38-9BD1-7065B8F9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01142-A198-4F51-BDD3-A433F986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E3E0F-181C-4F1F-B71F-4BE37AD3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38280" y="6616800"/>
            <a:ext cx="1805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dat AG, Berlin 2002     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641800" y="6616800"/>
            <a:ext cx="1304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Slide No.  </a:t>
            </a:r>
            <a:fld id="{EEFB4284-AA9B-42AF-84C0-F569172E0D24}" type="slidenum"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398840" y="6599160"/>
            <a:ext cx="110844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www.condat.de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65200" y="743040"/>
            <a:ext cx="8273880" cy="0"/>
          </a:xfrm>
          <a:prstGeom prst="line">
            <a:avLst/>
          </a:prstGeom>
          <a:ln w="12600">
            <a:solidFill>
              <a:srgbClr val="0063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80960" y="6553080"/>
            <a:ext cx="284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Symbol"/>
                <a:ea typeface="Symbol"/>
              </a:rPr>
              <a:t>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Click to edit the outline text format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Second Outline Level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601"/>
              </a:spcBef>
              <a:buClr>
                <a:srgbClr val="003e8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Third Outline Level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3032280" indent="-743040">
              <a:spcBef>
                <a:spcPts val="601"/>
              </a:spcBef>
              <a:buClr>
                <a:srgbClr val="0005f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Fourth Outline Level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4" marL="3541680" indent="-228600">
              <a:spcBef>
                <a:spcPts val="601"/>
              </a:spcBef>
              <a:buClr>
                <a:srgbClr val="0005f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Fifth Outline Level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5" marL="3541680" indent="-228600"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Sixth Outline Level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6" marL="3541680" indent="-228600"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Seventh Outline Level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A300-143C-4F6F-82F1-2B65663A0197}" type="slidenum"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ftr" idx="3"/>
          </p:nvPr>
        </p:nvSpPr>
        <p:spPr>
          <a:xfrm>
            <a:off x="342216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089920" y="557280"/>
            <a:ext cx="817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fidential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11" name="Logo_Condat_cmyk_16mm" descr=""/>
          <p:cNvPicPr/>
          <p:nvPr/>
        </p:nvPicPr>
        <p:blipFill>
          <a:blip r:embed="rId2"/>
          <a:stretch/>
        </p:blipFill>
        <p:spPr>
          <a:xfrm>
            <a:off x="9072720" y="233280"/>
            <a:ext cx="60948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38280" y="6616800"/>
            <a:ext cx="1805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dat AG, Berlin 2002    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641800" y="6616800"/>
            <a:ext cx="1304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Slide No.  </a:t>
            </a:r>
            <a:fld id="{0E3E0C6B-6D17-4953-B65C-536918E1BA96}" type="slidenum"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98840" y="6616800"/>
            <a:ext cx="110844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www.condat.de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960" y="6553080"/>
            <a:ext cx="284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Symbol"/>
                <a:ea typeface="Symbol"/>
              </a:rPr>
              <a:t>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069"/>
                </a:solidFill>
                <a:latin typeface="ITC Officina Sans Book"/>
              </a:rPr>
              <a:t>Click to edit the title text format</a:t>
            </a: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pic>
        <p:nvPicPr>
          <p:cNvPr id="53" name="Logo_Condat_cmyk_16mm" descr=""/>
          <p:cNvPicPr/>
          <p:nvPr/>
        </p:nvPicPr>
        <p:blipFill>
          <a:blip r:embed="rId2"/>
          <a:stretch/>
        </p:blipFill>
        <p:spPr>
          <a:xfrm>
            <a:off x="9072720" y="233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Click to edit the outline text format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914400" algn="ctr">
              <a:spcBef>
                <a:spcPts val="499"/>
              </a:spcBef>
              <a:buClr>
                <a:srgbClr val="003e86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371600" indent="917640" algn="ctr">
              <a:spcBef>
                <a:spcPts val="499"/>
              </a:spcBef>
              <a:buClr>
                <a:srgbClr val="0005fa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4" marL="1828800" indent="1484280" algn="ctr">
              <a:spcBef>
                <a:spcPts val="499"/>
              </a:spcBef>
              <a:buClr>
                <a:srgbClr val="0005fa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5" marL="1828800" indent="14842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6" marL="1828800" indent="14842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069"/>
                </a:solidFill>
                <a:latin typeface="ITC Officina Sans Book"/>
              </a:rPr>
              <a:t>Enhancing Windows Shared Memory for VCMS </a:t>
            </a:r>
            <a:br>
              <a:rPr sz="4800"/>
            </a:br>
            <a:r>
              <a:rPr b="1" lang="en-US" sz="4800" spc="-1" strike="noStrike">
                <a:solidFill>
                  <a:srgbClr val="003069"/>
                </a:solidFill>
                <a:latin typeface="ITC Officina Sans Book"/>
              </a:rPr>
              <a:t>(The SHM-NT Gadget)</a:t>
            </a: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4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“… ‘</a:t>
            </a: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cause windows </a:t>
            </a:r>
            <a:r>
              <a:rPr b="1" i="1" lang="en-US" sz="2000" spc="-1" strike="noStrike">
                <a:solidFill>
                  <a:srgbClr val="003069"/>
                </a:solidFill>
                <a:latin typeface="ITC Officina Sans Book"/>
              </a:rPr>
              <a:t>memory-mapped file</a:t>
            </a: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 solution is a lame duck!”</a:t>
            </a:r>
            <a:endParaRPr b="1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New problems to resolve (3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There is more implementation-specific shared knowledge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uncritical global scalar data types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51560" indent="-21024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and  pointers referencing unshared data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51560" indent="-21024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which can be grouped and shared in a DLL by use of a link command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and critical: pointers referencing a shared objec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51560" indent="-21024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e.g. fr’s </a:t>
            </a:r>
            <a:r>
              <a:rPr b="1" i="1" lang="en-GB" sz="2000" spc="-1" strike="noStrike">
                <a:solidFill>
                  <a:srgbClr val="003069"/>
                </a:solidFill>
                <a:latin typeface="ITC Officina Sans Book"/>
              </a:rPr>
              <a:t>region list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constituting a shared memory lis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51560" indent="-21024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cause DLL’s also suffers the windows map view location weaknes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again: Why not use the new shared memory implementation?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51560" indent="-21024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constituting the </a:t>
            </a:r>
            <a:r>
              <a:rPr b="1" i="1" lang="en-GB" sz="2000" spc="-1" strike="noStrike">
                <a:solidFill>
                  <a:srgbClr val="003069"/>
                </a:solidFill>
                <a:latin typeface="ITC Officina Sans Book"/>
              </a:rPr>
              <a:t>region list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inside a specific, qualified shared memory section?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15360" indent="-315360">
              <a:lnSpc>
                <a:spcPct val="13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And local knowledge reflecting parts of global knowledge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a client needs to know which sections are already mapped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51560" indent="-21024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information stored in </a:t>
            </a:r>
            <a:r>
              <a:rPr b="1" i="1" lang="en-GB" sz="2000" spc="-1" strike="noStrike">
                <a:solidFill>
                  <a:srgbClr val="003069"/>
                </a:solidFill>
                <a:latin typeface="ITC Officina Sans Book"/>
              </a:rPr>
              <a:t>context map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New problems to resolve (4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But: How to use the new shared memory gadget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to implement itself?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isn’t that a hen/egg problem?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No, it’s just a matter of proper initializing and embedding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both special sections (</a:t>
            </a:r>
            <a:r>
              <a:rPr b="1" i="1" lang="en-GB" sz="2000" spc="-1" strike="noStrike">
                <a:solidFill>
                  <a:srgbClr val="003069"/>
                </a:solidFill>
                <a:latin typeface="ITC Officina Sans Book"/>
              </a:rPr>
              <a:t>pool list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,</a:t>
            </a:r>
            <a:r>
              <a:rPr b="1" i="1" lang="en-GB" sz="2000" spc="-1" strike="noStrike">
                <a:solidFill>
                  <a:srgbClr val="003069"/>
                </a:solidFill>
                <a:latin typeface="ITC Officina Sans Book"/>
              </a:rPr>
              <a:t> region list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) are known to the system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069"/>
                </a:solidFill>
                <a:latin typeface="ITC Officina Sans Book"/>
              </a:rPr>
              <a:t>those internal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sections receive a special treatment whilst system start-up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the </a:t>
            </a:r>
            <a:r>
              <a:rPr b="1" i="1" lang="en-GB" sz="2400" spc="-1" strike="noStrike">
                <a:solidFill>
                  <a:srgbClr val="003069"/>
                </a:solidFill>
                <a:latin typeface="ITC Officina Sans Book"/>
              </a:rPr>
              <a:t>pool list</a:t>
            </a:r>
            <a:r>
              <a:rPr b="0" i="1" lang="en-GB" sz="24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is just an array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containing section names, addresses and size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the </a:t>
            </a:r>
            <a:r>
              <a:rPr b="1" i="1" lang="en-GB" sz="2400" spc="-1" strike="noStrike">
                <a:solidFill>
                  <a:srgbClr val="003069"/>
                </a:solidFill>
                <a:latin typeface="ITC Officina Sans Book"/>
              </a:rPr>
              <a:t>region list</a:t>
            </a: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 is a double linked list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but its anchor is located outside of it’s shared memory section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constituted by a DLL global variabl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28600" y="914400"/>
            <a:ext cx="8915400" cy="2743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The Big Picture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838080" y="1143000"/>
            <a:ext cx="1371600" cy="457200"/>
            <a:chOff x="838080" y="1143000"/>
            <a:chExt cx="1371600" cy="457200"/>
          </a:xfrm>
        </p:grpSpPr>
        <p:sp>
          <p:nvSpPr>
            <p:cNvPr id="169" name=""/>
            <p:cNvSpPr/>
            <p:nvPr/>
          </p:nvSpPr>
          <p:spPr>
            <a:xfrm>
              <a:off x="838080" y="1143000"/>
              <a:ext cx="1371600" cy="2286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069"/>
                  </a:solidFill>
                  <a:latin typeface="ITC Officina Sans Book"/>
                </a:rPr>
                <a:t>Pool List (0)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38080" y="1371600"/>
              <a:ext cx="1371600" cy="228600"/>
            </a:xfrm>
            <a:prstGeom prst="rect">
              <a:avLst/>
            </a:prstGeom>
            <a:solidFill>
              <a:srgbClr val="f2ac78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069"/>
                  </a:solidFill>
                  <a:latin typeface="ITC Officina Sans Book"/>
                </a:rPr>
                <a:t>Region List (1)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838080" y="1600200"/>
            <a:ext cx="1371600" cy="2286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069"/>
                </a:solidFill>
                <a:latin typeface="ITC Officina Sans Book"/>
              </a:rPr>
              <a:t>Mem Section (2)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15200" y="1828800"/>
            <a:ext cx="1371600" cy="228600"/>
          </a:xfrm>
          <a:prstGeom prst="rect">
            <a:avLst/>
          </a:prstGeom>
          <a:solidFill>
            <a:srgbClr val="99cc00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069"/>
                </a:solidFill>
                <a:latin typeface="ITC Officina Sans Book"/>
              </a:rPr>
              <a:t>Mem Section (3)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1600200"/>
            <a:ext cx="1371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069"/>
                </a:solidFill>
                <a:latin typeface="ITC Officina Sans Book"/>
              </a:rPr>
              <a:t>unmapped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1828800"/>
            <a:ext cx="1371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069"/>
                </a:solidFill>
                <a:latin typeface="ITC Officina Sans Book"/>
              </a:rPr>
              <a:t>unmapped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2057400"/>
            <a:ext cx="1371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2286000"/>
            <a:ext cx="1371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2514600"/>
            <a:ext cx="1371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2971800"/>
            <a:ext cx="1371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2743200"/>
            <a:ext cx="1371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14800" y="1143000"/>
            <a:ext cx="1371600" cy="2057400"/>
            <a:chOff x="4114800" y="1143000"/>
            <a:chExt cx="1371600" cy="2057400"/>
          </a:xfrm>
        </p:grpSpPr>
        <p:sp>
          <p:nvSpPr>
            <p:cNvPr id="181" name=""/>
            <p:cNvSpPr/>
            <p:nvPr/>
          </p:nvSpPr>
          <p:spPr>
            <a:xfrm>
              <a:off x="4114800" y="1600200"/>
              <a:ext cx="1371600" cy="2286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069"/>
                  </a:solidFill>
                  <a:latin typeface="ITC Officina Sans Book"/>
                </a:rPr>
                <a:t>Mem Section (2)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14800" y="2057400"/>
              <a:ext cx="1371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14800" y="1828800"/>
              <a:ext cx="1371600" cy="22860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069"/>
                  </a:solidFill>
                  <a:latin typeface="ITC Officina Sans Book"/>
                </a:rPr>
                <a:t>Mem Section (3)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14800" y="2286000"/>
              <a:ext cx="1371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14800" y="2514600"/>
              <a:ext cx="1371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14800" y="2743200"/>
              <a:ext cx="1371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14800" y="2971800"/>
              <a:ext cx="1371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4114800" y="1143000"/>
              <a:ext cx="1371600" cy="457200"/>
              <a:chOff x="4114800" y="1143000"/>
              <a:chExt cx="1371600" cy="457200"/>
            </a:xfrm>
          </p:grpSpPr>
          <p:sp>
            <p:nvSpPr>
              <p:cNvPr id="189" name=""/>
              <p:cNvSpPr/>
              <p:nvPr/>
            </p:nvSpPr>
            <p:spPr>
              <a:xfrm>
                <a:off x="4114800" y="1143000"/>
                <a:ext cx="1371600" cy="228600"/>
              </a:xfrm>
              <a:prstGeom prst="rect">
                <a:avLst/>
              </a:prstGeom>
              <a:solidFill>
                <a:srgbClr val="ff6600"/>
              </a:solidFill>
              <a:ln w="1260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3069"/>
                    </a:solidFill>
                    <a:latin typeface="ITC Officina Sans Book"/>
                  </a:rPr>
                  <a:t>Pool List (0)</a:t>
                </a:r>
                <a:endParaRPr b="0" lang="en-US" sz="1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114800" y="1371600"/>
                <a:ext cx="1371600" cy="228600"/>
              </a:xfrm>
              <a:prstGeom prst="rect">
                <a:avLst/>
              </a:prstGeom>
              <a:solidFill>
                <a:srgbClr val="f2ac78"/>
              </a:solidFill>
              <a:ln w="1260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3069"/>
                    </a:solidFill>
                    <a:latin typeface="ITC Officina Sans Book"/>
                  </a:rPr>
                  <a:t>Region List (1)</a:t>
                </a:r>
                <a:endParaRPr b="0" lang="en-US" sz="1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7315200" y="1143000"/>
            <a:ext cx="1371600" cy="457200"/>
            <a:chOff x="7315200" y="1143000"/>
            <a:chExt cx="1371600" cy="457200"/>
          </a:xfrm>
        </p:grpSpPr>
        <p:sp>
          <p:nvSpPr>
            <p:cNvPr id="192" name=""/>
            <p:cNvSpPr/>
            <p:nvPr/>
          </p:nvSpPr>
          <p:spPr>
            <a:xfrm>
              <a:off x="7315200" y="1143000"/>
              <a:ext cx="1371600" cy="2286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069"/>
                  </a:solidFill>
                  <a:latin typeface="ITC Officina Sans Book"/>
                </a:rPr>
                <a:t>Pool List (0)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315200" y="1371600"/>
              <a:ext cx="1371600" cy="228600"/>
            </a:xfrm>
            <a:prstGeom prst="rect">
              <a:avLst/>
            </a:prstGeom>
            <a:solidFill>
              <a:srgbClr val="f2ac78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069"/>
                  </a:solidFill>
                  <a:latin typeface="ITC Officina Sans Book"/>
                </a:rPr>
                <a:t>Region List (1)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7315200" y="2057400"/>
            <a:ext cx="1371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2286000"/>
            <a:ext cx="1371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15200" y="2743200"/>
            <a:ext cx="1371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15200" y="2514600"/>
            <a:ext cx="1371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15200" y="2971800"/>
            <a:ext cx="1371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914400"/>
            <a:ext cx="0" cy="5105520"/>
          </a:xfrm>
          <a:prstGeom prst="line">
            <a:avLst/>
          </a:prstGeom>
          <a:ln w="12600">
            <a:solidFill>
              <a:srgbClr val="0030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00800" y="944640"/>
            <a:ext cx="0" cy="5105160"/>
          </a:xfrm>
          <a:prstGeom prst="line">
            <a:avLst/>
          </a:prstGeom>
          <a:ln w="12600">
            <a:solidFill>
              <a:srgbClr val="0030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38080" y="3809880"/>
            <a:ext cx="228600" cy="2057400"/>
            <a:chOff x="838080" y="3809880"/>
            <a:chExt cx="228600" cy="2057400"/>
          </a:xfrm>
        </p:grpSpPr>
        <p:sp>
          <p:nvSpPr>
            <p:cNvPr id="202" name=""/>
            <p:cNvSpPr/>
            <p:nvPr/>
          </p:nvSpPr>
          <p:spPr>
            <a:xfrm>
              <a:off x="838080" y="38098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&amp;0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38080" y="40384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&amp;1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38080" y="42670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&amp;2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38080" y="44956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38080" y="47242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38080" y="49528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38080" y="51814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38080" y="54100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8080" y="56386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4114800" y="3809880"/>
            <a:ext cx="228600" cy="2057400"/>
            <a:chOff x="4114800" y="3809880"/>
            <a:chExt cx="228600" cy="2057400"/>
          </a:xfrm>
        </p:grpSpPr>
        <p:sp>
          <p:nvSpPr>
            <p:cNvPr id="212" name=""/>
            <p:cNvSpPr/>
            <p:nvPr/>
          </p:nvSpPr>
          <p:spPr>
            <a:xfrm>
              <a:off x="4114800" y="38098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&amp;0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14800" y="40384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&amp;1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114800" y="42670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&amp;2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14800" y="44956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&amp;3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14800" y="47242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14800" y="49528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14800" y="51814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14800" y="54100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14800" y="56386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7315200" y="3809880"/>
            <a:ext cx="228600" cy="2057400"/>
            <a:chOff x="7315200" y="3809880"/>
            <a:chExt cx="228600" cy="2057400"/>
          </a:xfrm>
        </p:grpSpPr>
        <p:sp>
          <p:nvSpPr>
            <p:cNvPr id="222" name=""/>
            <p:cNvSpPr/>
            <p:nvPr/>
          </p:nvSpPr>
          <p:spPr>
            <a:xfrm>
              <a:off x="7315200" y="38098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&amp;0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15200" y="40384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&amp;1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15200" y="42670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0" y="44956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&amp;3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15200" y="47242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315200" y="49528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15200" y="51814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15200" y="54100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15200" y="56386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1104120" y="467784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3069"/>
                </a:solidFill>
                <a:latin typeface="ITC Officina Sans Book"/>
              </a:rPr>
              <a:t>context map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805200" y="1204920"/>
            <a:ext cx="260280" cy="738360"/>
            <a:chOff x="3805200" y="1204920"/>
            <a:chExt cx="260280" cy="738360"/>
          </a:xfrm>
        </p:grpSpPr>
        <p:sp>
          <p:nvSpPr>
            <p:cNvPr id="233" name=""/>
            <p:cNvSpPr/>
            <p:nvPr/>
          </p:nvSpPr>
          <p:spPr>
            <a:xfrm>
              <a:off x="3989520" y="1285920"/>
              <a:ext cx="75960" cy="22860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9360 h 228600"/>
                <a:gd name="textAreaBottom" fmla="*/ 2192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87640" y="1252440"/>
              <a:ext cx="162000" cy="441360"/>
            </a:xfrm>
            <a:custGeom>
              <a:avLst/>
              <a:gdLst>
                <a:gd name="textAreaLeft" fmla="*/ 47520 w 162000"/>
                <a:gd name="textAreaRight" fmla="*/ 162360 w 162000"/>
                <a:gd name="textAreaTop" fmla="*/ 18360 h 441360"/>
                <a:gd name="textAreaBottom" fmla="*/ 423000 h 44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05200" y="1204920"/>
              <a:ext cx="241200" cy="738360"/>
            </a:xfrm>
            <a:custGeom>
              <a:avLst/>
              <a:gdLst>
                <a:gd name="textAreaLeft" fmla="*/ 70920 w 241200"/>
                <a:gd name="textAreaRight" fmla="*/ 241560 w 241200"/>
                <a:gd name="textAreaTop" fmla="*/ 30600 h 738360"/>
                <a:gd name="textAreaBottom" fmla="*/ 707760 h 73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538960" y="1461960"/>
            <a:ext cx="191880" cy="466920"/>
            <a:chOff x="5538960" y="1461960"/>
            <a:chExt cx="191880" cy="466920"/>
          </a:xfrm>
        </p:grpSpPr>
        <p:sp>
          <p:nvSpPr>
            <p:cNvPr id="237" name=""/>
            <p:cNvSpPr/>
            <p:nvPr/>
          </p:nvSpPr>
          <p:spPr>
            <a:xfrm>
              <a:off x="5538960" y="1511280"/>
              <a:ext cx="91800" cy="212760"/>
            </a:xfrm>
            <a:custGeom>
              <a:avLst/>
              <a:gdLst>
                <a:gd name="textAreaLeft" fmla="*/ 0 w 91800"/>
                <a:gd name="textAreaRight" fmla="*/ 64440 w 91800"/>
                <a:gd name="textAreaTop" fmla="*/ 8640 h 212760"/>
                <a:gd name="textAreaBottom" fmla="*/ 204120 h 2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543640" y="1461960"/>
              <a:ext cx="187200" cy="466920"/>
            </a:xfrm>
            <a:custGeom>
              <a:avLst/>
              <a:gdLst>
                <a:gd name="textAreaLeft" fmla="*/ 0 w 187200"/>
                <a:gd name="textAreaRight" fmla="*/ 131400 w 187200"/>
                <a:gd name="textAreaTop" fmla="*/ 19440 h 466920"/>
                <a:gd name="textAreaBottom" fmla="*/ 447480 h 4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682560" y="1298520"/>
            <a:ext cx="76320" cy="228600"/>
          </a:xfrm>
          <a:custGeom>
            <a:avLst/>
            <a:gdLst>
              <a:gd name="textAreaLeft" fmla="*/ 22320 w 76320"/>
              <a:gd name="textAreaRight" fmla="*/ 76320 w 76320"/>
              <a:gd name="textAreaTop" fmla="*/ 9360 h 228600"/>
              <a:gd name="textAreaBottom" fmla="*/ 2192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1040" y="1265400"/>
            <a:ext cx="162000" cy="441000"/>
          </a:xfrm>
          <a:custGeom>
            <a:avLst/>
            <a:gdLst>
              <a:gd name="textAreaLeft" fmla="*/ 47520 w 162000"/>
              <a:gd name="textAreaRight" fmla="*/ 162360 w 162000"/>
              <a:gd name="textAreaTop" fmla="*/ 18360 h 441000"/>
              <a:gd name="textAreaBottom" fmla="*/ 422640 h 44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98600" y="1217520"/>
            <a:ext cx="241200" cy="738360"/>
          </a:xfrm>
          <a:custGeom>
            <a:avLst/>
            <a:gdLst>
              <a:gd name="textAreaLeft" fmla="*/ 70920 w 241200"/>
              <a:gd name="textAreaRight" fmla="*/ 241560 w 241200"/>
              <a:gd name="textAreaTop" fmla="*/ 30600 h 738360"/>
              <a:gd name="textAreaBottom" fmla="*/ 707760 h 73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306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174080" y="1290600"/>
            <a:ext cx="75960" cy="228600"/>
          </a:xfrm>
          <a:custGeom>
            <a:avLst/>
            <a:gdLst>
              <a:gd name="textAreaLeft" fmla="*/ 22320 w 75960"/>
              <a:gd name="textAreaRight" fmla="*/ 76320 w 75960"/>
              <a:gd name="textAreaTop" fmla="*/ 9360 h 228600"/>
              <a:gd name="textAreaBottom" fmla="*/ 2192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72200" y="1257480"/>
            <a:ext cx="162000" cy="441000"/>
          </a:xfrm>
          <a:custGeom>
            <a:avLst/>
            <a:gdLst>
              <a:gd name="textAreaLeft" fmla="*/ 47520 w 162000"/>
              <a:gd name="textAreaRight" fmla="*/ 162360 w 162000"/>
              <a:gd name="textAreaTop" fmla="*/ 18360 h 441000"/>
              <a:gd name="textAreaBottom" fmla="*/ 422640 h 44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306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989760" y="1209600"/>
            <a:ext cx="241200" cy="738360"/>
          </a:xfrm>
          <a:custGeom>
            <a:avLst/>
            <a:gdLst>
              <a:gd name="textAreaLeft" fmla="*/ 70920 w 241200"/>
              <a:gd name="textAreaRight" fmla="*/ 241560 w 241200"/>
              <a:gd name="textAreaTop" fmla="*/ 30600 h 738360"/>
              <a:gd name="textAreaBottom" fmla="*/ 707760 h 73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732880" y="1514520"/>
            <a:ext cx="92160" cy="212760"/>
          </a:xfrm>
          <a:custGeom>
            <a:avLst/>
            <a:gdLst>
              <a:gd name="textAreaLeft" fmla="*/ 0 w 92160"/>
              <a:gd name="textAreaRight" fmla="*/ 64800 w 92160"/>
              <a:gd name="textAreaTop" fmla="*/ 8640 h 212760"/>
              <a:gd name="textAreaBottom" fmla="*/ 204120 h 21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306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737560" y="1465200"/>
            <a:ext cx="187200" cy="466920"/>
          </a:xfrm>
          <a:custGeom>
            <a:avLst/>
            <a:gdLst>
              <a:gd name="textAreaLeft" fmla="*/ 0 w 187200"/>
              <a:gd name="textAreaRight" fmla="*/ 131400 w 187200"/>
              <a:gd name="textAreaTop" fmla="*/ 19440 h 466920"/>
              <a:gd name="textAreaBottom" fmla="*/ 447480 h 4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65480" y="1506600"/>
            <a:ext cx="91800" cy="212760"/>
          </a:xfrm>
          <a:custGeom>
            <a:avLst/>
            <a:gdLst>
              <a:gd name="textAreaLeft" fmla="*/ 0 w 91800"/>
              <a:gd name="textAreaRight" fmla="*/ 64440 w 91800"/>
              <a:gd name="textAreaTop" fmla="*/ 8640 h 212760"/>
              <a:gd name="textAreaBottom" fmla="*/ 204120 h 21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70160" y="1457280"/>
            <a:ext cx="187200" cy="466920"/>
          </a:xfrm>
          <a:custGeom>
            <a:avLst/>
            <a:gdLst>
              <a:gd name="textAreaLeft" fmla="*/ 0 w 187200"/>
              <a:gd name="textAreaRight" fmla="*/ 131400 w 187200"/>
              <a:gd name="textAreaTop" fmla="*/ 19440 h 466920"/>
              <a:gd name="textAreaBottom" fmla="*/ 447480 h 4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306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52640" y="316620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069"/>
                </a:solidFill>
                <a:latin typeface="ITC Officina Sans Book"/>
              </a:rPr>
              <a:t>client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91680" y="316620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069"/>
                </a:solidFill>
                <a:latin typeface="ITC Officina Sans Book"/>
              </a:rPr>
              <a:t>client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530480" y="468108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3069"/>
                </a:solidFill>
                <a:latin typeface="ITC Officina Sans Book"/>
              </a:rPr>
              <a:t>context map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53840" y="467784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3069"/>
                </a:solidFill>
                <a:latin typeface="ITC Officina Sans Book"/>
              </a:rPr>
              <a:t>context map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93840" y="87372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3069"/>
                </a:solidFill>
                <a:latin typeface="Times New Roman"/>
              </a:rPr>
              <a:t>pool list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45080" y="881640"/>
            <a:ext cx="92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3069"/>
                </a:solidFill>
                <a:latin typeface="Times New Roman"/>
              </a:rPr>
              <a:t>region list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9880" y="1049400"/>
            <a:ext cx="297000" cy="871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513040" y="1154160"/>
            <a:ext cx="453960" cy="21744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Source glimpses (create &amp; map a Section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17320" y="1020240"/>
            <a:ext cx="4221000" cy="545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create_attrib_object(name, &amp;obj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ZwCreateSection( &amp;hdl, ..., &amp;obj, ...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ZwOpenSection( &amp;hdl, ..., &amp;obj  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3069"/>
                </a:solidFill>
                <a:latin typeface="ITC Officina Sans Book"/>
              </a:rPr>
              <a:t>Case 1)</a:t>
            </a:r>
            <a:r>
              <a:rPr b="1" i="1" lang="en-GB" sz="14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get_from_pool(name, &amp;tmpaddr) == FALSE: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if (osvi.dwMajorVersion == WIN2000 ) 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mappedAddr = shm_offset(); 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                      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/* already stored sections */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 else if (osvi.dwMajorVersion == WINNT) 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mappedAddr = 0L; /* use the first free area. */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c = ZwMapViewOfSection( hdl, (HANDLE)-1, &amp;mappedAddr, ...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if (rc != STATUS_SUCCESS) 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if (mappedAddr == 0)  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mappedAddr = SHAREDEND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endParaRPr b="1" lang="en-US" sz="12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90960" y="1020600"/>
            <a:ext cx="422136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/* incremental, aligned placement */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for( ; mappedAddr != SHAREDBEGIN; 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mappedAddr -= SHAREDSTEP )  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c = ZwMapViewOfSection( hdl, (HANDLE)-1, mappedAddr, ... 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if( rc == STATUS_SUCCESS )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break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put_to_pool(name, mappedAddr, rsize)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3069"/>
                </a:solidFill>
                <a:latin typeface="ITC Officina Sans Book"/>
              </a:rPr>
              <a:t>Case 2)</a:t>
            </a:r>
            <a:r>
              <a:rPr b="1" i="1" lang="en-GB" sz="14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get_from_pool(name, &amp;tmpaddr) == TRUE: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mappedAddr = (char*) tmpaddr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ZwMapViewOfSection( hdl, (HANDLE)-1, &amp;mappedAddr, ...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3069"/>
                </a:solidFill>
                <a:latin typeface="ITC Officina Sans Book"/>
              </a:rPr>
              <a:t>Both cases:</a:t>
            </a:r>
            <a:endParaRPr b="1" lang="en-US" sz="16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notice_mapping_in_context(mappedAddr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Source glimpses (creation of a Shared Heap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17320" y="1020240"/>
            <a:ext cx="4221000" cy="545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if (poolAddr == 0) { 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init_shared_address_pool(); /* give access to the 2 internal regions */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shm_map_all(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g = regionlist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while( reg ) 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pr = reg-&gt;pregion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if( strcmp(pr-&gt;name, name) == 0 ) 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*phdl = (unsigned long)pr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turn SHM_EXISTS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g = reg-&gt;next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90960" y="1020600"/>
            <a:ext cx="422136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shm_section( name, size, &amp;addr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... init internal heap managment data ... 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g = shm_alloc( poolListAddr, sizeof(USEDREGION)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g-&gt;pregion = addr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g-&gt;next = regionlist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gionlist = reg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endParaRPr b="1" lang="en-US" sz="12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Source glimpses (init of internal sections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17320" y="1020240"/>
            <a:ext cx="4221000" cy="545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3069"/>
                </a:solidFill>
                <a:latin typeface="ITC Officina Sans Book"/>
              </a:rPr>
              <a:t>Case 1)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regionlist == 0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t0 = shm_section((char*)REGIONPOOLNAME, poolSize0, &amp;poolAddr 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/* local var poolAdr is != NULL from now on, will trigger action of the other pool funcs ... */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if ((ret0 == SHM_OK) || (ret0 == SHM_EXISTS)) 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gion0 = poolAddr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t1 = shm_heap((char*)REGIONLISTNAME, poolSize1, &amp;poolListAddr, TRUE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if ((ret1 == SHM_OK) || (ret1 == SHM_EXISTS)) 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if (ret0 == SHM_OK) 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gion1 = poolListAddr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put_to_pool(REGIONPOOLNAME, poolAddr, poolSize0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0960" y="1020600"/>
            <a:ext cx="422136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while((spe++) &lt;= lastSpe) 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spe-&gt;name[0] = 0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spe-&gt;addr = 0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spe-&gt;size = 0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g = shm_alloc( poolListAddr,        sizeof(USEDREGION)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g-&gt;next = regionlist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g-&gt;pregion = (REGIONGLOBALS*)poolListAddr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gionlist = reg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3069"/>
                </a:solidFill>
                <a:latin typeface="ITC Officina Sans Book"/>
              </a:rPr>
              <a:t>Case 2)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regionlist != 0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shm_map((char*)REGIONPOOLNAME, poolSize0, &amp;region0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poolAddr = region0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shm_map((char*)REGIONLISTNAME, poolSize1, &amp;region1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poolListAddr = region1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Interface (1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int shm_section(char * name, unsigned long int rsize, unsigned long int * phdl);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819000" indent="-28548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creates a “raw” (to be managed by user) </a:t>
            </a:r>
            <a:r>
              <a:rPr b="0" i="1" lang="en-GB" sz="2000" spc="-1" strike="noStrike">
                <a:solidFill>
                  <a:srgbClr val="003069"/>
                </a:solidFill>
                <a:latin typeface="ITC Officina Sans Book"/>
              </a:rPr>
              <a:t>shared memory section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819000" indent="-28548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no malloc/free availabl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int shm_heap(char * name, unsigned long int rsize, unsigned   long int * phdl, BOOL forceInit);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819000" indent="-28548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creates a </a:t>
            </a:r>
            <a:r>
              <a:rPr b="0" i="1" lang="en-GB" sz="2000" spc="-1" strike="noStrike">
                <a:solidFill>
                  <a:srgbClr val="003069"/>
                </a:solidFill>
                <a:latin typeface="ITC Officina Sans Book"/>
              </a:rPr>
              <a:t>shared memory heap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providing classic malloc/fre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based on shm_section(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int shm_delete_section(unsigned long int hdl);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819000" indent="-285480">
              <a:lnSpc>
                <a:spcPct val="12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deletes a shared memory section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819000" indent="-285480">
              <a:lnSpc>
                <a:spcPct val="12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or a shared heap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void * shm_alloc(unsigned long int hdl, unsigned long int size);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allocates a chunk in the denoted shared heap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int shm_free(void * addr );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releases a chunk in the denoted shared heap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int shm_exit();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unmaps all sections from a clien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does not delete any section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SzPct val="12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irrespective the internal section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521000" indent="-187560">
              <a:spcBef>
                <a:spcPts val="499"/>
              </a:spcBef>
              <a:buClr>
                <a:srgbClr val="0063ce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which are deleted, if they are the solely remainder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Interface (2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Interface (3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int shm_map( char * name, unsigned long int rsize, unsigned long int * paddr); 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map a single, specific shared memory section/heap.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22200" indent="-32220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void shm_map_all();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map ALL remote created shared memory section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into current address spac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22200" indent="-32220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long int shm_map_by_exeption(EXCEPTION_POINTERS* EP );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map ALL remote created shared memory sections by “</a:t>
            </a:r>
            <a:r>
              <a:rPr b="0" i="1" lang="en-GB" sz="2000" spc="-1" strike="noStrike">
                <a:solidFill>
                  <a:srgbClr val="003069"/>
                </a:solidFill>
                <a:latin typeface="ITC Officina Sans Book"/>
              </a:rPr>
              <a:t>trap on use”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int q_read(              </a:t>
            </a:r>
            <a:endParaRPr b="0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 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__try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   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[...main q_read code...]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   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   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__except (shm_map_by_exeption(GetExceptionInformation())) 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   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)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Interface (4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20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void shm_list_pools();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print information about all shared memory address pools (</a:t>
            </a:r>
            <a:r>
              <a:rPr b="1" i="1" lang="en-GB" sz="2000" spc="-1" strike="noStrike">
                <a:solidFill>
                  <a:srgbClr val="003069"/>
                </a:solidFill>
                <a:latin typeface="ITC Officina Sans Book"/>
              </a:rPr>
              <a:t>pool list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)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-214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nam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-214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addres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-214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size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-214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rang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22200" indent="-322200">
              <a:lnSpc>
                <a:spcPct val="18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void shm_list_heap( FILE * outf, char * name );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service/debug. List internal management data of a shared memory heap. 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used in Program </a:t>
            </a:r>
            <a:r>
              <a:rPr b="0" i="1" lang="en-GB" sz="2000" spc="-1" strike="noStrike">
                <a:solidFill>
                  <a:srgbClr val="003069"/>
                </a:solidFill>
                <a:latin typeface="ITC Officina Sans Book"/>
              </a:rPr>
              <a:t>shmList.exe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, not really necessary for implementation.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Introduction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Problems in VCMS with using Memory-Mapped Files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Fundamentals of the new implementation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New problems to resolve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Source glimpses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Interface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Discussion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Why dynamic-link-libraries for sharing?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We’ve handled shared dynamic data. What’s about linking?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can we get  rid of that clumsy </a:t>
            </a:r>
            <a:r>
              <a:rPr b="0" lang="en-GB" sz="2000" spc="-1" strike="noStrike">
                <a:solidFill>
                  <a:srgbClr val="f1230d"/>
                </a:solidFill>
                <a:latin typeface="ITC Officina Sans Book"/>
              </a:rPr>
              <a:t>/base:0x60100000 /fixed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linkage now?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069"/>
                </a:solidFill>
                <a:latin typeface="ITC Officina Sans Book"/>
              </a:rPr>
              <a:t>YES! 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But hasn’t  </a:t>
            </a:r>
            <a:r>
              <a:rPr b="1" lang="en-GB" sz="2000" spc="-1" strike="noStrike">
                <a:solidFill>
                  <a:srgbClr val="003069"/>
                </a:solidFill>
                <a:latin typeface="ITC Officina Sans Book"/>
              </a:rPr>
              <a:t>SHM_NT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have to handle the shared static data, too? By moving it all into shared memory sections?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51560" indent="-21024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069"/>
                </a:solidFill>
                <a:latin typeface="ITC Officina Sans Book"/>
              </a:rPr>
              <a:t>NO!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We can safely ignore this type of FRAME data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57716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if it is located and referenced in the </a:t>
            </a:r>
            <a:r>
              <a:rPr b="0" i="1" lang="en-GB" sz="2000" spc="-1" strike="noStrike">
                <a:solidFill>
                  <a:srgbClr val="003069"/>
                </a:solidFill>
                <a:latin typeface="ITC Officina Sans Book"/>
              </a:rPr>
              <a:t>stack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only (single process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57716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if it is </a:t>
            </a:r>
            <a:r>
              <a:rPr b="1" i="1" lang="en-GB" sz="2000" spc="-1" strike="noStrike">
                <a:solidFill>
                  <a:srgbClr val="003069"/>
                </a:solidFill>
                <a:latin typeface="ITC Officina Sans Book"/>
              </a:rPr>
              <a:t>non-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win32 code, like all partition-memory related data </a:t>
            </a:r>
            <a:r>
              <a:rPr b="0" i="1" lang="en-GB" sz="2000" spc="-1" strike="noStrike">
                <a:solidFill>
                  <a:srgbClr val="901508"/>
                </a:solidFill>
                <a:latin typeface="Comic Sans MS"/>
              </a:rPr>
              <a:t>(by now! Partitions may come to win32 later on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57716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if the data (or any sub-data, if structured) isn’t remembered by it’s location (&amp; address operator and resulting pointer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15360" indent="-31536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Why providing a DLL-solution only (no shm_nt.lib)?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069"/>
                </a:solidFill>
                <a:latin typeface="ITC Officina Sans Book"/>
              </a:rPr>
              <a:t>SHM_NT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uses VCMS semaphores, based on shared data. Easily achieved by constituting a dll. </a:t>
            </a:r>
            <a:r>
              <a:rPr b="0" lang="en-GB" sz="2000" spc="-1" strike="noStrike">
                <a:solidFill>
                  <a:srgbClr val="901508"/>
                </a:solidFill>
                <a:latin typeface="Comic Sans MS"/>
              </a:rPr>
              <a:t>Suggestion for a coming VCMS-Release:  dynamic semaphore creation, based on a SHM_NT section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Result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We earn a better performance now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35480" indent="-2829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which is at least, say, 30 % faster than the best of previou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35480" indent="-2829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rather independent from queue buffer element siz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39480" indent="-339480">
              <a:lnSpc>
                <a:spcPct val="18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Why isn’t performance gain higher on larger queues?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35480" indent="-2829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good question!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35480" indent="-2829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but why should it?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31480" indent="-22608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de-coupling is properly don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599840" indent="-279720">
              <a:spcBef>
                <a:spcPts val="499"/>
              </a:spcBef>
              <a:buClr>
                <a:srgbClr val="0063ce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by eliminating the Windows 2nd abstraction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31480" indent="-22608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No further scheduling/dispatching problem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31480" indent="-22608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we have only one Processor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39480" indent="-339480">
              <a:lnSpc>
                <a:spcPct val="18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Discussion, anybody?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How to access and use the SHM-NT Gadge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Sources: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\gpf\shm_nt\…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\gpf\vcms-nt\… </a:t>
            </a: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example of usage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Includes: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069"/>
                </a:solidFill>
                <a:latin typeface="ITC Officina Sans Book"/>
              </a:rPr>
              <a:t>\gpf\shm_nt\inc\shm_nt.h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DLL: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\gpf\shm_nt\lib\shm_nt.dl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Lables (preliminary):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SHM_NT_FLOA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VCMS_FLOA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Further reading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6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Jeffrey Richter, MS-Windows für Experten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20720" indent="-2772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An introduction into Windows System Programming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-33264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Gary Nebbett, WINDOWS NT/2000 Native API Reference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20720" indent="-2772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Win NT/2K undocumented system call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-332640">
              <a:lnSpc>
                <a:spcPct val="17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Randy Kath, Managing Virtual Memory in Win32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20720" indent="-277200">
              <a:spcBef>
                <a:spcPts val="45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069"/>
                </a:solidFill>
                <a:latin typeface="ITC Officina Sans Book"/>
              </a:rPr>
              <a:t>http://msdn.microsoft.com/library/en-us/dngenlib/html/msdn_virtmm.asp</a:t>
            </a: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-33264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Randy Kath, Managing Memory-Mapped Files in Win32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20720" indent="-277200">
              <a:spcBef>
                <a:spcPts val="45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069"/>
                </a:solidFill>
                <a:latin typeface="ITC Officina Sans Book"/>
              </a:rPr>
              <a:t>http://msdn.microsoft.com/library/en-us/dngenlib/html/msdn_manamemo.asp</a:t>
            </a: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069"/>
                </a:solidFill>
                <a:latin typeface="ITC Officina Sans Book"/>
              </a:rPr>
              <a:t>End</a:t>
            </a: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(Enough for today)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Problems with using Memory-Mapped Files (1)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6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Linking on fixed Address required for some DLL’s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pointer issues on different address-ranges requires static linkag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08440" indent="-221400">
              <a:lnSpc>
                <a:spcPct val="13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cms.dll:  /base:0x20000000 /fixed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08440" indent="-221400">
              <a:lnSpc>
                <a:spcPct val="13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frame.dll: /base:0x60100000 /fixed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-332640">
              <a:lnSpc>
                <a:spcPct val="23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Performance Issues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ome G23Net test cases failed with time ou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tunning result after foolish fiddling with parameters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08440" indent="-221400">
              <a:lnSpc>
                <a:spcPct val="130000"/>
              </a:lnSpc>
              <a:spcBef>
                <a:spcPts val="499"/>
              </a:spcBef>
              <a:buClr>
                <a:srgbClr val="0063ce"/>
              </a:buClr>
              <a:buSzPct val="12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069"/>
                </a:solidFill>
                <a:latin typeface="ITC Officina Sans Book"/>
              </a:rPr>
              <a:t>The bigger the queu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567440" indent="-273960">
              <a:lnSpc>
                <a:spcPct val="130000"/>
              </a:lnSpc>
              <a:spcBef>
                <a:spcPts val="601"/>
              </a:spcBef>
              <a:buClr>
                <a:srgbClr val="0063ce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069"/>
                </a:solidFill>
                <a:latin typeface="ITC Officina Sans Book"/>
              </a:rPr>
              <a:t>the slower the transfer?!?</a:t>
            </a:r>
            <a:r>
              <a:rPr b="1" i="1" lang="en-US" sz="24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8354880" y="969480"/>
            <a:ext cx="1143000" cy="1414440"/>
          </a:xfrm>
          <a:prstGeom prst="line">
            <a:avLst/>
          </a:prstGeom>
          <a:ln cap="rnd" w="12600">
            <a:solidFill>
              <a:srgbClr val="00306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765600" y="2373120"/>
            <a:ext cx="4587840" cy="25333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224080" y="4933440"/>
            <a:ext cx="1515960" cy="4734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8400" y="5417640"/>
            <a:ext cx="1503360" cy="3049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Problems with using Memory-Mapped Files (2)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VCMS: Increasing the queue size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0" algn="ctr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127920"/>
            <a:ext cx="807732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2280" y="5722920"/>
            <a:ext cx="8712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1120" y="5343480"/>
            <a:ext cx="8712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1120" y="4962600"/>
            <a:ext cx="8712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1640" y="4584600"/>
            <a:ext cx="874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2280" y="4192560"/>
            <a:ext cx="8712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3809880"/>
            <a:ext cx="874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1120" y="3424320"/>
            <a:ext cx="8712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3048120"/>
            <a:ext cx="874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666880"/>
            <a:ext cx="874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438200" y="602460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057320" y="602460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819440" y="603252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200320" y="603252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585880" y="602460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962440" y="602460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344760" y="602136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727440" y="603252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105440" y="602460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486320" y="603252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63960" y="6038640"/>
            <a:ext cx="0" cy="918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543800" y="602460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404040" y="603252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278320" y="603252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664240" y="6038640"/>
            <a:ext cx="0" cy="918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000840" y="6038640"/>
            <a:ext cx="0" cy="918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773760" y="603252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162920" y="602136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924680" y="602136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8305920" y="605304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9040" y="2278080"/>
            <a:ext cx="0" cy="3867120"/>
          </a:xfrm>
          <a:prstGeom prst="line">
            <a:avLst/>
          </a:prstGeom>
          <a:ln w="12600">
            <a:solidFill>
              <a:srgbClr val="003069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28520" y="61840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069"/>
                </a:solidFill>
                <a:latin typeface="ITC Officina Sans Book"/>
              </a:rPr>
              <a:t>1000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480" y="546012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069"/>
                </a:solidFill>
                <a:latin typeface="ITC Officina Sans Book"/>
              </a:rPr>
              <a:t>22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920" y="476136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069"/>
                </a:solidFill>
                <a:latin typeface="ITC Officina Sans Book"/>
              </a:rPr>
              <a:t>26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640" y="205632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069"/>
                </a:solidFill>
                <a:latin typeface="ITC Officina Sans Book"/>
              </a:rPr>
              <a:t>40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520" y="509976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069"/>
                </a:solidFill>
                <a:latin typeface="ITC Officina Sans Book"/>
              </a:rPr>
              <a:t>24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6920" y="617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069"/>
                </a:solidFill>
                <a:latin typeface="ITC Officina Sans Book"/>
              </a:rPr>
              <a:t>1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09760" y="61668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069"/>
                </a:solidFill>
                <a:latin typeface="ITC Officina Sans Book"/>
              </a:rPr>
              <a:t>3000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046720" y="617616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069"/>
                </a:solidFill>
                <a:latin typeface="ITC Officina Sans Book"/>
              </a:rPr>
              <a:t>5000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85880" y="61840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069"/>
                </a:solidFill>
                <a:latin typeface="ITC Officina Sans Book"/>
              </a:rPr>
              <a:t>2000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19600" y="61650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069"/>
                </a:solidFill>
                <a:latin typeface="ITC Officina Sans Book"/>
              </a:rPr>
              <a:t>4000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03960" y="5247360"/>
            <a:ext cx="233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069"/>
                </a:solidFill>
                <a:latin typeface="ITC Officina Sans Book"/>
              </a:rPr>
              <a:t>Queue Elements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39800" y="1865880"/>
            <a:ext cx="29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069"/>
                </a:solidFill>
                <a:latin typeface="ITC Officina Sans Book"/>
              </a:rPr>
              <a:t>Time in seconds 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069"/>
                </a:solidFill>
                <a:latin typeface="ITC Officina Sans Book"/>
              </a:rPr>
              <a:t>including silent (10s?)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55680" y="5357880"/>
            <a:ext cx="108000" cy="108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83160" y="4879800"/>
            <a:ext cx="107640" cy="108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05920" y="2320920"/>
            <a:ext cx="108000" cy="108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2960" y="5675400"/>
            <a:ext cx="108000" cy="108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448920" y="912960"/>
            <a:ext cx="108000" cy="107640"/>
          </a:xfrm>
          <a:prstGeom prst="ellipse">
            <a:avLst/>
          </a:prstGeom>
          <a:solidFill>
            <a:srgbClr val="ff0000"/>
          </a:solidFill>
          <a:ln cap="rnd" w="12600">
            <a:solidFill>
              <a:srgbClr val="00306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080640" y="137088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069"/>
                </a:solidFill>
                <a:latin typeface="ITC Officina Sans Book"/>
              </a:rPr>
              <a:t>7000/48s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Problems with using Memory-Mapped Files (3)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3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Why?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15360" indent="-315360">
              <a:lnSpc>
                <a:spcPct val="15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Assumption: 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lnSpc>
                <a:spcPct val="15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the bigger size of the queue seems to provoke a higher system utilization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Quick guesses: 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lnSpc>
                <a:spcPct val="12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caused by an additional abstraction layer of file mapped shared memory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51560" indent="-210240">
              <a:lnSpc>
                <a:spcPct val="12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which </a:t>
            </a:r>
            <a:r>
              <a:rPr b="0" i="1" lang="en-GB" sz="2000" spc="-1" strike="noStrike">
                <a:solidFill>
                  <a:srgbClr val="003069"/>
                </a:solidFill>
                <a:latin typeface="ITC Officina Sans Book"/>
              </a:rPr>
              <a:t>“covers”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the shared memory system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lnSpc>
                <a:spcPct val="12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a bad scheduling provokes dispatching of idle processe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15360" indent="-315360">
              <a:lnSpc>
                <a:spcPct val="2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Target solution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lnSpc>
                <a:spcPct val="12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elimination of the additional abstraction layer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Problems with using Memory-Mapped Files (4)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9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Additional Abstraction-Layer of Memory-Mapped Files</a:t>
            </a: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endParaRPr b="1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76080" indent="-259920">
              <a:lnSpc>
                <a:spcPct val="15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reateFile(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76080" indent="-259920">
              <a:lnSpc>
                <a:spcPct val="15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reateFileMapping(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76080" indent="-259920">
              <a:lnSpc>
                <a:spcPct val="16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MapViewOfFile(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12120" indent="-312120">
              <a:lnSpc>
                <a:spcPct val="26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uses undocumented shared memory internal functions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76080" indent="-259920">
              <a:lnSpc>
                <a:spcPct val="15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ZwCreateSection(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76080" indent="-259920">
              <a:lnSpc>
                <a:spcPct val="15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ZwMapViewOfSection(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40040" indent="0">
              <a:lnSpc>
                <a:spcPct val="2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Fundamentals of the new implementation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Frank Reglin’s sample application: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focuses the internal management of shared memory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-214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named section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-214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linked list of section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-214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managing section contents via alloc/fre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base usage of Zw*() function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Some undocumented Windows NT/2000 Zw*() functions: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ZwCreateSection(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ZwOpenSection(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ZwMapViewOfSection(), ZwUnmapViewOfSection(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missing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-214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ZwDeleteSection(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-214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ZwCloseSection(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New problems to resolve (1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ZwMapViewOfSection() doesn’t guarantee a unique mapped location for all views of the same memory section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76080" indent="-25992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a main goal of our implementation, enhancing the Windows shared mem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but how to achieve?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76080" indent="-25992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ZwMapViewOfSection(hdl, …, &amp;addr, ...) with addr == 0 means automatic view map placemen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76080" indent="-25992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addr returns the resulting location of this premier placemen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76080" indent="-25992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which mustn’t change for all further ZwMapViewOfSection() calls with the same handl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76080" indent="-25992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and as to be propagated to all clients, henc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Win 2000 rejects automatic view map placement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76080" indent="-25992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an incremental, aligned placement has to be applied instead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76080" indent="-25992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till mapping of a premier view placement succeed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New problems to resolve (2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OK, an initial map view placement of a given section may succeed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How to propagate the location to all clients of interest?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Message Passing?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temporary File?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other IPC mechanism?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Why not use the new shared memory gadget?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constituting a </a:t>
            </a:r>
            <a:r>
              <a:rPr b="1" i="1" lang="en-GB" sz="2000" spc="-1" strike="noStrike">
                <a:solidFill>
                  <a:srgbClr val="003069"/>
                </a:solidFill>
                <a:latin typeface="ITC Officina Sans Book"/>
              </a:rPr>
              <a:t>pool list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containing section addresses inside a specific, qualified shared memory section?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UB</dc:creator>
  <dc:description/>
  <dc:language>en-US</dc:language>
  <cp:lastModifiedBy>Reinhard Meyer</cp:lastModifiedBy>
  <cp:lastPrinted>1999-03-09T09:45:08Z</cp:lastPrinted>
  <dcterms:modified xsi:type="dcterms:W3CDTF">2002-06-07T13:27:20Z</dcterms:modified>
  <cp:revision>368</cp:revision>
  <dc:subject>G23 Training</dc:subject>
  <dc:title>Agenda</dc:title>
</cp:coreProperties>
</file>