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28F6C-C76F-4C95-A25F-627F5591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160D3-858E-4678-94DC-29A3AE81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1408A-AEAC-43CE-99A9-79395551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966CF-12AF-45F6-8445-76C3F073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D87D9-B8D8-4B23-B22A-B88B8CD1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51E0F-CBE9-4483-A277-7C430B3B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A6C46-BB9A-41E6-AA6D-AE614F70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442B8-E743-4101-B5F3-1C96E527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D7572-C3D5-41B7-A623-3884C9B6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76995-B873-4CC4-AA33-D5F75A5D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192B0-A736-4B46-B842-33042E52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3D500-5AED-4608-BEAF-85AFC9E6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5AA32C8C-7376-4AE3-BE35-AACDBA1AE1DB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1320" y="659916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4121-F016-4965-8624-56308DA0FFD2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51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60240" y="2057400"/>
            <a:ext cx="173376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3048120"/>
            <a:ext cx="1071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43520" y="3048120"/>
            <a:ext cx="66024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48160" y="335268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1905120"/>
            <a:ext cx="130644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30880" y="3657600"/>
            <a:ext cx="9907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65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 </a:t>
              </a:r>
              <a:br>
                <a:rPr sz="2400"/>
              </a:b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(ccddata_dll.dl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066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concept without TI-Multip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03440" y="266688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75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60240" y="2057400"/>
            <a:ext cx="193068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81360" y="3048120"/>
            <a:ext cx="774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51440" y="3200400"/>
            <a:ext cx="135864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48160" y="236232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29240" y="1905120"/>
            <a:ext cx="5778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30880" y="3657600"/>
            <a:ext cx="9907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89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br>
                <a:rPr sz="2400"/>
              </a:b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(ccddata_dll.dl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066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 with TI-Multip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03440" y="167652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1905120"/>
            <a:ext cx="7495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51440" y="1905120"/>
            <a:ext cx="143496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-MUX</a:t>
            </a:r>
            <a:br>
              <a:rPr sz="2400"/>
            </a:b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TraceMultiplexer.ex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572000" y="26668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27432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94489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target side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enable L1-tracing over one of the Com-Ports of the B/C-Sample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via monitor-program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1" name=""/>
          <p:cNvSpPr/>
          <p:nvPr/>
        </p:nvSpPr>
        <p:spPr>
          <a:xfrm>
            <a:off x="1650960" y="1228680"/>
            <a:ext cx="6600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4722840" cy="1600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0" y="3733920"/>
            <a:ext cx="2781360" cy="2381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3102120" cy="2682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38280" y="327672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4952880"/>
            <a:ext cx="1371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9448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</a:t>
            </a: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</a:t>
            </a: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estsystem/tool side (1)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earCase: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insert “include \\hokus\csi\gpf_testtools.csi” right after “mkbranch xxx_view” in your ConfigSpec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general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build ccddata_dll.dll (in /GPF/BIN)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initvars.b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 ccddata gprs win32 tr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</a:t>
            </a: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</a:t>
            </a: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estsystem/tool side (2)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general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opy …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\\rk\ti_mux\bin\TraceMultiplexer.exe -&gt; /GPF/BI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t baudrate of comport inside TI-TraceMultiplexer to 115200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2985840" cy="1590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86200" y="4029120"/>
            <a:ext cx="5591160" cy="1366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71600" y="4267080"/>
            <a:ext cx="2590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Usag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estsystem/tool side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tart pco2.bat in /GPF/BIN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AVE! For Win2000-SP2 use pco2000.bat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e /GPF/DOC/pco/pco_userguide.doc and /GPF/DOC/xpanel/xpan_userguide.doc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r detailed informa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Exit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766880" cy="525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828800" y="5181480"/>
            <a:ext cx="61722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0-10-17T07:41:10Z</cp:lastPrinted>
  <dcterms:modified xsi:type="dcterms:W3CDTF">2001-08-20T15:36:50Z</dcterms:modified>
  <cp:revision>80</cp:revision>
  <dc:subject/>
  <dc:title>xPanel &amp; PCO2</dc:title>
</cp:coreProperties>
</file>