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B36B-4562-4861-AEE3-57CB379FC28F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5708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C2B55CBE-46F4-46FE-B5AD-A45C8DDA5DA3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1600" y="1566720"/>
            <a:ext cx="76676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069"/>
                </a:solidFill>
                <a:latin typeface="Arial"/>
              </a:rPr>
              <a:t>Automated Test Case Generation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069"/>
                </a:solidFill>
                <a:latin typeface="Arial"/>
              </a:rPr>
              <a:t>with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069"/>
                </a:solidFill>
                <a:latin typeface="Arial"/>
              </a:rPr>
              <a:t>TC-Gen</a:t>
            </a:r>
            <a:endParaRPr b="0" lang="en-US" sz="6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(an introduction)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7667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TAP-Test Example (test case run)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22520" y="4800600"/>
            <a:ext cx="920880" cy="9144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2560" y="586728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89880" y="4648320"/>
            <a:ext cx="10062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0120" y="762120"/>
            <a:ext cx="1218960" cy="2590560"/>
          </a:xfrm>
          <a:prstGeom prst="rect">
            <a:avLst/>
          </a:prstGeom>
          <a:solidFill>
            <a:srgbClr val="6699ff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P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l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962520" y="2286000"/>
            <a:ext cx="3657240" cy="1905120"/>
            <a:chOff x="3962520" y="2286000"/>
            <a:chExt cx="3657240" cy="1905120"/>
          </a:xfrm>
        </p:grpSpPr>
        <p:sp>
          <p:nvSpPr>
            <p:cNvPr id="278" name=""/>
            <p:cNvSpPr/>
            <p:nvPr/>
          </p:nvSpPr>
          <p:spPr>
            <a:xfrm>
              <a:off x="3962520" y="2590920"/>
              <a:ext cx="1295640" cy="16002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imes New Roman"/>
                </a:rPr>
                <a:t>TAP2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257800" y="2743200"/>
              <a:ext cx="2361960" cy="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34120" y="2286000"/>
              <a:ext cx="70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start</a:t>
              </a:r>
              <a:br>
                <a:rPr sz="2400"/>
              </a:b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stop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696080" y="3657600"/>
            <a:ext cx="1295640" cy="2057400"/>
            <a:chOff x="7696080" y="3657600"/>
            <a:chExt cx="1295640" cy="2057400"/>
          </a:xfrm>
        </p:grpSpPr>
        <p:sp>
          <p:nvSpPr>
            <p:cNvPr id="282" name=""/>
            <p:cNvSpPr/>
            <p:nvPr/>
          </p:nvSpPr>
          <p:spPr>
            <a:xfrm>
              <a:off x="8153280" y="3657600"/>
              <a:ext cx="838440" cy="8380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069"/>
                  </a:solidFill>
                  <a:latin typeface="Arial"/>
                </a:rPr>
                <a:t>.dbg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069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77320" y="4800600"/>
              <a:ext cx="914400" cy="9144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069"/>
                  </a:solidFill>
                  <a:latin typeface="Arial"/>
                </a:rPr>
                <a:t>PCO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3069"/>
                  </a:solidFill>
                  <a:latin typeface="Arial"/>
                </a:rPr>
                <a:t>logfil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96080" y="5486400"/>
              <a:ext cx="381240" cy="0"/>
            </a:xfrm>
            <a:prstGeom prst="line">
              <a:avLst/>
            </a:prstGeom>
            <a:ln w="7632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696080" y="4191120"/>
              <a:ext cx="457200" cy="76176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H="1">
            <a:off x="7619760" y="3352680"/>
            <a:ext cx="360360" cy="1295640"/>
          </a:xfrm>
          <a:prstGeom prst="line">
            <a:avLst/>
          </a:prstGeom>
          <a:ln w="936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43760" y="38862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5867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657600" y="914400"/>
            <a:ext cx="3504600" cy="3733560"/>
            <a:chOff x="3657600" y="914400"/>
            <a:chExt cx="3504600" cy="3733560"/>
          </a:xfrm>
        </p:grpSpPr>
        <p:grpSp>
          <p:nvGrpSpPr>
            <p:cNvPr id="290" name=""/>
            <p:cNvGrpSpPr/>
            <p:nvPr/>
          </p:nvGrpSpPr>
          <p:grpSpPr>
            <a:xfrm>
              <a:off x="5486400" y="914400"/>
              <a:ext cx="1675800" cy="1219320"/>
              <a:chOff x="5486400" y="914400"/>
              <a:chExt cx="1675800" cy="1219320"/>
            </a:xfrm>
          </p:grpSpPr>
          <p:sp>
            <p:nvSpPr>
              <p:cNvPr id="291" name=""/>
              <p:cNvSpPr/>
              <p:nvPr/>
            </p:nvSpPr>
            <p:spPr>
              <a:xfrm>
                <a:off x="5486400" y="1067040"/>
                <a:ext cx="1512720" cy="1066680"/>
              </a:xfrm>
              <a:prstGeom prst="rect">
                <a:avLst/>
              </a:prstGeom>
              <a:solidFill>
                <a:srgbClr val="00008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664240" y="914400"/>
                <a:ext cx="1497960" cy="106704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ers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3657600" y="1600200"/>
              <a:ext cx="1828800" cy="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6781680" y="2133360"/>
              <a:ext cx="0" cy="251460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53720" y="3352680"/>
              <a:ext cx="1305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Times New Roman"/>
                </a:rPr>
                <a:t>duplicated </a:t>
              </a:r>
              <a:br>
                <a:rPr sz="2000"/>
              </a:br>
              <a:r>
                <a:rPr b="0" lang="de-DE" sz="2000" spc="-1" strike="noStrike">
                  <a:solidFill>
                    <a:srgbClr val="003069"/>
                  </a:solidFill>
                  <a:latin typeface="Times New Roman"/>
                </a:rPr>
                <a:t>primitives,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Times New Roman"/>
                </a:rPr>
                <a:t>trac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52280" y="3505320"/>
            <a:ext cx="1737000" cy="2209320"/>
            <a:chOff x="152280" y="3505320"/>
            <a:chExt cx="1737000" cy="2209320"/>
          </a:xfrm>
        </p:grpSpPr>
        <p:sp>
          <p:nvSpPr>
            <p:cNvPr id="297" name=""/>
            <p:cNvSpPr/>
            <p:nvPr/>
          </p:nvSpPr>
          <p:spPr>
            <a:xfrm>
              <a:off x="152280" y="3505320"/>
              <a:ext cx="1733760" cy="2209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tocol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0000"/>
                  </a:solidFill>
                  <a:latin typeface="Times New Roman"/>
                </a:rPr>
                <a:t>(e.g. win32-exe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7560" y="4872960"/>
              <a:ext cx="1071720" cy="841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523880" y="1371600"/>
            <a:ext cx="5148360" cy="4410360"/>
            <a:chOff x="1523880" y="1371600"/>
            <a:chExt cx="5148360" cy="4410360"/>
          </a:xfrm>
        </p:grpSpPr>
        <p:grpSp>
          <p:nvGrpSpPr>
            <p:cNvPr id="300" name=""/>
            <p:cNvGrpSpPr/>
            <p:nvPr/>
          </p:nvGrpSpPr>
          <p:grpSpPr>
            <a:xfrm>
              <a:off x="1905120" y="4191120"/>
              <a:ext cx="4767120" cy="1590840"/>
              <a:chOff x="1905120" y="4191120"/>
              <a:chExt cx="4767120" cy="1590840"/>
            </a:xfrm>
          </p:grpSpPr>
          <p:sp>
            <p:nvSpPr>
              <p:cNvPr id="301" name=""/>
              <p:cNvSpPr/>
              <p:nvPr/>
            </p:nvSpPr>
            <p:spPr>
              <a:xfrm>
                <a:off x="4275360" y="4268880"/>
                <a:ext cx="12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Times New Roman"/>
                  </a:rPr>
                  <a:t>primitiv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05120" y="5105520"/>
                <a:ext cx="152388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2280" y="4697280"/>
                <a:ext cx="12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Times New Roman"/>
                  </a:rPr>
                  <a:t>primitiv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86360" y="5383080"/>
                <a:ext cx="77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Times New Roman"/>
                  </a:rPr>
                  <a:t>trac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05120" y="5410080"/>
                <a:ext cx="152388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267080" y="4191120"/>
                <a:ext cx="0" cy="60948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43400" y="5334120"/>
                <a:ext cx="23288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902480" y="5307120"/>
                <a:ext cx="77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Times New Roman"/>
                  </a:rPr>
                  <a:t>trac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63120" y="4937040"/>
                <a:ext cx="233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Times New Roman"/>
                  </a:rPr>
                  <a:t>duplicated primitiv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523880" y="1371600"/>
              <a:ext cx="21448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data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59360" y="1539720"/>
              <a:ext cx="135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decode</a:t>
              </a:r>
              <a:br>
                <a:rPr sz="2400"/>
              </a:b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interpret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600" y="1752480"/>
              <a:ext cx="914400" cy="83844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666880" y="2286000"/>
            <a:ext cx="1295640" cy="1143000"/>
          </a:xfrm>
          <a:prstGeom prst="rect">
            <a:avLst/>
          </a:prstGeom>
          <a:solidFill>
            <a:srgbClr val="336600">
              <a:alpha val="50000"/>
            </a:srgbClr>
          </a:solidFill>
          <a:ln w="7632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Times New Roman"/>
              </a:rPr>
              <a:t>Testcase</a:t>
            </a:r>
            <a:br>
              <a:rPr sz="2400"/>
            </a:br>
            <a:r>
              <a:rPr b="1" lang="en-US" sz="2400" spc="-1" strike="noStrike">
                <a:solidFill>
                  <a:srgbClr val="003069"/>
                </a:solidFill>
                <a:latin typeface="Times New Roman"/>
              </a:rPr>
              <a:t>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36680" y="1295280"/>
            <a:ext cx="793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What is a PCO-logfile anyway ?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905120"/>
            <a:ext cx="7936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contains all traces and primitives received during a time period of a testsession (e.g. a field test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... defined by starting/stopping logging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the format is binary but with linebreaks after each primitiv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... and can be interpreted by PCO-server onl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any kind of PCO-viewer may request (portions of) i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... for replaying or other task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12280" y="1294920"/>
            <a:ext cx="8402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For more information see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\gpf\DOC\testplatform_userguide.doc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\gpf\DOC\tdc\tdc_intro.p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\gpf\DOC\pco\pco_intro.p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\gpf\DOC\tapcaller\tapcaller_intro.p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... and many other documents in \gpf\DOC !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3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Why do we need another generator ?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1828800"/>
            <a:ext cx="8534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urrent generators (like tdsgen) don‘t actually generat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... but translate e.g. Word documents into TDS-fil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(and anyway TDS will not be used anymore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actual test case has to be written manuall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... requiring detailed knowledge of the expected behavior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with an automated generator taking the real and</a:t>
            </a:r>
            <a:br>
              <a:rPr sz="2400"/>
            </a:b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p-to-date primitive flow into account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new test cases could be easily creat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buggy behavior could be easily reproduc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657600" y="4267080"/>
            <a:ext cx="658800" cy="246240"/>
          </a:xfrm>
          <a:prstGeom prst="line">
            <a:avLst/>
          </a:prstGeom>
          <a:ln w="1908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5562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Idea: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age of the existing “tool chain”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657600" y="3809880"/>
            <a:ext cx="658800" cy="246240"/>
          </a:xfrm>
          <a:prstGeom prst="line">
            <a:avLst/>
          </a:prstGeom>
          <a:ln w="1908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57600" y="4038480"/>
            <a:ext cx="658800" cy="246240"/>
          </a:xfrm>
          <a:prstGeom prst="line">
            <a:avLst/>
          </a:prstGeom>
          <a:ln w="1908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35840" y="4191120"/>
            <a:ext cx="380880" cy="0"/>
          </a:xfrm>
          <a:prstGeom prst="line">
            <a:avLst/>
          </a:prstGeom>
          <a:ln w="1908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67480" y="3581280"/>
            <a:ext cx="1295640" cy="1143000"/>
          </a:xfrm>
          <a:prstGeom prst="rect">
            <a:avLst/>
          </a:prstGeom>
          <a:solidFill>
            <a:srgbClr val="336600">
              <a:alpha val="50000"/>
            </a:srgbClr>
          </a:solidFill>
          <a:ln w="7632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Times New Roman"/>
              </a:rPr>
              <a:t>Testcase</a:t>
            </a:r>
            <a:br>
              <a:rPr sz="2400"/>
            </a:br>
            <a:r>
              <a:rPr b="1" lang="en-US" sz="2400" spc="-1" strike="noStrike">
                <a:solidFill>
                  <a:srgbClr val="003069"/>
                </a:solidFill>
                <a:latin typeface="Times New Roman"/>
              </a:rPr>
              <a:t>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205740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but eliminating manual behavior assumption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667480" y="1752480"/>
            <a:ext cx="2010960" cy="1310760"/>
            <a:chOff x="5667480" y="1752480"/>
            <a:chExt cx="2010960" cy="1310760"/>
          </a:xfrm>
        </p:grpSpPr>
        <p:sp>
          <p:nvSpPr>
            <p:cNvPr id="334" name=""/>
            <p:cNvSpPr/>
            <p:nvPr/>
          </p:nvSpPr>
          <p:spPr>
            <a:xfrm>
              <a:off x="6113520" y="1752480"/>
              <a:ext cx="1125360" cy="789120"/>
            </a:xfrm>
            <a:prstGeom prst="flowChartMultidocumen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67480" y="2543040"/>
              <a:ext cx="201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Primitive / Message</a:t>
              </a:r>
              <a:br>
                <a:rPr sz="1400"/>
              </a:b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Constants and Struct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21574800">
              <a:off x="6032880" y="205056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p_grr_val.h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290840" y="3886200"/>
            <a:ext cx="1060920" cy="1305720"/>
            <a:chOff x="4290840" y="3886200"/>
            <a:chExt cx="1060920" cy="1305720"/>
          </a:xfrm>
        </p:grpSpPr>
        <p:sp>
          <p:nvSpPr>
            <p:cNvPr id="338" name=""/>
            <p:cNvSpPr/>
            <p:nvPr/>
          </p:nvSpPr>
          <p:spPr>
            <a:xfrm>
              <a:off x="4376520" y="3886200"/>
              <a:ext cx="966600" cy="789480"/>
            </a:xfrm>
            <a:prstGeom prst="flowChartMultidocumen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65000" y="4671720"/>
              <a:ext cx="98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DC 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estcase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21574800">
              <a:off x="4291560" y="420480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069"/>
                  </a:solidFill>
                  <a:latin typeface="ITC Officina Sans Book"/>
                </a:rPr>
                <a:t>GRR.dsp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486400" y="3100320"/>
            <a:ext cx="1562040" cy="1931040"/>
            <a:chOff x="5486400" y="3100320"/>
            <a:chExt cx="1562040" cy="1931040"/>
          </a:xfrm>
        </p:grpSpPr>
        <p:grpSp>
          <p:nvGrpSpPr>
            <p:cNvPr id="342" name=""/>
            <p:cNvGrpSpPr/>
            <p:nvPr/>
          </p:nvGrpSpPr>
          <p:grpSpPr>
            <a:xfrm>
              <a:off x="6020280" y="3898800"/>
              <a:ext cx="1028160" cy="1132560"/>
              <a:chOff x="6020280" y="3898800"/>
              <a:chExt cx="1028160" cy="113256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6175440" y="3898800"/>
                <a:ext cx="726120" cy="602280"/>
                <a:chOff x="6175440" y="3898800"/>
                <a:chExt cx="726120" cy="6022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6481080" y="3917520"/>
                  <a:ext cx="150480" cy="7668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813720" y="415224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206040" y="4152240"/>
                  <a:ext cx="85680" cy="12096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263280" y="3983760"/>
                  <a:ext cx="149040" cy="12168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691320" y="3985920"/>
                  <a:ext cx="150480" cy="12312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263280" y="4316040"/>
                  <a:ext cx="14904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695280" y="4314240"/>
                  <a:ext cx="146880" cy="12312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479640" y="4430880"/>
                  <a:ext cx="146880" cy="702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284520" y="3985920"/>
                  <a:ext cx="529200" cy="44460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450480" y="3898800"/>
                  <a:ext cx="147240" cy="6984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783480" y="4130640"/>
                  <a:ext cx="89640" cy="12348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175440" y="412848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234480" y="3962520"/>
                  <a:ext cx="147240" cy="12096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62880" y="3962520"/>
                  <a:ext cx="146880" cy="1234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234480" y="4294800"/>
                  <a:ext cx="15120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66840" y="4290480"/>
                  <a:ext cx="146880" cy="1252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446880" y="4405320"/>
                  <a:ext cx="146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253560" y="3966840"/>
                  <a:ext cx="531360" cy="44532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454440" y="4130640"/>
                  <a:ext cx="196560" cy="1659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435360" y="4113720"/>
                  <a:ext cx="196560" cy="16596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435360" y="4113720"/>
                  <a:ext cx="206280" cy="17244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422040" y="4101120"/>
                  <a:ext cx="190800" cy="16164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6020280" y="4511160"/>
                <a:ext cx="1028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Compilers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Linker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5486400" y="4191120"/>
              <a:ext cx="533520" cy="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27880" y="3100320"/>
              <a:ext cx="0" cy="63360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85800" y="2895480"/>
            <a:ext cx="3657600" cy="3124440"/>
            <a:chOff x="685800" y="2895480"/>
            <a:chExt cx="3657600" cy="3124440"/>
          </a:xfrm>
        </p:grpSpPr>
        <p:grpSp>
          <p:nvGrpSpPr>
            <p:cNvPr id="370" name=""/>
            <p:cNvGrpSpPr/>
            <p:nvPr/>
          </p:nvGrpSpPr>
          <p:grpSpPr>
            <a:xfrm>
              <a:off x="685800" y="2895480"/>
              <a:ext cx="3657600" cy="3124440"/>
              <a:chOff x="685800" y="2895480"/>
              <a:chExt cx="3657600" cy="312444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685800" y="5105520"/>
                <a:ext cx="1244160" cy="914400"/>
                <a:chOff x="685800" y="5105520"/>
                <a:chExt cx="1244160" cy="9144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1051920" y="5105520"/>
                  <a:ext cx="878040" cy="914400"/>
                </a:xfrm>
                <a:prstGeom prst="rect">
                  <a:avLst/>
                </a:prstGeom>
                <a:solidFill>
                  <a:srgbClr val="b2b2b2">
                    <a:alpha val="50000"/>
                  </a:srgbClr>
                </a:solidFill>
                <a:ln w="7632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3069"/>
                      </a:solidFill>
                      <a:latin typeface="Arial"/>
                    </a:rPr>
                    <a:t>PCO </a:t>
                  </a:r>
                  <a:br>
                    <a:rPr sz="2000"/>
                  </a:br>
                  <a:r>
                    <a:rPr b="1" i="1" lang="en-US" sz="2000" spc="-1" strike="noStrike">
                      <a:solidFill>
                        <a:srgbClr val="003069"/>
                      </a:solidFill>
                      <a:latin typeface="Arial"/>
                    </a:rPr>
                    <a:t>logfile</a:t>
                  </a:r>
                  <a:endParaRPr b="0" lang="en-US" sz="20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85800" y="5791320"/>
                  <a:ext cx="366120" cy="0"/>
                </a:xfrm>
                <a:prstGeom prst="line">
                  <a:avLst/>
                </a:prstGeom>
                <a:ln w="76320">
                  <a:solidFill>
                    <a:srgbClr val="00306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>
                <a:off x="990720" y="2895480"/>
                <a:ext cx="3352680" cy="198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2663640" y="4572000"/>
                <a:ext cx="992880" cy="938520"/>
                <a:chOff x="2663640" y="4572000"/>
                <a:chExt cx="992880" cy="938520"/>
              </a:xfrm>
            </p:grpSpPr>
            <p:grpSp>
              <p:nvGrpSpPr>
                <p:cNvPr id="376" name=""/>
                <p:cNvGrpSpPr/>
                <p:nvPr/>
              </p:nvGrpSpPr>
              <p:grpSpPr>
                <a:xfrm>
                  <a:off x="2800440" y="4572000"/>
                  <a:ext cx="726480" cy="601560"/>
                  <a:chOff x="2800440" y="4572000"/>
                  <a:chExt cx="726480" cy="60156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3106440" y="4590720"/>
                    <a:ext cx="15084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1">
                        <a:moveTo>
                          <a:pt x="9" y="0"/>
                        </a:moveTo>
                        <a:lnTo>
                          <a:pt x="38" y="0"/>
                        </a:lnTo>
                        <a:lnTo>
                          <a:pt x="48" y="31"/>
                        </a:lnTo>
                        <a:lnTo>
                          <a:pt x="0" y="3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3439080" y="4825080"/>
                    <a:ext cx="878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1">
                        <a:moveTo>
                          <a:pt x="28" y="10"/>
                        </a:moveTo>
                        <a:lnTo>
                          <a:pt x="28" y="41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lnTo>
                          <a:pt x="28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2831040" y="4825080"/>
                    <a:ext cx="856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50">
                        <a:moveTo>
                          <a:pt x="0" y="10"/>
                        </a:moveTo>
                        <a:lnTo>
                          <a:pt x="0" y="40"/>
                        </a:lnTo>
                        <a:lnTo>
                          <a:pt x="27" y="50"/>
                        </a:lnTo>
                        <a:lnTo>
                          <a:pt x="27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888280" y="4656600"/>
                    <a:ext cx="14904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6" y="50"/>
                        </a:moveTo>
                        <a:lnTo>
                          <a:pt x="48" y="13"/>
                        </a:lnTo>
                        <a:lnTo>
                          <a:pt x="20" y="0"/>
                        </a:lnTo>
                        <a:lnTo>
                          <a:pt x="0" y="22"/>
                        </a:lnTo>
                        <a:lnTo>
                          <a:pt x="16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3316680" y="4659120"/>
                    <a:ext cx="15084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32" y="50"/>
                        </a:moveTo>
                        <a:lnTo>
                          <a:pt x="0" y="13"/>
                        </a:lnTo>
                        <a:lnTo>
                          <a:pt x="28" y="0"/>
                        </a:lnTo>
                        <a:lnTo>
                          <a:pt x="48" y="22"/>
                        </a:lnTo>
                        <a:lnTo>
                          <a:pt x="32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888280" y="4988520"/>
                    <a:ext cx="14904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7" y="0"/>
                        </a:moveTo>
                        <a:lnTo>
                          <a:pt x="48" y="36"/>
                        </a:lnTo>
                        <a:lnTo>
                          <a:pt x="20" y="50"/>
                        </a:lnTo>
                        <a:lnTo>
                          <a:pt x="0" y="28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320640" y="4986360"/>
                    <a:ext cx="14688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0"/>
                        </a:moveTo>
                        <a:lnTo>
                          <a:pt x="0" y="37"/>
                        </a:lnTo>
                        <a:lnTo>
                          <a:pt x="28" y="51"/>
                        </a:lnTo>
                        <a:lnTo>
                          <a:pt x="47" y="29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104640" y="5103360"/>
                    <a:ext cx="1468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9" y="29"/>
                        </a:moveTo>
                        <a:lnTo>
                          <a:pt x="37" y="29"/>
                        </a:lnTo>
                        <a:lnTo>
                          <a:pt x="47" y="0"/>
                        </a:lnTo>
                        <a:lnTo>
                          <a:pt x="0" y="0"/>
                        </a:lnTo>
                        <a:lnTo>
                          <a:pt x="9" y="29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909520" y="4659120"/>
                    <a:ext cx="529200" cy="4438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3075480" y="4572000"/>
                    <a:ext cx="14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9" y="0"/>
                        </a:moveTo>
                        <a:lnTo>
                          <a:pt x="38" y="0"/>
                        </a:lnTo>
                        <a:lnTo>
                          <a:pt x="47" y="29"/>
                        </a:lnTo>
                        <a:lnTo>
                          <a:pt x="0" y="29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408480" y="4803120"/>
                    <a:ext cx="8964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1">
                        <a:moveTo>
                          <a:pt x="29" y="10"/>
                        </a:moveTo>
                        <a:lnTo>
                          <a:pt x="29" y="41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lnTo>
                          <a:pt x="29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800440" y="4801320"/>
                    <a:ext cx="878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2">
                        <a:moveTo>
                          <a:pt x="0" y="10"/>
                        </a:moveTo>
                        <a:lnTo>
                          <a:pt x="0" y="42"/>
                        </a:lnTo>
                        <a:lnTo>
                          <a:pt x="28" y="52"/>
                        </a:lnTo>
                        <a:lnTo>
                          <a:pt x="28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859840" y="4635360"/>
                    <a:ext cx="14724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0">
                        <a:moveTo>
                          <a:pt x="16" y="50"/>
                        </a:moveTo>
                        <a:lnTo>
                          <a:pt x="47" y="13"/>
                        </a:lnTo>
                        <a:lnTo>
                          <a:pt x="19" y="0"/>
                        </a:lnTo>
                        <a:lnTo>
                          <a:pt x="0" y="22"/>
                        </a:lnTo>
                        <a:lnTo>
                          <a:pt x="16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288240" y="4635360"/>
                    <a:ext cx="14688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51"/>
                        </a:moveTo>
                        <a:lnTo>
                          <a:pt x="0" y="14"/>
                        </a:lnTo>
                        <a:lnTo>
                          <a:pt x="28" y="0"/>
                        </a:lnTo>
                        <a:lnTo>
                          <a:pt x="47" y="23"/>
                        </a:lnTo>
                        <a:lnTo>
                          <a:pt x="31" y="51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859840" y="4967280"/>
                    <a:ext cx="15120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7" y="0"/>
                        </a:moveTo>
                        <a:lnTo>
                          <a:pt x="48" y="37"/>
                        </a:lnTo>
                        <a:lnTo>
                          <a:pt x="19" y="50"/>
                        </a:lnTo>
                        <a:lnTo>
                          <a:pt x="0" y="28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291840" y="4962960"/>
                    <a:ext cx="14688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0"/>
                        </a:moveTo>
                        <a:lnTo>
                          <a:pt x="0" y="37"/>
                        </a:lnTo>
                        <a:lnTo>
                          <a:pt x="28" y="51"/>
                        </a:lnTo>
                        <a:lnTo>
                          <a:pt x="47" y="2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072240" y="5077800"/>
                    <a:ext cx="14688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0">
                        <a:moveTo>
                          <a:pt x="9" y="30"/>
                        </a:moveTo>
                        <a:lnTo>
                          <a:pt x="37" y="30"/>
                        </a:lnTo>
                        <a:lnTo>
                          <a:pt x="47" y="0"/>
                        </a:lnTo>
                        <a:lnTo>
                          <a:pt x="0" y="0"/>
                        </a:lnTo>
                        <a:lnTo>
                          <a:pt x="9" y="3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878920" y="4639680"/>
                    <a:ext cx="531360" cy="44424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3079440" y="4803120"/>
                    <a:ext cx="196560" cy="16560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3060360" y="4786560"/>
                    <a:ext cx="196560" cy="16560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060360" y="4786560"/>
                    <a:ext cx="206280" cy="1720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3047040" y="4773960"/>
                    <a:ext cx="191160" cy="161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9" name=""/>
                <p:cNvSpPr/>
                <p:nvPr/>
              </p:nvSpPr>
              <p:spPr>
                <a:xfrm>
                  <a:off x="2663640" y="5111640"/>
                  <a:ext cx="992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069"/>
                      </a:solidFill>
                      <a:latin typeface="ITC Officina Sans Book"/>
                    </a:rPr>
                    <a:t>TCGen</a:t>
                  </a:r>
                  <a:endParaRPr b="0" lang="en-US" sz="20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 flipV="1">
                <a:off x="2057400" y="5028840"/>
                <a:ext cx="762120" cy="436680"/>
              </a:xfrm>
              <a:prstGeom prst="line">
                <a:avLst/>
              </a:prstGeom>
              <a:ln w="1908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3581280" y="4191120"/>
                <a:ext cx="762120" cy="457200"/>
              </a:xfrm>
              <a:prstGeom prst="line">
                <a:avLst/>
              </a:prstGeom>
              <a:ln w="1908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 flipV="1">
              <a:off x="3657600" y="4419720"/>
              <a:ext cx="685800" cy="38088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61960" y="914400"/>
            <a:ext cx="614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t first we need a PCO-logfile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781680" y="838080"/>
            <a:ext cx="1947960" cy="533412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609480" y="838080"/>
            <a:ext cx="6553440" cy="3276720"/>
            <a:chOff x="609480" y="838080"/>
            <a:chExt cx="6553440" cy="3276720"/>
          </a:xfrm>
        </p:grpSpPr>
        <p:sp>
          <p:nvSpPr>
            <p:cNvPr id="409" name=""/>
            <p:cNvSpPr/>
            <p:nvPr/>
          </p:nvSpPr>
          <p:spPr>
            <a:xfrm>
              <a:off x="609480" y="838080"/>
              <a:ext cx="6143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8000"/>
            </a:bodyPr>
            <a:p>
              <a:pPr marL="198720" indent="-19872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30920" indent="-165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request duplication of primitives out of PS</a:t>
              </a:r>
              <a:br>
                <a:rPr sz="20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(currently manually, upcoming ccddata features will enable more comfortable selecting – „Matrix Reloaded“ :-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30920" indent="-165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24480" y="2057400"/>
              <a:ext cx="838440" cy="205740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09480" y="1523520"/>
            <a:ext cx="6400800" cy="914400"/>
            <a:chOff x="609480" y="1523520"/>
            <a:chExt cx="6400800" cy="914400"/>
          </a:xfrm>
        </p:grpSpPr>
        <p:sp>
          <p:nvSpPr>
            <p:cNvPr id="412" name=""/>
            <p:cNvSpPr/>
            <p:nvPr/>
          </p:nvSpPr>
          <p:spPr>
            <a:xfrm flipV="1">
              <a:off x="6019920" y="1523520"/>
              <a:ext cx="990360" cy="66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9480" y="2022480"/>
              <a:ext cx="606744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and start logging into a specified .pco-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09480" y="2400480"/>
            <a:ext cx="6143760" cy="3763800"/>
            <a:chOff x="609480" y="2400480"/>
            <a:chExt cx="6143760" cy="3763800"/>
          </a:xfrm>
        </p:grpSpPr>
        <p:pic>
          <p:nvPicPr>
            <p:cNvPr id="415" name="" descr=""/>
            <p:cNvPicPr/>
            <p:nvPr/>
          </p:nvPicPr>
          <p:blipFill>
            <a:blip r:embed="rId2"/>
            <a:stretch/>
          </p:blipFill>
          <p:spPr>
            <a:xfrm>
              <a:off x="990720" y="2997360"/>
              <a:ext cx="5029200" cy="31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609480" y="2400480"/>
              <a:ext cx="6143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optionally watch arriving primitiv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95480" y="2743200"/>
              <a:ext cx="76320" cy="137160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61960" y="990720"/>
            <a:ext cx="78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we use TCGen with the PCO-logfile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762120" y="1447920"/>
            <a:ext cx="7619760" cy="504720"/>
            <a:chOff x="762120" y="1447920"/>
            <a:chExt cx="7619760" cy="504720"/>
          </a:xfrm>
        </p:grpSpPr>
        <p:sp>
          <p:nvSpPr>
            <p:cNvPr id="421" name=""/>
            <p:cNvSpPr/>
            <p:nvPr/>
          </p:nvSpPr>
          <p:spPr>
            <a:xfrm>
              <a:off x="762120" y="1447920"/>
              <a:ext cx="62481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lvl="1" marL="698400" indent="-2685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tart the PCO-server (if not already running)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98400" indent="-2685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934320" y="1447920"/>
              <a:ext cx="1447560" cy="50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3" name=""/>
          <p:cNvSpPr/>
          <p:nvPr/>
        </p:nvSpPr>
        <p:spPr>
          <a:xfrm>
            <a:off x="774720" y="4673520"/>
            <a:ext cx="78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lvl="1" marL="490320" indent="-1886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vtl. inspect the generated files in the VisualStudio</a:t>
            </a:r>
            <a:br>
              <a:rPr sz="2000"/>
            </a:b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(if the project already contained cases the new stuff will be merged at the beginning of all files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80880" y="1905120"/>
            <a:ext cx="8458200" cy="1039680"/>
            <a:chOff x="380880" y="1905120"/>
            <a:chExt cx="8458200" cy="1039680"/>
          </a:xfrm>
        </p:grpSpPr>
        <p:sp>
          <p:nvSpPr>
            <p:cNvPr id="425" name=""/>
            <p:cNvSpPr/>
            <p:nvPr/>
          </p:nvSpPr>
          <p:spPr>
            <a:xfrm>
              <a:off x="762120" y="1905120"/>
              <a:ext cx="781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call TCGen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2"/>
            <a:stretch/>
          </p:blipFill>
          <p:spPr>
            <a:xfrm>
              <a:off x="380880" y="2286000"/>
              <a:ext cx="8458200" cy="65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7" name=""/>
          <p:cNvGrpSpPr/>
          <p:nvPr/>
        </p:nvGrpSpPr>
        <p:grpSpPr>
          <a:xfrm>
            <a:off x="380880" y="2971800"/>
            <a:ext cx="8534520" cy="1752480"/>
            <a:chOff x="380880" y="2971800"/>
            <a:chExt cx="8534520" cy="1752480"/>
          </a:xfrm>
        </p:grpSpPr>
        <p:sp>
          <p:nvSpPr>
            <p:cNvPr id="428" name=""/>
            <p:cNvSpPr/>
            <p:nvPr/>
          </p:nvSpPr>
          <p:spPr>
            <a:xfrm>
              <a:off x="765000" y="2971800"/>
              <a:ext cx="7820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 lvl="1" marL="490320" indent="-1886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ok, call it with appropriate parameters </a:t>
              </a:r>
              <a:r>
                <a:rPr b="0" lang="en-US" sz="2000" spc="-1" strike="noStrike">
                  <a:solidFill>
                    <a:srgbClr val="003069"/>
                  </a:solidFill>
                  <a:latin typeface="Wingdings"/>
                  <a:ea typeface="Wingdings"/>
                </a:rPr>
                <a:t></a:t>
              </a:r>
              <a:br>
                <a:rPr sz="20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(library paths and more parameters are taken from the tcgen.ini file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29" name="" descr=""/>
            <p:cNvPicPr/>
            <p:nvPr/>
          </p:nvPicPr>
          <p:blipFill>
            <a:blip r:embed="rId3"/>
            <a:stretch/>
          </p:blipFill>
          <p:spPr>
            <a:xfrm>
              <a:off x="380880" y="3591000"/>
              <a:ext cx="8534520" cy="113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"/>
          <p:cNvGrpSpPr/>
          <p:nvPr/>
        </p:nvGrpSpPr>
        <p:grpSpPr>
          <a:xfrm>
            <a:off x="609480" y="5435640"/>
            <a:ext cx="8001000" cy="855720"/>
            <a:chOff x="609480" y="5435640"/>
            <a:chExt cx="8001000" cy="855720"/>
          </a:xfrm>
        </p:grpSpPr>
        <p:pic>
          <p:nvPicPr>
            <p:cNvPr id="431" name="" descr=""/>
            <p:cNvPicPr/>
            <p:nvPr/>
          </p:nvPicPr>
          <p:blipFill>
            <a:blip r:embed="rId4"/>
            <a:stretch/>
          </p:blipFill>
          <p:spPr>
            <a:xfrm>
              <a:off x="609480" y="5892840"/>
              <a:ext cx="800100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762120" y="5435640"/>
              <a:ext cx="781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… 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or just </a:t>
              </a: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build the testcase DLL from command line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61960" y="1143000"/>
            <a:ext cx="7819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 look at the results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6477120" cy="42260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5162400" y="914400"/>
            <a:ext cx="3219480" cy="1355760"/>
          </a:xfrm>
          <a:prstGeom prst="rect">
            <a:avLst/>
          </a:prstGeom>
          <a:ln w="38160">
            <a:solidFill>
              <a:srgbClr val="003069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4724280" y="1981080"/>
            <a:ext cx="4137120" cy="1103400"/>
          </a:xfrm>
          <a:prstGeom prst="rect">
            <a:avLst/>
          </a:prstGeom>
          <a:ln w="38160">
            <a:solidFill>
              <a:srgbClr val="003069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4419720" y="3124080"/>
            <a:ext cx="3863880" cy="3092400"/>
          </a:xfrm>
          <a:prstGeom prst="rect">
            <a:avLst/>
          </a:prstGeom>
          <a:ln w="38160">
            <a:solidFill>
              <a:srgbClr val="003069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61960" y="1143000"/>
            <a:ext cx="7819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Now what to do with it ?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9480" y="3352680"/>
            <a:ext cx="7696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you might edit the TDC files and adapt them to your special need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e.g. change „online parameters“ like IMSI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9480" y="4343400"/>
            <a:ext cx="7696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unfortunately manually by using the VisualStudio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due to the lack of a dedicated „test case editor“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518148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of course the beloved perl scripts can do nice work, too </a:t>
            </a:r>
            <a:r>
              <a:rPr b="0" lang="de-DE" sz="2000" spc="-1" strike="noStrike">
                <a:solidFill>
                  <a:srgbClr val="00306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5562720"/>
            <a:ext cx="76964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n rebuild the test case and use TAP agai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609480" y="914400"/>
            <a:ext cx="8382240" cy="2182680"/>
            <a:chOff x="609480" y="914400"/>
            <a:chExt cx="8382240" cy="2182680"/>
          </a:xfrm>
        </p:grpSpPr>
        <p:sp>
          <p:nvSpPr>
            <p:cNvPr id="446" name=""/>
            <p:cNvSpPr/>
            <p:nvPr/>
          </p:nvSpPr>
          <p:spPr>
            <a:xfrm>
              <a:off x="609480" y="1600200"/>
              <a:ext cx="4343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you might use TAP and run the fresh test case with a Windows-P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47" name="" descr=""/>
            <p:cNvPicPr/>
            <p:nvPr/>
          </p:nvPicPr>
          <p:blipFill>
            <a:blip r:embed="rId1"/>
            <a:stretch/>
          </p:blipFill>
          <p:spPr>
            <a:xfrm>
              <a:off x="4648320" y="914400"/>
              <a:ext cx="4343400" cy="218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93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CGen is implemented as a PCO-Viewer …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1600200"/>
            <a:ext cx="79358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by internally deriving from viewer core C++ class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which enables it to easily request all primitives from a specified PCO-logfil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... as often as it wants t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33520" y="3352680"/>
            <a:ext cx="7935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In a first pass ...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all necessary routings are generated in TD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using information about the primitive sender and receiv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... and the SAP name, currently taken from primitive nam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all declarations of constants, structs a.s.o.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re written to the TDC header fil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935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look inside the primitive hierarchy level by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generate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SEND() / AWAIT() commands for primitiv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parameter values and sub-structur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TIMEOUT() commands for delay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and finally the whole test case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3520" y="4191120"/>
            <a:ext cx="7848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ore implementational details …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will be documented in \gpf\DOC\tcgen\tcgen_description.do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an be found out from the sources in \gpf\util\tcgen\... </a:t>
            </a:r>
            <a:r>
              <a:rPr b="0" lang="en-US" sz="2400" spc="-1" strike="noStrike">
                <a:solidFill>
                  <a:srgbClr val="00306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33520" y="1143000"/>
            <a:ext cx="793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any further passes  …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935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Unfortunately in many cases the pure generated test case will fail due to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2360" y="1981080"/>
            <a:ext cx="79358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a lot of parameter values coming from networ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and with Windows-PS we don‘t have tha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sometimes missing initial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e.g. with BMI-image the first SIM_GMM_INSERT_IND gets los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several parameters which could be ignor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but which are expected with exactly the recorded valu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3520" y="4952880"/>
            <a:ext cx="7935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069"/>
                </a:solidFill>
                <a:latin typeface="Arial"/>
              </a:rPr>
              <a:t>A quite funny side effect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069"/>
                </a:solidFill>
                <a:latin typeface="Arial"/>
              </a:rPr>
              <a:t>if the PCO-logfile comes from a TAP run which fail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069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003069"/>
                </a:solidFill>
                <a:latin typeface="Arial"/>
              </a:rPr>
              <a:t>the new generated test case will pass </a:t>
            </a:r>
            <a:r>
              <a:rPr b="0" i="1" lang="en-GB" sz="2000" spc="-1" strike="noStrike">
                <a:solidFill>
                  <a:srgbClr val="00306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quit long time differences between primitives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which are not necessary with the Windows-P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but a maximal timeout value can be defined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primitive duplication does not work with all entities by now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because of changed timing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e.g. for LLC the PS will crash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currently no support of duplication of pointers by the FRAME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e.g. for descriptor list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And finally …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ir-messages are currently handled as binary block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no support of other formats then TDC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ut TTCN-3 should be no problem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no complete GUI exists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allowing execution of all processes from one place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3520" y="9907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Further problems are …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935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Some solutions seem obvious: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2360" y="2057400"/>
            <a:ext cx="8240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generated TDC files could be post processed to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set parameters to „not used“ etc.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TST queue on target could be temporarily enlarg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o reduce timing influences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support of pointer duplication could be implement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e.g. similarly as done with PCON on UMTS stack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935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Concerning the GUI support …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80880" y="1828800"/>
            <a:ext cx="8001000" cy="1752480"/>
            <a:chOff x="380880" y="1828800"/>
            <a:chExt cx="8001000" cy="1752480"/>
          </a:xfrm>
        </p:grpSpPr>
        <p:pic>
          <p:nvPicPr>
            <p:cNvPr id="474" name="" descr=""/>
            <p:cNvPicPr/>
            <p:nvPr/>
          </p:nvPicPr>
          <p:blipFill>
            <a:blip r:embed="rId1"/>
            <a:stretch/>
          </p:blipFill>
          <p:spPr>
            <a:xfrm>
              <a:off x="5562720" y="1866960"/>
              <a:ext cx="281916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380880" y="1828800"/>
              <a:ext cx="47358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069"/>
                  </a:solidFill>
                  <a:latin typeface="Arial"/>
                </a:rPr>
                <a:t>a first step is already done:</a:t>
              </a:r>
              <a:br>
                <a:rPr sz="2400"/>
              </a:br>
              <a:r>
                <a:rPr b="0" lang="de-DE" sz="2400" spc="-1" strike="noStrike">
                  <a:solidFill>
                    <a:srgbClr val="003069"/>
                  </a:solidFill>
                  <a:latin typeface="Arial"/>
                </a:rPr>
                <a:t>TCGen can be started right from the PCO-controller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914400" y="3200400"/>
            <a:ext cx="6324480" cy="1552680"/>
            <a:chOff x="914400" y="3200400"/>
            <a:chExt cx="6324480" cy="1552680"/>
          </a:xfrm>
        </p:grpSpPr>
        <p:sp>
          <p:nvSpPr>
            <p:cNvPr id="477" name=""/>
            <p:cNvSpPr/>
            <p:nvPr/>
          </p:nvSpPr>
          <p:spPr>
            <a:xfrm flipH="1">
              <a:off x="4191120" y="3276720"/>
              <a:ext cx="3047760" cy="60948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78" name="" descr=""/>
            <p:cNvPicPr/>
            <p:nvPr/>
          </p:nvPicPr>
          <p:blipFill>
            <a:blip r:embed="rId2"/>
            <a:stretch/>
          </p:blipFill>
          <p:spPr>
            <a:xfrm>
              <a:off x="914400" y="3200400"/>
              <a:ext cx="3276720" cy="155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9" name=""/>
          <p:cNvGrpSpPr/>
          <p:nvPr/>
        </p:nvGrpSpPr>
        <p:grpSpPr>
          <a:xfrm>
            <a:off x="1676520" y="4495680"/>
            <a:ext cx="7095960" cy="1700280"/>
            <a:chOff x="1676520" y="4495680"/>
            <a:chExt cx="7095960" cy="1700280"/>
          </a:xfrm>
        </p:grpSpPr>
        <p:sp>
          <p:nvSpPr>
            <p:cNvPr id="480" name=""/>
            <p:cNvSpPr/>
            <p:nvPr/>
          </p:nvSpPr>
          <p:spPr>
            <a:xfrm>
              <a:off x="1676520" y="4495680"/>
              <a:ext cx="2590560" cy="7621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81" name="" descr=""/>
            <p:cNvPicPr/>
            <p:nvPr/>
          </p:nvPicPr>
          <p:blipFill>
            <a:blip r:embed="rId3"/>
            <a:stretch/>
          </p:blipFill>
          <p:spPr>
            <a:xfrm>
              <a:off x="4343400" y="4800600"/>
              <a:ext cx="4429080" cy="139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TCGen could/will be enhanced to support: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2360" y="1523880"/>
            <a:ext cx="7935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interpretation of air messages using ccddata-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upcoming ccddata features to find out redirections independent from „random“ primitives in logfil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option to generate primitives with direct parameter passing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onfiguring the level of structure expanding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rules specified in an extra file and applied during generation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o e.g. set/ignore special parameter valu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a dedicated GUI for convenient gener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20" y="5715000"/>
            <a:ext cx="793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... after all TCGen is still in Beta state </a:t>
            </a:r>
            <a:r>
              <a:rPr b="0" lang="de-DE" sz="2400" spc="-1" strike="noStrike">
                <a:solidFill>
                  <a:srgbClr val="00306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36680" y="1066680"/>
            <a:ext cx="7935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interface approach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data interface between G23 protocol stack and a PC test system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.g. standard serial cable, COM-ports on both end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r running test cases: usually shared memory on one PC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51240" y="2971800"/>
            <a:ext cx="3125520" cy="457200"/>
            <a:chOff x="3351240" y="2971800"/>
            <a:chExt cx="3125520" cy="457200"/>
          </a:xfrm>
        </p:grpSpPr>
        <p:sp>
          <p:nvSpPr>
            <p:cNvPr id="86" name=""/>
            <p:cNvSpPr/>
            <p:nvPr/>
          </p:nvSpPr>
          <p:spPr>
            <a:xfrm flipH="1">
              <a:off x="3352320" y="3429000"/>
              <a:ext cx="3124440" cy="0"/>
            </a:xfrm>
            <a:prstGeom prst="line">
              <a:avLst/>
            </a:prstGeom>
            <a:ln w="38160">
              <a:solidFill>
                <a:srgbClr val="0063c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51240" y="297180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3ce"/>
                  </a:solidFill>
                  <a:latin typeface="Times New Roman"/>
                </a:rPr>
                <a:t>system primitiv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037040" y="5791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Test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477120" y="3124080"/>
            <a:ext cx="2361960" cy="3126960"/>
            <a:chOff x="6477120" y="3124080"/>
            <a:chExt cx="2361960" cy="3126960"/>
          </a:xfrm>
        </p:grpSpPr>
        <p:sp>
          <p:nvSpPr>
            <p:cNvPr id="90" name=""/>
            <p:cNvSpPr/>
            <p:nvPr/>
          </p:nvSpPr>
          <p:spPr>
            <a:xfrm>
              <a:off x="6477120" y="3124080"/>
              <a:ext cx="2361960" cy="24987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TAPCaller,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TAP2, 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xPanel, 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CO2,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05720" y="5791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C test system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33520" y="3124080"/>
            <a:ext cx="2819160" cy="3126960"/>
            <a:chOff x="533520" y="3124080"/>
            <a:chExt cx="2819160" cy="3126960"/>
          </a:xfrm>
        </p:grpSpPr>
        <p:sp>
          <p:nvSpPr>
            <p:cNvPr id="93" name=""/>
            <p:cNvSpPr/>
            <p:nvPr/>
          </p:nvSpPr>
          <p:spPr>
            <a:xfrm>
              <a:off x="533520" y="3124080"/>
              <a:ext cx="2819160" cy="2498760"/>
            </a:xfrm>
            <a:prstGeom prst="rect">
              <a:avLst/>
            </a:prstGeom>
            <a:solidFill>
              <a:srgbClr val="02ea6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88920" y="4952880"/>
              <a:ext cx="1752840" cy="5176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RR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2440" y="3962520"/>
              <a:ext cx="0" cy="9903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95280" y="3429000"/>
              <a:ext cx="912960" cy="9907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MM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2960" y="5791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rotocol stack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207880" y="3870360"/>
            <a:ext cx="4267080" cy="398880"/>
            <a:chOff x="2207880" y="3870360"/>
            <a:chExt cx="4267080" cy="398880"/>
          </a:xfrm>
        </p:grpSpPr>
        <p:sp>
          <p:nvSpPr>
            <p:cNvPr id="99" name=""/>
            <p:cNvSpPr/>
            <p:nvPr/>
          </p:nvSpPr>
          <p:spPr>
            <a:xfrm flipH="1">
              <a:off x="2207880" y="4267080"/>
              <a:ext cx="4267080" cy="0"/>
            </a:xfrm>
            <a:prstGeom prst="line">
              <a:avLst/>
            </a:prstGeom>
            <a:ln w="38160">
              <a:solidFill>
                <a:srgbClr val="0063c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25760" y="387036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3ce"/>
                  </a:solidFill>
                  <a:latin typeface="Times New Roman"/>
                </a:rPr>
                <a:t>protocol primitiv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1760" y="5105520"/>
            <a:ext cx="3733560" cy="398880"/>
            <a:chOff x="2741760" y="5105520"/>
            <a:chExt cx="3733560" cy="398880"/>
          </a:xfrm>
        </p:grpSpPr>
        <p:sp>
          <p:nvSpPr>
            <p:cNvPr id="102" name=""/>
            <p:cNvSpPr/>
            <p:nvPr/>
          </p:nvSpPr>
          <p:spPr>
            <a:xfrm>
              <a:off x="3427560" y="510552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redirected primitiv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41760" y="5181480"/>
              <a:ext cx="373356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522440" y="3505320"/>
            <a:ext cx="4954680" cy="1389240"/>
            <a:chOff x="1522440" y="3505320"/>
            <a:chExt cx="4954680" cy="1389240"/>
          </a:xfrm>
        </p:grpSpPr>
        <p:grpSp>
          <p:nvGrpSpPr>
            <p:cNvPr id="105" name=""/>
            <p:cNvGrpSpPr/>
            <p:nvPr/>
          </p:nvGrpSpPr>
          <p:grpSpPr>
            <a:xfrm>
              <a:off x="2208240" y="3505320"/>
              <a:ext cx="4268880" cy="398880"/>
              <a:chOff x="2208240" y="3505320"/>
              <a:chExt cx="4268880" cy="398880"/>
            </a:xfrm>
          </p:grpSpPr>
          <p:sp>
            <p:nvSpPr>
              <p:cNvPr id="106" name=""/>
              <p:cNvSpPr/>
              <p:nvPr/>
            </p:nvSpPr>
            <p:spPr>
              <a:xfrm>
                <a:off x="2208240" y="3581280"/>
                <a:ext cx="42688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7560" y="3505320"/>
                <a:ext cx="304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00"/>
                    </a:solidFill>
                    <a:latin typeface="Times New Roman"/>
                  </a:rPr>
                  <a:t>Trac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1522440" y="4495680"/>
              <a:ext cx="4952880" cy="398880"/>
              <a:chOff x="1522440" y="4495680"/>
              <a:chExt cx="4952880" cy="398880"/>
            </a:xfrm>
          </p:grpSpPr>
          <p:sp>
            <p:nvSpPr>
              <p:cNvPr id="109" name=""/>
              <p:cNvSpPr/>
              <p:nvPr/>
            </p:nvSpPr>
            <p:spPr>
              <a:xfrm>
                <a:off x="3425760" y="4495680"/>
                <a:ext cx="3048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00"/>
                    </a:solidFill>
                    <a:latin typeface="Times New Roman"/>
                  </a:rPr>
                  <a:t>duplicated primitiv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22440" y="4572000"/>
                <a:ext cx="49528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069"/>
                </a:solidFill>
                <a:latin typeface="Arial"/>
              </a:rPr>
              <a:t>Thanx for your patience !</a:t>
            </a:r>
            <a:endParaRPr b="0" lang="en-US" sz="4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6680" y="3230280"/>
            <a:ext cx="793584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On PC test system side: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xecutable using the FRAME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onnects using standard OS drivers or via a Multiplexer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d by tools like TAP, xPanel &amp; PCO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se tools finally provide GUI-stack-access for testers 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6680" y="1295280"/>
            <a:ext cx="79358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On stack side: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ntity included in the FR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s corresponding hardware driver for communic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6680" y="3611160"/>
            <a:ext cx="793584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PCO (Point of Control and Observation):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tools cabable to stimulate the protocol stack and display traces and duplicated primitive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d for logging and replaying test session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xPanel (eXtended Panel):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virtual mobile“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6680" y="1295280"/>
            <a:ext cx="79358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AP (Test Application Process) :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program which executes test cases by sending, receiving and comparing primitives to/from the 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TAPCaller provides GUI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118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09480" y="1676520"/>
            <a:ext cx="4114800" cy="1600200"/>
            <a:chOff x="609480" y="1676520"/>
            <a:chExt cx="4114800" cy="1600200"/>
          </a:xfrm>
        </p:grpSpPr>
        <p:sp>
          <p:nvSpPr>
            <p:cNvPr id="121" name=""/>
            <p:cNvSpPr/>
            <p:nvPr/>
          </p:nvSpPr>
          <p:spPr>
            <a:xfrm>
              <a:off x="609480" y="1676520"/>
              <a:ext cx="160020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iv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ntitie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S)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564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3356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76360" y="2971800"/>
              <a:ext cx="457200" cy="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09480" y="4343400"/>
            <a:ext cx="7925040" cy="1846800"/>
            <a:chOff x="609480" y="4343400"/>
            <a:chExt cx="7925040" cy="1846800"/>
          </a:xfrm>
        </p:grpSpPr>
        <p:sp>
          <p:nvSpPr>
            <p:cNvPr id="126" name=""/>
            <p:cNvSpPr/>
            <p:nvPr/>
          </p:nvSpPr>
          <p:spPr>
            <a:xfrm>
              <a:off x="3733920" y="4876920"/>
              <a:ext cx="48006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Linux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480" y="4343400"/>
              <a:ext cx="266724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ucleus, PSO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33920" y="4343400"/>
              <a:ext cx="480060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CM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1600" y="571500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10080" y="57913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est system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2080" y="10206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 software layers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733920" y="4876920"/>
            <a:ext cx="4800600" cy="7617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4343400"/>
            <a:ext cx="2667240" cy="1295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343400"/>
            <a:ext cx="35049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CMS                 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137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09480" y="167652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v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2666880"/>
            <a:ext cx="99072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2666880"/>
            <a:ext cx="60948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2971800"/>
            <a:ext cx="457200" cy="0"/>
          </a:xfrm>
          <a:prstGeom prst="line">
            <a:avLst/>
          </a:prstGeom>
          <a:ln w="38160">
            <a:solidFill>
              <a:srgbClr val="0030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57150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579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1981080"/>
            <a:ext cx="533160" cy="129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Panel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53160" y="3276720"/>
            <a:ext cx="12571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81560" y="1981080"/>
            <a:ext cx="685800" cy="129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914400"/>
            <a:ext cx="1981440" cy="609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CDdata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1523880"/>
            <a:ext cx="0" cy="1752840"/>
          </a:xfrm>
          <a:prstGeom prst="line">
            <a:avLst/>
          </a:prstGeom>
          <a:ln w="936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52080" y="10206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 software layers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4343400"/>
            <a:ext cx="38088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1523880"/>
            <a:ext cx="0" cy="457200"/>
          </a:xfrm>
          <a:prstGeom prst="line">
            <a:avLst/>
          </a:prstGeom>
          <a:ln w="936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67480" y="2133720"/>
            <a:ext cx="1067040" cy="2743200"/>
          </a:xfrm>
          <a:prstGeom prst="rect">
            <a:avLst/>
          </a:prstGeom>
          <a:solidFill>
            <a:srgbClr val="b4d9ff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069"/>
                </a:solidFill>
                <a:latin typeface="Arial"/>
              </a:rPr>
              <a:t>Caller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2080" y="914400"/>
            <a:ext cx="8302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eld Test Example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51000" y="3505320"/>
            <a:ext cx="6735240" cy="2760840"/>
            <a:chOff x="351000" y="3505320"/>
            <a:chExt cx="6735240" cy="2760840"/>
          </a:xfrm>
        </p:grpSpPr>
        <p:sp>
          <p:nvSpPr>
            <p:cNvPr id="158" name=""/>
            <p:cNvSpPr/>
            <p:nvPr/>
          </p:nvSpPr>
          <p:spPr>
            <a:xfrm>
              <a:off x="965160" y="4873680"/>
              <a:ext cx="988920" cy="841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51000" y="3505320"/>
              <a:ext cx="6735240" cy="2760840"/>
              <a:chOff x="351000" y="3505320"/>
              <a:chExt cx="6735240" cy="2760840"/>
            </a:xfrm>
          </p:grpSpPr>
          <p:sp>
            <p:nvSpPr>
              <p:cNvPr id="160" name=""/>
              <p:cNvSpPr/>
              <p:nvPr/>
            </p:nvSpPr>
            <p:spPr>
              <a:xfrm>
                <a:off x="351000" y="3505320"/>
                <a:ext cx="1600200" cy="22096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rotocol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tack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0000"/>
                    </a:solidFill>
                    <a:latin typeface="Arial"/>
                  </a:rPr>
                  <a:t>(e.g. d-sample)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370320" y="4800600"/>
                <a:ext cx="849960" cy="91440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TST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372680" y="5867280"/>
                <a:ext cx="97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arget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410800" y="5867280"/>
                <a:ext cx="167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est system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968840" y="510552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166480" y="4719600"/>
                <a:ext cx="11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278440" y="540540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68840" y="541008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7620120" y="4800600"/>
            <a:ext cx="1244160" cy="914400"/>
            <a:chOff x="7620120" y="4800600"/>
            <a:chExt cx="1244160" cy="914400"/>
          </a:xfrm>
        </p:grpSpPr>
        <p:sp>
          <p:nvSpPr>
            <p:cNvPr id="169" name=""/>
            <p:cNvSpPr/>
            <p:nvPr/>
          </p:nvSpPr>
          <p:spPr>
            <a:xfrm>
              <a:off x="7986240" y="4800600"/>
              <a:ext cx="878040" cy="9144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069"/>
                  </a:solidFill>
                  <a:latin typeface="Arial"/>
                </a:rPr>
                <a:t>PCO 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003069"/>
                  </a:solidFill>
                  <a:latin typeface="Arial"/>
                </a:rPr>
                <a:t>log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20120" y="5486400"/>
              <a:ext cx="366120" cy="0"/>
            </a:xfrm>
            <a:prstGeom prst="line">
              <a:avLst/>
            </a:prstGeom>
            <a:ln w="7632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31800" y="1143000"/>
            <a:ext cx="6401520" cy="3504960"/>
            <a:chOff x="631800" y="1143000"/>
            <a:chExt cx="6401520" cy="3504960"/>
          </a:xfrm>
        </p:grpSpPr>
        <p:sp>
          <p:nvSpPr>
            <p:cNvPr id="172" name=""/>
            <p:cNvSpPr/>
            <p:nvPr/>
          </p:nvSpPr>
          <p:spPr>
            <a:xfrm>
              <a:off x="5300280" y="3375000"/>
              <a:ext cx="128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duplicated </a:t>
              </a:r>
              <a:br>
                <a:rPr sz="1800"/>
              </a:b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primitives,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trac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631800" y="1143000"/>
              <a:ext cx="6401520" cy="3504960"/>
              <a:chOff x="631800" y="1143000"/>
              <a:chExt cx="6401520" cy="350496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4290120" y="1143000"/>
                <a:ext cx="2743200" cy="1752120"/>
                <a:chOff x="4290120" y="1143000"/>
                <a:chExt cx="2743200" cy="17521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290120" y="1362240"/>
                  <a:ext cx="2476440" cy="1532880"/>
                </a:xfrm>
                <a:prstGeom prst="rect">
                  <a:avLst/>
                </a:prstGeom>
                <a:solidFill>
                  <a:srgbClr val="000080">
                    <a:alpha val="50000"/>
                  </a:srgbClr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581000" y="1143000"/>
                  <a:ext cx="2452320" cy="1533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ers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631800" y="1371600"/>
                <a:ext cx="1980000" cy="609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CCDdata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601360" y="1600200"/>
                <a:ext cx="1688400" cy="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471000" y="2895120"/>
                <a:ext cx="0" cy="175284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705040" y="1170000"/>
                <a:ext cx="1468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decode</a:t>
                </a:r>
                <a:br>
                  <a:rPr sz="2400"/>
                </a:b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interprete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2813040" y="2286000"/>
            <a:ext cx="2039760" cy="2514600"/>
            <a:chOff x="2813040" y="2286000"/>
            <a:chExt cx="2039760" cy="2514600"/>
          </a:xfrm>
        </p:grpSpPr>
        <p:sp>
          <p:nvSpPr>
            <p:cNvPr id="182" name=""/>
            <p:cNvSpPr/>
            <p:nvPr/>
          </p:nvSpPr>
          <p:spPr>
            <a:xfrm>
              <a:off x="2813040" y="2286000"/>
              <a:ext cx="984960" cy="1523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ane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656880" y="3809880"/>
              <a:ext cx="0" cy="9907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6880" y="3809880"/>
              <a:ext cx="119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primitives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(display,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keyboard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039200" y="1143000"/>
            <a:ext cx="4558320" cy="4794120"/>
            <a:chOff x="4039200" y="1143000"/>
            <a:chExt cx="4558320" cy="4794120"/>
          </a:xfrm>
        </p:grpSpPr>
        <p:grpSp>
          <p:nvGrpSpPr>
            <p:cNvPr id="186" name=""/>
            <p:cNvGrpSpPr/>
            <p:nvPr/>
          </p:nvGrpSpPr>
          <p:grpSpPr>
            <a:xfrm>
              <a:off x="4039200" y="1143000"/>
              <a:ext cx="4558320" cy="4794120"/>
              <a:chOff x="4039200" y="1143000"/>
              <a:chExt cx="4558320" cy="4794120"/>
            </a:xfrm>
          </p:grpSpPr>
          <p:sp>
            <p:nvSpPr>
              <p:cNvPr id="187" name=""/>
              <p:cNvSpPr/>
              <p:nvPr/>
            </p:nvSpPr>
            <p:spPr>
              <a:xfrm>
                <a:off x="6356880" y="4648320"/>
                <a:ext cx="128088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erver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221720" y="5573880"/>
                <a:ext cx="214992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693320" y="556884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039200" y="5199120"/>
                <a:ext cx="23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  </a:t>
                </a: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duplicated 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457400" y="3276720"/>
                <a:ext cx="0" cy="137160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396200" y="378000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control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316640" y="1143000"/>
                <a:ext cx="1280880" cy="213372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controller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 flipH="1">
              <a:off x="4221720" y="5105520"/>
              <a:ext cx="2110320" cy="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81560" y="4746600"/>
              <a:ext cx="19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system primitiv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1600" y="1142640"/>
            <a:ext cx="7667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TAP-Test Example (test case build):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1905120"/>
            <a:ext cx="8595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Generators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doc2txt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xge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cdge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mpiler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msdev / cl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(mktc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743200" y="1992240"/>
            <a:ext cx="1054080" cy="1058040"/>
            <a:chOff x="2743200" y="1992240"/>
            <a:chExt cx="1054080" cy="1058040"/>
          </a:xfrm>
        </p:grpSpPr>
        <p:sp>
          <p:nvSpPr>
            <p:cNvPr id="200" name=""/>
            <p:cNvSpPr/>
            <p:nvPr/>
          </p:nvSpPr>
          <p:spPr>
            <a:xfrm>
              <a:off x="2921040" y="1992240"/>
              <a:ext cx="733320" cy="533880"/>
            </a:xfrm>
            <a:prstGeom prst="flowChartDocumen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3200" y="2530080"/>
              <a:ext cx="105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SAP 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Document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68480" y="2108160"/>
              <a:ext cx="84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069"/>
                  </a:solidFill>
                  <a:latin typeface="ITC Officina Sans Book"/>
                </a:rPr>
                <a:t>GRR.DOC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985920" y="3886200"/>
            <a:ext cx="1060920" cy="1305720"/>
            <a:chOff x="3985920" y="3886200"/>
            <a:chExt cx="1060920" cy="1305720"/>
          </a:xfrm>
        </p:grpSpPr>
        <p:sp>
          <p:nvSpPr>
            <p:cNvPr id="204" name=""/>
            <p:cNvSpPr/>
            <p:nvPr/>
          </p:nvSpPr>
          <p:spPr>
            <a:xfrm>
              <a:off x="4071600" y="3886200"/>
              <a:ext cx="966600" cy="789480"/>
            </a:xfrm>
            <a:prstGeom prst="flowChartMultidocumen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60080" y="4671720"/>
              <a:ext cx="98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DC 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estcase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1574800">
              <a:off x="3986640" y="420480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069"/>
                  </a:solidFill>
                  <a:latin typeface="ITC Officina Sans Book"/>
                </a:rPr>
                <a:t>GRR.dsp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181480" y="3100320"/>
            <a:ext cx="1562040" cy="1931040"/>
            <a:chOff x="5181480" y="3100320"/>
            <a:chExt cx="1562040" cy="1931040"/>
          </a:xfrm>
        </p:grpSpPr>
        <p:grpSp>
          <p:nvGrpSpPr>
            <p:cNvPr id="208" name=""/>
            <p:cNvGrpSpPr/>
            <p:nvPr/>
          </p:nvGrpSpPr>
          <p:grpSpPr>
            <a:xfrm>
              <a:off x="5715360" y="3898800"/>
              <a:ext cx="1028160" cy="1132560"/>
              <a:chOff x="5715360" y="3898800"/>
              <a:chExt cx="1028160" cy="11325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870520" y="3898800"/>
                <a:ext cx="726120" cy="602280"/>
                <a:chOff x="5870520" y="3898800"/>
                <a:chExt cx="726120" cy="6022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6176160" y="3917520"/>
                  <a:ext cx="150480" cy="7668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508800" y="415224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901120" y="4152240"/>
                  <a:ext cx="85680" cy="12096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958360" y="3983760"/>
                  <a:ext cx="149040" cy="12168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386400" y="3985920"/>
                  <a:ext cx="150480" cy="12312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958360" y="4316040"/>
                  <a:ext cx="14904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390360" y="4314240"/>
                  <a:ext cx="146880" cy="12312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74720" y="4430880"/>
                  <a:ext cx="146880" cy="702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979600" y="3985920"/>
                  <a:ext cx="529200" cy="44460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145560" y="3898800"/>
                  <a:ext cx="147240" cy="6984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478560" y="4130640"/>
                  <a:ext cx="89640" cy="12348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870520" y="412848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929560" y="3962520"/>
                  <a:ext cx="147240" cy="12096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357960" y="3962520"/>
                  <a:ext cx="146880" cy="1234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929560" y="4294800"/>
                  <a:ext cx="15120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361920" y="4290480"/>
                  <a:ext cx="146880" cy="1252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141960" y="4405320"/>
                  <a:ext cx="146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48640" y="3966840"/>
                  <a:ext cx="531360" cy="44532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149520" y="4130640"/>
                  <a:ext cx="196560" cy="1659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130440" y="4113720"/>
                  <a:ext cx="196560" cy="16596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130440" y="4113720"/>
                  <a:ext cx="206280" cy="17244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117120" y="4101120"/>
                  <a:ext cx="190800" cy="16164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5715360" y="4511160"/>
                <a:ext cx="1028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Compilers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Linker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5181480" y="4191120"/>
              <a:ext cx="533520" cy="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22960" y="3100320"/>
              <a:ext cx="0" cy="63360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705720" y="3733920"/>
            <a:ext cx="1752480" cy="1143000"/>
            <a:chOff x="6705720" y="3733920"/>
            <a:chExt cx="1752480" cy="1143000"/>
          </a:xfrm>
        </p:grpSpPr>
        <p:sp>
          <p:nvSpPr>
            <p:cNvPr id="236" name=""/>
            <p:cNvSpPr/>
            <p:nvPr/>
          </p:nvSpPr>
          <p:spPr>
            <a:xfrm>
              <a:off x="6705720" y="4191120"/>
              <a:ext cx="380880" cy="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62920" y="3733920"/>
              <a:ext cx="1295280" cy="1143000"/>
            </a:xfrm>
            <a:prstGeom prst="rect">
              <a:avLst/>
            </a:prstGeom>
            <a:solidFill>
              <a:srgbClr val="336600">
                <a:alpha val="50000"/>
              </a:srgbClr>
            </a:solidFill>
            <a:ln w="7632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069"/>
                  </a:solidFill>
                  <a:latin typeface="Times New Roman"/>
                </a:rPr>
                <a:t>Testcase</a:t>
              </a:r>
              <a:br>
                <a:rPr sz="2400"/>
              </a:br>
              <a:r>
                <a:rPr b="1" lang="en-US" sz="2400" spc="-1" strike="noStrike">
                  <a:solidFill>
                    <a:srgbClr val="003069"/>
                  </a:solidFill>
                  <a:latin typeface="Times New Roman"/>
                </a:rPr>
                <a:t>DLL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797280" y="1905120"/>
            <a:ext cx="1607760" cy="918720"/>
            <a:chOff x="3797280" y="1905120"/>
            <a:chExt cx="1607760" cy="918720"/>
          </a:xfrm>
        </p:grpSpPr>
        <p:sp>
          <p:nvSpPr>
            <p:cNvPr id="239" name=""/>
            <p:cNvSpPr/>
            <p:nvPr/>
          </p:nvSpPr>
          <p:spPr>
            <a:xfrm>
              <a:off x="3797280" y="2209680"/>
              <a:ext cx="317520" cy="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3924360" y="1905120"/>
              <a:ext cx="1480680" cy="918720"/>
              <a:chOff x="3924360" y="1905120"/>
              <a:chExt cx="1480680" cy="9187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4305240" y="1905120"/>
                <a:ext cx="726480" cy="601560"/>
                <a:chOff x="4305240" y="1905120"/>
                <a:chExt cx="726480" cy="6015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4611240" y="1923840"/>
                  <a:ext cx="150840" cy="7668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943880" y="215820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335840" y="2158200"/>
                  <a:ext cx="85680" cy="12096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393080" y="1989720"/>
                  <a:ext cx="149040" cy="12132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821480" y="1992240"/>
                  <a:ext cx="150840" cy="1227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393080" y="2321640"/>
                  <a:ext cx="14904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825440" y="2319840"/>
                  <a:ext cx="146880" cy="12276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609440" y="2436480"/>
                  <a:ext cx="146880" cy="702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414320" y="1992240"/>
                  <a:ext cx="529200" cy="44424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580280" y="1905120"/>
                  <a:ext cx="147240" cy="6984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913280" y="2136600"/>
                  <a:ext cx="89640" cy="12348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305240" y="213444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364640" y="1968480"/>
                  <a:ext cx="147240" cy="12096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793040" y="1968480"/>
                  <a:ext cx="146880" cy="1234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364640" y="2300760"/>
                  <a:ext cx="15120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796640" y="2296080"/>
                  <a:ext cx="146880" cy="1252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577040" y="2410920"/>
                  <a:ext cx="146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383720" y="1972800"/>
                  <a:ext cx="531360" cy="44460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584240" y="2136600"/>
                  <a:ext cx="196560" cy="1659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565160" y="2119680"/>
                  <a:ext cx="196560" cy="16596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565160" y="2119680"/>
                  <a:ext cx="206280" cy="1720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551840" y="2107080"/>
                  <a:ext cx="191160" cy="16128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3924360" y="2516760"/>
                <a:ext cx="1480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“</a:t>
                </a: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makcdg tdclib”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5181480" y="1752480"/>
            <a:ext cx="2190600" cy="1310760"/>
            <a:chOff x="5181480" y="1752480"/>
            <a:chExt cx="2190600" cy="1310760"/>
          </a:xfrm>
        </p:grpSpPr>
        <p:grpSp>
          <p:nvGrpSpPr>
            <p:cNvPr id="266" name=""/>
            <p:cNvGrpSpPr/>
            <p:nvPr/>
          </p:nvGrpSpPr>
          <p:grpSpPr>
            <a:xfrm>
              <a:off x="5361120" y="1752480"/>
              <a:ext cx="2010960" cy="1310760"/>
              <a:chOff x="5361120" y="1752480"/>
              <a:chExt cx="2010960" cy="1310760"/>
            </a:xfrm>
          </p:grpSpPr>
          <p:sp>
            <p:nvSpPr>
              <p:cNvPr id="267" name=""/>
              <p:cNvSpPr/>
              <p:nvPr/>
            </p:nvSpPr>
            <p:spPr>
              <a:xfrm>
                <a:off x="5808600" y="1752480"/>
                <a:ext cx="1125360" cy="789120"/>
              </a:xfrm>
              <a:prstGeom prst="flowChartMultidocument">
                <a:avLst/>
              </a:prstGeom>
              <a:solidFill>
                <a:srgbClr val="b4d9ff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361120" y="2543040"/>
                <a:ext cx="201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Primitive / Messag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Constants and Structs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1574800">
                <a:off x="5727960" y="2050560"/>
                <a:ext cx="109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p_grr_val.h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5181480" y="2209680"/>
              <a:ext cx="533520" cy="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SPRK</dc:creator>
  <dc:description/>
  <dc:language>en-US</dc:language>
  <cp:lastModifiedBy>Ronny Kiessling</cp:lastModifiedBy>
  <dcterms:modified xsi:type="dcterms:W3CDTF">2003-07-17T08:50:56Z</dcterms:modified>
  <cp:revision>205</cp:revision>
  <dc:subject/>
  <dc:title>PowerPoint-Präsentation</dc:title>
</cp:coreProperties>
</file>